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7.png" ContentType="image/png"/>
  <Override PartName="/ppt/media/image15.wmf" ContentType="image/x-wmf"/>
  <Override PartName="/ppt/media/image12.png" ContentType="image/png"/>
  <Override PartName="/ppt/media/image17.wmf" ContentType="image/x-wmf"/>
  <Override PartName="/ppt/media/image30.png" ContentType="image/png"/>
  <Override PartName="/ppt/media/image28.png" ContentType="image/png"/>
  <Override PartName="/ppt/media/image33.wmf" ContentType="image/x-wmf"/>
  <Override PartName="/ppt/media/image13.png" ContentType="image/png"/>
  <Override PartName="/ppt/media/image8.png" ContentType="image/png"/>
  <Override PartName="/ppt/media/image36.wmf" ContentType="image/x-wmf"/>
  <Override PartName="/ppt/media/image37.wmf" ContentType="image/x-wmf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53225" cy="9867900"/>
  <p:custShowLst>
    <p:custShow name="自訂放映1" id="0">
      <p:sldLst>
        <p:sld r:id="rId9"/>
        <p:sld r:id="rId22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EBB4A-34DD-4FA6-AA74-B006E0CA13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31C0-EC5C-40F8-8758-7A5F5E44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3537-A4D2-4305-ACC0-40174CBD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ED85-AB60-4ED4-B06E-0B6992B042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46050-2790-4F28-A836-E8B495AD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94665-DC70-4DD0-A9D3-C90C50AB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2F1A2-2ECE-4FF0-BD5E-A5B40034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0FE3E-86DE-4C9A-871F-B66C27CA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73A9B-297A-4234-AC96-1C5416DA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76360" y="53316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0D265-217A-4A7C-BA8A-9B6E03A1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4C490-64AF-4A66-ACE0-8CB2A915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3E5A-D69C-4C38-AC2D-33268B09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DFB75-761A-4F70-8195-3241CF48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06751-6CD0-4246-A2AD-18FBC410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238F4-126E-4FE4-A25D-FA141561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FA77F-1DA0-4373-BAB3-DBBD3B07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5EF64-CE4F-4E39-B1D0-34624173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5346-B3DD-4393-8FEE-EA33EB40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9A35-1463-4942-8381-A568BA72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717E-DDCA-4168-98F6-BC8A0FAE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76360" y="53316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5209B-36C7-43D1-BAE7-D6988C3A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F3F78-5914-49F3-A788-4ACAA69C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2B0A-C6E8-40E6-B530-ECBEC9DA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A9F61-871B-4563-946D-EA18D238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1266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3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3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5303-2460-432F-AEEA-E2DE4828134E}" type="datetime3">
              <a:rPr b="0" lang="zh-TW" sz="1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二〇二六年七月三十一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37440" y="639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  <a:ea typeface="新細明體"/>
              </a:rPr>
              <a:t>Slide # </a:t>
            </a:r>
            <a:fld id="{572839D6-F129-41F9-BAA0-96C84A2B071C}" type="slidenum">
              <a:rPr b="0" lang="en-US" sz="1000" spc="-1" strike="noStrike">
                <a:solidFill>
                  <a:srgbClr val="003300"/>
                </a:solidFill>
                <a:latin typeface="Arial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8120" y="1491840"/>
            <a:ext cx="5410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00"/>
                </a:solidFill>
                <a:latin typeface="Times New Roman"/>
                <a:ea typeface="新細明體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E3B8-D38A-4A4D-853D-1271808F19EB}" type="slidenum">
              <a:rPr b="0" lang="zh-TW" sz="1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02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25"/>
              </a:spcBef>
              <a:buClr>
                <a:srgbClr val="0033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18.wmf"/><Relationship Id="rId11" Type="http://schemas.openxmlformats.org/officeDocument/2006/relationships/image" Target="../media/image19.png"/><Relationship Id="rId12" Type="http://schemas.openxmlformats.org/officeDocument/2006/relationships/image" Target="../media/image18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image" Target="../media/image22.wmf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11.png"/><Relationship Id="rId23" Type="http://schemas.openxmlformats.org/officeDocument/2006/relationships/image" Target="../media/image19.png"/><Relationship Id="rId24" Type="http://schemas.openxmlformats.org/officeDocument/2006/relationships/image" Target="../media/image29.png"/><Relationship Id="rId25" Type="http://schemas.openxmlformats.org/officeDocument/2006/relationships/image" Target="../media/image29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27.png"/><Relationship Id="rId31" Type="http://schemas.openxmlformats.org/officeDocument/2006/relationships/image" Target="../media/image28.png"/><Relationship Id="rId32" Type="http://schemas.openxmlformats.org/officeDocument/2006/relationships/image" Target="../media/image29.png"/><Relationship Id="rId33" Type="http://schemas.openxmlformats.org/officeDocument/2006/relationships/image" Target="../media/image29.png"/><Relationship Id="rId3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31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33.wmf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image" Target="../media/image4.png"/><Relationship Id="rId24" Type="http://schemas.openxmlformats.org/officeDocument/2006/relationships/image" Target="../media/image17.wmf"/><Relationship Id="rId2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18.wmf"/><Relationship Id="rId11" Type="http://schemas.openxmlformats.org/officeDocument/2006/relationships/image" Target="../media/image35.png"/><Relationship Id="rId12" Type="http://schemas.openxmlformats.org/officeDocument/2006/relationships/image" Target="../media/image19.png"/><Relationship Id="rId13" Type="http://schemas.openxmlformats.org/officeDocument/2006/relationships/image" Target="../media/image18.wmf"/><Relationship Id="rId14" Type="http://schemas.openxmlformats.org/officeDocument/2006/relationships/image" Target="../media/image36.wmf"/><Relationship Id="rId15" Type="http://schemas.openxmlformats.org/officeDocument/2006/relationships/image" Target="../media/image20.wmf"/><Relationship Id="rId16" Type="http://schemas.openxmlformats.org/officeDocument/2006/relationships/image" Target="../media/image21.wmf"/><Relationship Id="rId17" Type="http://schemas.openxmlformats.org/officeDocument/2006/relationships/image" Target="../media/image22.wmf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11.png"/><Relationship Id="rId2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7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8.wmf"/><Relationship Id="rId7" Type="http://schemas.openxmlformats.org/officeDocument/2006/relationships/image" Target="../media/image14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16743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Security Product Introduction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943600" y="4724280"/>
            <a:ext cx="2743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cc"/>
                </a:solidFill>
                <a:latin typeface="Arial"/>
                <a:ea typeface="新細明體"/>
              </a:rPr>
              <a:t>By San Hung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cc"/>
                </a:solidFill>
                <a:latin typeface="Arial"/>
                <a:ea typeface="新細明體"/>
              </a:rPr>
              <a:t>Product Planning Dept II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cc"/>
                </a:solidFill>
                <a:latin typeface="Arial"/>
                <a:ea typeface="新細明體"/>
              </a:rPr>
              <a:t>20030425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281736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Enterprise Firewall/VPN Rout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DFL-3105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7" name="des-3105-1" descr=""/>
          <p:cNvPicPr/>
          <p:nvPr/>
        </p:nvPicPr>
        <p:blipFill>
          <a:blip r:embed="rId1"/>
          <a:stretch/>
        </p:blipFill>
        <p:spPr>
          <a:xfrm>
            <a:off x="1752480" y="4724280"/>
            <a:ext cx="388620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04920" y="1828800"/>
            <a:ext cx="3483000" cy="195120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1720" y="1693800"/>
            <a:ext cx="2619360" cy="113508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830840" y="3648240"/>
            <a:ext cx="501480" cy="261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232240" y="2365200"/>
            <a:ext cx="517680" cy="605160"/>
          </a:xfrm>
          <a:custGeom>
            <a:avLst/>
            <a:gdLst/>
            <a:ahLst/>
            <a:rect l="l" t="t" r="r" b="b"/>
            <a:pathLst>
              <a:path w="82" h="1180">
                <a:moveTo>
                  <a:pt x="82" y="0"/>
                </a:moveTo>
                <a:lnTo>
                  <a:pt x="0" y="0"/>
                </a:lnTo>
                <a:lnTo>
                  <a:pt x="0" y="1180"/>
                </a:ln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11480" y="19018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標楷體"/>
              </a:rPr>
              <a:t>Branch offi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4480" y="2693880"/>
            <a:ext cx="1243080" cy="400320"/>
          </a:xfrm>
          <a:custGeom>
            <a:avLst/>
            <a:gdLst/>
            <a:ahLst/>
            <a:rect l="l" t="t" r="r" b="b"/>
            <a:pathLst>
              <a:path w="307" h="106">
                <a:moveTo>
                  <a:pt x="0" y="0"/>
                </a:moveTo>
                <a:lnTo>
                  <a:pt x="307" y="0"/>
                </a:lnTo>
                <a:lnTo>
                  <a:pt x="307" y="106"/>
                </a:ln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32360" y="16905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標楷體"/>
              </a:rPr>
              <a:t>Home offi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79" name="IPCLOUD" descr=""/>
          <p:cNvPicPr/>
          <p:nvPr/>
        </p:nvPicPr>
        <p:blipFill>
          <a:blip r:embed="rId2"/>
          <a:stretch/>
        </p:blipFill>
        <p:spPr>
          <a:xfrm>
            <a:off x="3813120" y="2744640"/>
            <a:ext cx="2313000" cy="88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6081840" y="2238480"/>
          <a:ext cx="765000" cy="2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1840" y="2238480"/>
                    <a:ext cx="76500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2190600" y="2558880"/>
          <a:ext cx="827280" cy="2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0600" y="2558880"/>
                    <a:ext cx="82728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6058080" y="2482920"/>
            <a:ext cx="13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標楷體"/>
              </a:rPr>
              <a:t>DFL-100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54520" y="2313000"/>
            <a:ext cx="236520" cy="100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4400" y="2352600"/>
            <a:ext cx="23652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27720" y="201600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Times New Roman"/>
                <a:ea typeface="標楷體"/>
              </a:rPr>
              <a:t>ADSL</a:t>
            </a:r>
            <a:r>
              <a:rPr b="1" i="1" lang="en-US" sz="1600" spc="-1" strike="noStrike">
                <a:solidFill>
                  <a:srgbClr val="003300"/>
                </a:solidFill>
                <a:latin typeface="Times New Roman"/>
                <a:ea typeface="標楷體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18040" y="2641680"/>
            <a:ext cx="234720" cy="100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38400" y="2682720"/>
            <a:ext cx="23652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27240" y="27576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標楷體"/>
              </a:rPr>
              <a:t>DFL-100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94040" y="3627360"/>
            <a:ext cx="6476760" cy="3213000"/>
          </a:xfrm>
          <a:prstGeom prst="ellipse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7"/>
          <a:stretch/>
        </p:blipFill>
        <p:spPr>
          <a:xfrm>
            <a:off x="4724280" y="3854520"/>
            <a:ext cx="595440" cy="315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011560" y="4013280"/>
            <a:ext cx="0" cy="368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87800" y="4645080"/>
            <a:ext cx="0" cy="5792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8"/>
          <a:stretch/>
        </p:blipFill>
        <p:spPr>
          <a:xfrm>
            <a:off x="2989440" y="5224320"/>
            <a:ext cx="296640" cy="3682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296" name=""/>
          <p:cNvSpPr/>
          <p:nvPr/>
        </p:nvSpPr>
        <p:spPr>
          <a:xfrm>
            <a:off x="2103120" y="5224320"/>
            <a:ext cx="90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00"/>
                </a:solidFill>
                <a:latin typeface="Arial"/>
                <a:ea typeface="新細明體"/>
              </a:rPr>
              <a:t>O</a:t>
            </a:r>
            <a:r>
              <a:rPr b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S server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9680" y="4221000"/>
            <a:ext cx="118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3300"/>
                </a:solidFill>
                <a:latin typeface="Arial"/>
                <a:ea typeface="新細明體"/>
              </a:rPr>
              <a:t>WWW Server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60520" y="4460760"/>
            <a:ext cx="192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新細明體"/>
              </a:rPr>
              <a:t>DFL-3105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89400" y="4487760"/>
            <a:ext cx="15447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49360" y="42670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DMZ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75520" y="4487760"/>
            <a:ext cx="0" cy="1573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9"/>
          <a:stretch/>
        </p:blipFill>
        <p:spPr>
          <a:xfrm>
            <a:off x="6100920" y="4645080"/>
            <a:ext cx="296640" cy="368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286080" y="5383080"/>
            <a:ext cx="1062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59080" y="6010200"/>
            <a:ext cx="615600" cy="293400"/>
            <a:chOff x="4159080" y="6010200"/>
            <a:chExt cx="615600" cy="293400"/>
          </a:xfrm>
        </p:grpSpPr>
        <p:sp>
          <p:nvSpPr>
            <p:cNvPr id="305" name=""/>
            <p:cNvSpPr/>
            <p:nvPr/>
          </p:nvSpPr>
          <p:spPr>
            <a:xfrm>
              <a:off x="4286520" y="6010200"/>
              <a:ext cx="36000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59080" y="6243480"/>
              <a:ext cx="61560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24560" y="6271920"/>
              <a:ext cx="10728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299120" y="6173640"/>
            <a:ext cx="615600" cy="293400"/>
            <a:chOff x="4299120" y="6173640"/>
            <a:chExt cx="615600" cy="293400"/>
          </a:xfrm>
        </p:grpSpPr>
        <p:sp>
          <p:nvSpPr>
            <p:cNvPr id="309" name=""/>
            <p:cNvSpPr/>
            <p:nvPr/>
          </p:nvSpPr>
          <p:spPr>
            <a:xfrm>
              <a:off x="4426560" y="6173640"/>
              <a:ext cx="36000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99120" y="6406920"/>
              <a:ext cx="61560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64600" y="6435360"/>
              <a:ext cx="10728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417920" y="6278400"/>
            <a:ext cx="612360" cy="293400"/>
            <a:chOff x="4417920" y="6278400"/>
            <a:chExt cx="612360" cy="293400"/>
          </a:xfrm>
        </p:grpSpPr>
        <p:sp>
          <p:nvSpPr>
            <p:cNvPr id="313" name=""/>
            <p:cNvSpPr/>
            <p:nvPr/>
          </p:nvSpPr>
          <p:spPr>
            <a:xfrm>
              <a:off x="4545000" y="6278400"/>
              <a:ext cx="35820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17920" y="6511680"/>
              <a:ext cx="61236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80880" y="6540120"/>
              <a:ext cx="106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pic>
        <p:nvPicPr>
          <p:cNvPr id="316" name="" descr=""/>
          <p:cNvPicPr/>
          <p:nvPr/>
        </p:nvPicPr>
        <p:blipFill>
          <a:blip r:embed="rId10"/>
          <a:stretch/>
        </p:blipFill>
        <p:spPr>
          <a:xfrm>
            <a:off x="6853320" y="5119560"/>
            <a:ext cx="296640" cy="3682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546880" y="5224320"/>
            <a:ext cx="13064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46880" y="5276880"/>
            <a:ext cx="13064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5330880"/>
            <a:ext cx="136692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46880" y="5383080"/>
            <a:ext cx="13064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94320" y="5670720"/>
            <a:ext cx="3240" cy="4204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21400" y="5646600"/>
            <a:ext cx="2880" cy="6318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07840" y="381492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Router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1"/>
          <a:stretch/>
        </p:blipFill>
        <p:spPr>
          <a:xfrm>
            <a:off x="5288040" y="5722920"/>
            <a:ext cx="1511280" cy="368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611680" y="6056280"/>
            <a:ext cx="0" cy="2635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33960" y="5972040"/>
            <a:ext cx="0" cy="331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22960" y="5962680"/>
            <a:ext cx="511200" cy="407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69200" y="5962680"/>
            <a:ext cx="439560" cy="2937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27720" y="6248520"/>
            <a:ext cx="406440" cy="293040"/>
            <a:chOff x="5427720" y="6248520"/>
            <a:chExt cx="406440" cy="293040"/>
          </a:xfrm>
        </p:grpSpPr>
        <p:sp>
          <p:nvSpPr>
            <p:cNvPr id="330" name=""/>
            <p:cNvSpPr/>
            <p:nvPr/>
          </p:nvSpPr>
          <p:spPr>
            <a:xfrm>
              <a:off x="5511960" y="6248520"/>
              <a:ext cx="237600" cy="17496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27720" y="6481440"/>
              <a:ext cx="40644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34800" y="6510240"/>
              <a:ext cx="70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02200" y="6330960"/>
            <a:ext cx="405000" cy="293400"/>
            <a:chOff x="5902200" y="6330960"/>
            <a:chExt cx="405000" cy="293400"/>
          </a:xfrm>
        </p:grpSpPr>
        <p:sp>
          <p:nvSpPr>
            <p:cNvPr id="334" name=""/>
            <p:cNvSpPr/>
            <p:nvPr/>
          </p:nvSpPr>
          <p:spPr>
            <a:xfrm>
              <a:off x="5986080" y="6330960"/>
              <a:ext cx="23688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02200" y="6564240"/>
              <a:ext cx="40500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8200" y="6592680"/>
              <a:ext cx="70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469200" y="6319800"/>
            <a:ext cx="406440" cy="294840"/>
            <a:chOff x="6469200" y="6319800"/>
            <a:chExt cx="406440" cy="294840"/>
          </a:xfrm>
        </p:grpSpPr>
        <p:sp>
          <p:nvSpPr>
            <p:cNvPr id="338" name=""/>
            <p:cNvSpPr/>
            <p:nvPr/>
          </p:nvSpPr>
          <p:spPr>
            <a:xfrm>
              <a:off x="6553440" y="6319800"/>
              <a:ext cx="237600" cy="17604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69200" y="6554160"/>
              <a:ext cx="406440" cy="6048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76280" y="6582960"/>
              <a:ext cx="70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791400" y="6195960"/>
            <a:ext cx="406440" cy="293400"/>
            <a:chOff x="6791400" y="6195960"/>
            <a:chExt cx="406440" cy="293400"/>
          </a:xfrm>
        </p:grpSpPr>
        <p:sp>
          <p:nvSpPr>
            <p:cNvPr id="342" name=""/>
            <p:cNvSpPr/>
            <p:nvPr/>
          </p:nvSpPr>
          <p:spPr>
            <a:xfrm>
              <a:off x="6875640" y="6195960"/>
              <a:ext cx="23760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91400" y="6429240"/>
              <a:ext cx="40644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98480" y="6457680"/>
              <a:ext cx="70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5249880" y="5487840"/>
            <a:ext cx="534960" cy="3682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69040" y="5487840"/>
            <a:ext cx="533160" cy="3682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4160" y="4487760"/>
            <a:ext cx="0" cy="1573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2"/>
          <a:stretch/>
        </p:blipFill>
        <p:spPr>
          <a:xfrm>
            <a:off x="6611760" y="4645080"/>
            <a:ext cx="297000" cy="3682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7110000" y="5170320"/>
            <a:ext cx="90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00"/>
                </a:solidFill>
                <a:latin typeface="Arial"/>
                <a:ea typeface="新細明體"/>
              </a:rPr>
              <a:t>O</a:t>
            </a:r>
            <a:r>
              <a:rPr b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S server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33840" y="2637000"/>
            <a:ext cx="2170080" cy="174456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32" y="68"/>
                  <a:pt x="264" y="136"/>
                  <a:pt x="336" y="240"/>
                </a:cubicBezTo>
                <a:cubicBezTo>
                  <a:pt x="408" y="344"/>
                  <a:pt x="420" y="484"/>
                  <a:pt x="432" y="624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89400" y="2413080"/>
            <a:ext cx="990720" cy="2052720"/>
          </a:xfrm>
          <a:custGeom>
            <a:avLst/>
            <a:gdLst/>
            <a:ahLst/>
            <a:rect l="l" t="t" r="r" b="b"/>
            <a:pathLst>
              <a:path w="288" h="768">
                <a:moveTo>
                  <a:pt x="288" y="0"/>
                </a:moveTo>
                <a:cubicBezTo>
                  <a:pt x="192" y="56"/>
                  <a:pt x="96" y="112"/>
                  <a:pt x="48" y="240"/>
                </a:cubicBezTo>
                <a:cubicBezTo>
                  <a:pt x="0" y="368"/>
                  <a:pt x="0" y="568"/>
                  <a:pt x="0" y="768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96920" y="2652840"/>
            <a:ext cx="22860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3"/>
          <a:stretch/>
        </p:blipFill>
        <p:spPr>
          <a:xfrm>
            <a:off x="6908760" y="1714680"/>
            <a:ext cx="1143000" cy="8506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4"/>
          <a:stretch/>
        </p:blipFill>
        <p:spPr>
          <a:xfrm>
            <a:off x="1590840" y="160668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5"/>
          <a:stretch/>
        </p:blipFill>
        <p:spPr>
          <a:xfrm>
            <a:off x="1297080" y="1866960"/>
            <a:ext cx="330120" cy="44928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1407960" y="2170080"/>
            <a:ext cx="304560" cy="533160"/>
            <a:chOff x="1407960" y="2170080"/>
            <a:chExt cx="304560" cy="533160"/>
          </a:xfrm>
        </p:grpSpPr>
        <p:grpSp>
          <p:nvGrpSpPr>
            <p:cNvPr id="357" name=""/>
            <p:cNvGrpSpPr/>
            <p:nvPr/>
          </p:nvGrpSpPr>
          <p:grpSpPr>
            <a:xfrm>
              <a:off x="1415880" y="2176560"/>
              <a:ext cx="291600" cy="512280"/>
              <a:chOff x="1415880" y="2176560"/>
              <a:chExt cx="291600" cy="512280"/>
            </a:xfrm>
          </p:grpSpPr>
          <p:sp>
            <p:nvSpPr>
              <p:cNvPr id="358" name=""/>
              <p:cNvSpPr/>
              <p:nvPr/>
            </p:nvSpPr>
            <p:spPr>
              <a:xfrm>
                <a:off x="1605600" y="2225880"/>
                <a:ext cx="90360" cy="25308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425600" y="2176560"/>
                <a:ext cx="270360" cy="8892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25600" y="2213640"/>
                <a:ext cx="181440" cy="46908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605600" y="2423160"/>
                <a:ext cx="90360" cy="26136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694520" y="2622600"/>
                <a:ext cx="12960" cy="24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415880" y="2612160"/>
                <a:ext cx="191160" cy="7668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93720" y="266148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1691640" y="2632680"/>
              <a:ext cx="1620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91640" y="2632680"/>
              <a:ext cx="1620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07040" y="2221200"/>
              <a:ext cx="92880" cy="24588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18400" y="2170080"/>
              <a:ext cx="281160" cy="9324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8400" y="2209320"/>
              <a:ext cx="189360" cy="48744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23240" y="2268720"/>
              <a:ext cx="61200" cy="52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23240" y="2322360"/>
              <a:ext cx="61200" cy="511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07040" y="2427480"/>
              <a:ext cx="92880" cy="2718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07040" y="2427480"/>
              <a:ext cx="92880" cy="3960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95160" y="2220120"/>
              <a:ext cx="104760" cy="432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95160" y="2259360"/>
              <a:ext cx="14040" cy="43740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07960" y="2624760"/>
              <a:ext cx="200160" cy="784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94080" y="2675880"/>
              <a:ext cx="14040" cy="273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98840" y="2634120"/>
              <a:ext cx="13680" cy="25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173240" y="2316240"/>
            <a:ext cx="304200" cy="533160"/>
            <a:chOff x="1173240" y="2316240"/>
            <a:chExt cx="304200" cy="533160"/>
          </a:xfrm>
        </p:grpSpPr>
        <p:grpSp>
          <p:nvGrpSpPr>
            <p:cNvPr id="380" name=""/>
            <p:cNvGrpSpPr/>
            <p:nvPr/>
          </p:nvGrpSpPr>
          <p:grpSpPr>
            <a:xfrm>
              <a:off x="1181160" y="2322720"/>
              <a:ext cx="291240" cy="511560"/>
              <a:chOff x="1181160" y="2322720"/>
              <a:chExt cx="291240" cy="511560"/>
            </a:xfrm>
          </p:grpSpPr>
          <p:sp>
            <p:nvSpPr>
              <p:cNvPr id="381" name=""/>
              <p:cNvSpPr/>
              <p:nvPr/>
            </p:nvSpPr>
            <p:spPr>
              <a:xfrm>
                <a:off x="1370520" y="2372040"/>
                <a:ext cx="90360" cy="25272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190520" y="2322720"/>
                <a:ext cx="270000" cy="8856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190520" y="2359800"/>
                <a:ext cx="181080" cy="46872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370520" y="2568960"/>
                <a:ext cx="90360" cy="26136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59440" y="2768400"/>
                <a:ext cx="12960" cy="24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81160" y="2757960"/>
                <a:ext cx="190800" cy="7632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59000" y="280728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1456560" y="2778480"/>
              <a:ext cx="1620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56560" y="2778480"/>
              <a:ext cx="1620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71960" y="2367360"/>
              <a:ext cx="92520" cy="24552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83680" y="2316240"/>
              <a:ext cx="281160" cy="9288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83680" y="2355480"/>
              <a:ext cx="189360" cy="48708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8520" y="2414520"/>
              <a:ext cx="61200" cy="52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88520" y="2468520"/>
              <a:ext cx="61200" cy="511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71960" y="2573280"/>
              <a:ext cx="92520" cy="2718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71960" y="2573280"/>
              <a:ext cx="92520" cy="3960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60080" y="2366280"/>
              <a:ext cx="104760" cy="428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60080" y="2405520"/>
              <a:ext cx="14040" cy="43704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73240" y="2770560"/>
              <a:ext cx="199800" cy="784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59000" y="2822040"/>
              <a:ext cx="14040" cy="273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63760" y="2779920"/>
              <a:ext cx="13680" cy="25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63200" y="2405160"/>
            <a:ext cx="381240" cy="383760"/>
            <a:chOff x="1663200" y="2405160"/>
            <a:chExt cx="381240" cy="383760"/>
          </a:xfrm>
        </p:grpSpPr>
        <p:grpSp>
          <p:nvGrpSpPr>
            <p:cNvPr id="403" name=""/>
            <p:cNvGrpSpPr/>
            <p:nvPr/>
          </p:nvGrpSpPr>
          <p:grpSpPr>
            <a:xfrm>
              <a:off x="1675440" y="2605320"/>
              <a:ext cx="369000" cy="183600"/>
              <a:chOff x="1675440" y="2605320"/>
              <a:chExt cx="369000" cy="183600"/>
            </a:xfrm>
          </p:grpSpPr>
          <p:sp>
            <p:nvSpPr>
              <p:cNvPr id="404" name=""/>
              <p:cNvSpPr/>
              <p:nvPr/>
            </p:nvSpPr>
            <p:spPr>
              <a:xfrm>
                <a:off x="1676160" y="2652840"/>
                <a:ext cx="127800" cy="136080"/>
              </a:xfrm>
              <a:custGeom>
                <a:avLst/>
                <a:gdLst/>
                <a:ahLst/>
                <a:rect l="l" t="t" r="r" b="b"/>
                <a:pathLst>
                  <a:path w="289" h="334">
                    <a:moveTo>
                      <a:pt x="289" y="174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288" y="334"/>
                    </a:lnTo>
                  </a:path>
                </a:pathLst>
              </a:custGeom>
              <a:blipFill rotWithShape="0">
                <a:blip r:embed="rId16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1675080" y="2605320"/>
                <a:ext cx="369000" cy="11772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17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1803240" y="2662920"/>
                <a:ext cx="241200" cy="12564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18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1815840" y="2712240"/>
                <a:ext cx="97560" cy="54720"/>
                <a:chOff x="1815840" y="2712240"/>
                <a:chExt cx="97560" cy="54720"/>
              </a:xfrm>
            </p:grpSpPr>
            <p:sp>
              <p:nvSpPr>
                <p:cNvPr id="408" name=""/>
                <p:cNvSpPr/>
                <p:nvPr/>
              </p:nvSpPr>
              <p:spPr>
                <a:xfrm flipH="1">
                  <a:off x="1815840" y="271224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>
                  <a:off x="1815840" y="272196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1815840" y="273204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1815840" y="274176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932120" y="2678040"/>
                <a:ext cx="96840" cy="63720"/>
                <a:chOff x="1932120" y="2678040"/>
                <a:chExt cx="96840" cy="63720"/>
              </a:xfrm>
            </p:grpSpPr>
            <p:sp>
              <p:nvSpPr>
                <p:cNvPr id="413" name=""/>
                <p:cNvSpPr/>
                <p:nvPr/>
              </p:nvSpPr>
              <p:spPr>
                <a:xfrm flipH="1">
                  <a:off x="1933560" y="2678400"/>
                  <a:ext cx="94680" cy="608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>
                  <a:off x="1935720" y="2701080"/>
                  <a:ext cx="91440" cy="2160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1933920" y="2678040"/>
                  <a:ext cx="94680" cy="3672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9360" bIns="936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>
                  <a:off x="1946520" y="2689920"/>
                  <a:ext cx="74160" cy="169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2004840" y="2712240"/>
                  <a:ext cx="13680" cy="2160"/>
                </a:xfrm>
                <a:prstGeom prst="line">
                  <a:avLst/>
                </a:prstGeom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>
                  <a:off x="1974960" y="269460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200" bIns="-1620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>
                  <a:off x="1932120" y="2704320"/>
                  <a:ext cx="95760" cy="3744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1663200" y="2405160"/>
              <a:ext cx="345240" cy="299520"/>
              <a:chOff x="1663200" y="2405160"/>
              <a:chExt cx="345240" cy="299520"/>
            </a:xfrm>
          </p:grpSpPr>
          <p:sp>
            <p:nvSpPr>
              <p:cNvPr id="421" name=""/>
              <p:cNvSpPr/>
              <p:nvPr/>
            </p:nvSpPr>
            <p:spPr>
              <a:xfrm flipH="1">
                <a:off x="1713960" y="2599920"/>
                <a:ext cx="268560" cy="1047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1718280" y="2602080"/>
                <a:ext cx="259560" cy="9288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1778760" y="2624760"/>
                <a:ext cx="135360" cy="500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1769760" y="2626920"/>
                <a:ext cx="218160" cy="558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1662840" y="2405160"/>
                <a:ext cx="272520" cy="23184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19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1711080" y="2456280"/>
                <a:ext cx="54720" cy="2253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1711080" y="2407680"/>
                <a:ext cx="297360" cy="7668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1765080" y="2430360"/>
                <a:ext cx="242280" cy="25236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20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1784160" y="2452680"/>
                <a:ext cx="205200" cy="2070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1796400" y="2466720"/>
                <a:ext cx="179640" cy="17820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961280" y="2481120"/>
                <a:ext cx="0" cy="27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>
            <a:off x="2736720" y="404496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標楷體"/>
              </a:rPr>
              <a:t>Head quart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2320" y="3627360"/>
            <a:ext cx="10130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274800" y="347508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VPN Tunnels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67240" y="296064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Interne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36" name="des-3105-3" descr=""/>
          <p:cNvPicPr/>
          <p:nvPr/>
        </p:nvPicPr>
        <p:blipFill>
          <a:blip r:embed="rId22"/>
          <a:stretch/>
        </p:blipFill>
        <p:spPr>
          <a:xfrm>
            <a:off x="3830760" y="4221000"/>
            <a:ext cx="2203200" cy="7797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5045040" y="3441600"/>
            <a:ext cx="0" cy="40824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92760" y="517680"/>
            <a:ext cx="2210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 Unicode MS"/>
              </a:rPr>
              <a:t>Advantages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3"/>
          <a:stretch/>
        </p:blipFill>
        <p:spPr>
          <a:xfrm>
            <a:off x="4143240" y="5170320"/>
            <a:ext cx="1511280" cy="3686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4"/>
          <a:stretch/>
        </p:blipFill>
        <p:spPr>
          <a:xfrm>
            <a:off x="1951200" y="3038400"/>
            <a:ext cx="260280" cy="2001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25"/>
          <a:stretch/>
        </p:blipFill>
        <p:spPr>
          <a:xfrm>
            <a:off x="1589040" y="3238560"/>
            <a:ext cx="258840" cy="1998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grpSp>
        <p:nvGrpSpPr>
          <p:cNvPr id="442" name=""/>
          <p:cNvGrpSpPr/>
          <p:nvPr/>
        </p:nvGrpSpPr>
        <p:grpSpPr>
          <a:xfrm>
            <a:off x="1198080" y="3390840"/>
            <a:ext cx="381240" cy="383760"/>
            <a:chOff x="1198080" y="3390840"/>
            <a:chExt cx="381240" cy="383760"/>
          </a:xfrm>
        </p:grpSpPr>
        <p:grpSp>
          <p:nvGrpSpPr>
            <p:cNvPr id="443" name=""/>
            <p:cNvGrpSpPr/>
            <p:nvPr/>
          </p:nvGrpSpPr>
          <p:grpSpPr>
            <a:xfrm>
              <a:off x="1210320" y="3591000"/>
              <a:ext cx="369000" cy="183600"/>
              <a:chOff x="1210320" y="3591000"/>
              <a:chExt cx="369000" cy="183600"/>
            </a:xfrm>
          </p:grpSpPr>
          <p:sp>
            <p:nvSpPr>
              <p:cNvPr id="444" name=""/>
              <p:cNvSpPr/>
              <p:nvPr/>
            </p:nvSpPr>
            <p:spPr>
              <a:xfrm>
                <a:off x="1211040" y="3638520"/>
                <a:ext cx="127800" cy="136080"/>
              </a:xfrm>
              <a:custGeom>
                <a:avLst/>
                <a:gdLst/>
                <a:ahLst/>
                <a:rect l="l" t="t" r="r" b="b"/>
                <a:pathLst>
                  <a:path w="289" h="334">
                    <a:moveTo>
                      <a:pt x="289" y="174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288" y="334"/>
                    </a:lnTo>
                  </a:path>
                </a:pathLst>
              </a:custGeom>
              <a:blipFill rotWithShape="0">
                <a:blip r:embed="rId26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1209960" y="3591000"/>
                <a:ext cx="369000" cy="11772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27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1338120" y="3648600"/>
                <a:ext cx="241200" cy="12564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28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447" name=""/>
              <p:cNvGrpSpPr/>
              <p:nvPr/>
            </p:nvGrpSpPr>
            <p:grpSpPr>
              <a:xfrm>
                <a:off x="1350720" y="3697920"/>
                <a:ext cx="97560" cy="54720"/>
                <a:chOff x="1350720" y="3697920"/>
                <a:chExt cx="97560" cy="54720"/>
              </a:xfrm>
            </p:grpSpPr>
            <p:sp>
              <p:nvSpPr>
                <p:cNvPr id="448" name=""/>
                <p:cNvSpPr/>
                <p:nvPr/>
              </p:nvSpPr>
              <p:spPr>
                <a:xfrm flipH="1">
                  <a:off x="1350720" y="369792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>
                  <a:off x="1350720" y="370764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>
                  <a:off x="1350720" y="371772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1350720" y="372744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1467000" y="3663720"/>
                <a:ext cx="96840" cy="63720"/>
                <a:chOff x="1467000" y="3663720"/>
                <a:chExt cx="96840" cy="63720"/>
              </a:xfrm>
            </p:grpSpPr>
            <p:sp>
              <p:nvSpPr>
                <p:cNvPr id="453" name=""/>
                <p:cNvSpPr/>
                <p:nvPr/>
              </p:nvSpPr>
              <p:spPr>
                <a:xfrm flipH="1">
                  <a:off x="1468440" y="3664080"/>
                  <a:ext cx="94680" cy="608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1470600" y="3686760"/>
                  <a:ext cx="91440" cy="2160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1468800" y="3663720"/>
                  <a:ext cx="94680" cy="3672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9360" bIns="936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1481400" y="3675600"/>
                  <a:ext cx="74160" cy="169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1539720" y="3697920"/>
                  <a:ext cx="13680" cy="2160"/>
                </a:xfrm>
                <a:prstGeom prst="line">
                  <a:avLst/>
                </a:prstGeom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>
                  <a:off x="1509840" y="368028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200" bIns="-1620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1467000" y="3690000"/>
                  <a:ext cx="95760" cy="3744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0" name=""/>
            <p:cNvGrpSpPr/>
            <p:nvPr/>
          </p:nvGrpSpPr>
          <p:grpSpPr>
            <a:xfrm>
              <a:off x="1198080" y="3390840"/>
              <a:ext cx="345240" cy="299520"/>
              <a:chOff x="1198080" y="3390840"/>
              <a:chExt cx="345240" cy="299520"/>
            </a:xfrm>
          </p:grpSpPr>
          <p:sp>
            <p:nvSpPr>
              <p:cNvPr id="461" name=""/>
              <p:cNvSpPr/>
              <p:nvPr/>
            </p:nvSpPr>
            <p:spPr>
              <a:xfrm flipH="1">
                <a:off x="1248840" y="3585600"/>
                <a:ext cx="268560" cy="1047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1253160" y="3587760"/>
                <a:ext cx="259560" cy="9288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1313640" y="3610440"/>
                <a:ext cx="135360" cy="500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1304640" y="3612600"/>
                <a:ext cx="218160" cy="558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1197720" y="3390840"/>
                <a:ext cx="272520" cy="23184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29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1245960" y="3441960"/>
                <a:ext cx="54720" cy="2253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1245960" y="3393360"/>
                <a:ext cx="297360" cy="7668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1299960" y="3416040"/>
                <a:ext cx="242280" cy="25236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30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1319040" y="3438360"/>
                <a:ext cx="205200" cy="2070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1331280" y="3452400"/>
                <a:ext cx="179640" cy="17820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496160" y="3466800"/>
                <a:ext cx="0" cy="27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 flipV="1">
            <a:off x="1495440" y="2622600"/>
            <a:ext cx="0" cy="84456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22040" y="37274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Hack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32"/>
          <a:stretch/>
        </p:blipFill>
        <p:spPr>
          <a:xfrm>
            <a:off x="4527720" y="4365720"/>
            <a:ext cx="260280" cy="1998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475" name="" descr=""/>
          <p:cNvPicPr/>
          <p:nvPr/>
        </p:nvPicPr>
        <p:blipFill>
          <a:blip r:embed="rId33"/>
          <a:stretch/>
        </p:blipFill>
        <p:spPr>
          <a:xfrm>
            <a:off x="4343400" y="4221000"/>
            <a:ext cx="247680" cy="1922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476" name=""/>
          <p:cNvSpPr/>
          <p:nvPr/>
        </p:nvSpPr>
        <p:spPr>
          <a:xfrm>
            <a:off x="4260960" y="4135320"/>
            <a:ext cx="531720" cy="5558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692760" y="517680"/>
            <a:ext cx="2210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 Unicode MS"/>
              </a:rPr>
              <a:t>Advantages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" y="1600200"/>
            <a:ext cx="867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65240" y="2041560"/>
            <a:ext cx="1843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64760" y="1212840"/>
            <a:ext cx="8007840" cy="53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Provide more secure functions in VPN tunn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Packet filtering enable on encrypted packet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Content filtering enable on encrypted packet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Provide session bandwidth control in VPN tunn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Bandwidth control enable on encrypted packet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Integrated load balanc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Automatically check the status of WAN connecti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WAN backup supported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Weighted load balan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Build-in real-time monitoring mode and remote control via Web brows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Competitive pri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Onl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標楷體"/>
              </a:rPr>
              <a:t>1/6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price of NetScree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Posi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Competito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Advanta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Appl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Product Specif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3505320" y="4568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Contents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755640" y="2590920"/>
            <a:ext cx="6864480" cy="1676160"/>
          </a:xfrm>
          <a:custGeom>
            <a:avLst/>
            <a:gdLst/>
            <a:ahLst/>
            <a:rect l="l" t="t" r="r" b="b"/>
            <a:pathLst>
              <a:path w="4660" h="1296">
                <a:moveTo>
                  <a:pt x="25" y="1244"/>
                </a:moveTo>
                <a:lnTo>
                  <a:pt x="2068" y="0"/>
                </a:lnTo>
                <a:lnTo>
                  <a:pt x="3028" y="0"/>
                </a:lnTo>
                <a:lnTo>
                  <a:pt x="4660" y="1296"/>
                </a:lnTo>
                <a:lnTo>
                  <a:pt x="0" y="1261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2438280"/>
            <a:ext cx="1523880" cy="45720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414680" y="2486160"/>
            <a:ext cx="324000" cy="11088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320" y="3809880"/>
            <a:ext cx="8702640" cy="228600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0160" y="5106960"/>
            <a:ext cx="8943840" cy="20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00 000000000000000000000000000 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0160" y="4071960"/>
            <a:ext cx="150012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0160" y="4245120"/>
            <a:ext cx="150012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0160" y="4417920"/>
            <a:ext cx="150012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0160" y="4591080"/>
            <a:ext cx="2085840" cy="20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0160" y="4782960"/>
            <a:ext cx="8943840" cy="20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00000000000000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0160" y="4954680"/>
            <a:ext cx="8943840" cy="20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00000000000000000000 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77320" y="6094440"/>
            <a:ext cx="2815560" cy="531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FL-3105 Firewall Provid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ccess Contro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399960" y="4971960"/>
            <a:ext cx="258840" cy="2001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264960" y="4533840"/>
            <a:ext cx="260640" cy="2001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515880" y="4221000"/>
            <a:ext cx="258840" cy="2001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900000" y="4346640"/>
            <a:ext cx="260640" cy="1998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900000" y="4971960"/>
            <a:ext cx="260640" cy="2016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500" name="" descr=""/>
          <p:cNvPicPr/>
          <p:nvPr/>
        </p:nvPicPr>
        <p:blipFill>
          <a:blip r:embed="rId6"/>
          <a:stretch/>
        </p:blipFill>
        <p:spPr>
          <a:xfrm>
            <a:off x="1087560" y="4659480"/>
            <a:ext cx="260280" cy="2016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501" name="" descr=""/>
          <p:cNvPicPr/>
          <p:nvPr/>
        </p:nvPicPr>
        <p:blipFill>
          <a:blip r:embed="rId7"/>
          <a:stretch/>
        </p:blipFill>
        <p:spPr>
          <a:xfrm>
            <a:off x="1614600" y="3962520"/>
            <a:ext cx="1119240" cy="14414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2730600" y="424656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ny Traffic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29880" y="4729320"/>
            <a:ext cx="125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llow Traffic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741400" y="450072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ny Some Attacks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743200" y="4533840"/>
            <a:ext cx="814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43200" y="4772160"/>
            <a:ext cx="814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743200" y="4257720"/>
            <a:ext cx="814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32040" y="5299200"/>
            <a:ext cx="814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4079880"/>
            <a:ext cx="89917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5425920"/>
            <a:ext cx="89917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09680" y="5257800"/>
            <a:ext cx="0" cy="83808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8"/>
          <a:stretch/>
        </p:blipFill>
        <p:spPr>
          <a:xfrm>
            <a:off x="1558800" y="990720"/>
            <a:ext cx="6213600" cy="28573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073560" y="2597040"/>
            <a:ext cx="169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rporation Network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051800" y="2959200"/>
            <a:ext cx="1092240" cy="337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新細明體"/>
              </a:rPr>
              <a:t>DFL-3105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342240" y="3441600"/>
            <a:ext cx="782640" cy="276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DFL-100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99280" y="293544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DFL-100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22880" y="4413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43200" y="501480"/>
            <a:ext cx="624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Firewall Application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49640" y="3710160"/>
            <a:ext cx="1216080" cy="276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emote Offic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93600" y="2733840"/>
            <a:ext cx="1216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emote Offic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21" name="des-3105-3" descr=""/>
          <p:cNvPicPr/>
          <p:nvPr/>
        </p:nvPicPr>
        <p:blipFill>
          <a:blip r:embed="rId9"/>
          <a:stretch/>
        </p:blipFill>
        <p:spPr>
          <a:xfrm>
            <a:off x="1160640" y="5425920"/>
            <a:ext cx="2187360" cy="747720"/>
          </a:xfrm>
          <a:prstGeom prst="rect">
            <a:avLst/>
          </a:prstGeom>
          <a:ln w="0">
            <a:noFill/>
          </a:ln>
        </p:spPr>
      </p:pic>
      <p:pic>
        <p:nvPicPr>
          <p:cNvPr id="522" name="des-3105-3" descr=""/>
          <p:cNvPicPr/>
          <p:nvPr/>
        </p:nvPicPr>
        <p:blipFill>
          <a:blip r:embed="rId10"/>
          <a:stretch/>
        </p:blipFill>
        <p:spPr>
          <a:xfrm>
            <a:off x="3929040" y="2384280"/>
            <a:ext cx="1154160" cy="45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755640" y="2428920"/>
            <a:ext cx="6864480" cy="1676520"/>
          </a:xfrm>
          <a:custGeom>
            <a:avLst/>
            <a:gdLst/>
            <a:ahLst/>
            <a:rect l="l" t="t" r="r" b="b"/>
            <a:pathLst>
              <a:path w="4660" h="1296">
                <a:moveTo>
                  <a:pt x="25" y="1244"/>
                </a:moveTo>
                <a:lnTo>
                  <a:pt x="2068" y="0"/>
                </a:lnTo>
                <a:lnTo>
                  <a:pt x="3028" y="0"/>
                </a:lnTo>
                <a:lnTo>
                  <a:pt x="4660" y="1296"/>
                </a:lnTo>
                <a:lnTo>
                  <a:pt x="0" y="1261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733920" y="2276640"/>
            <a:ext cx="1523880" cy="45720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414680" y="2323800"/>
            <a:ext cx="324000" cy="11124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320" y="3648240"/>
            <a:ext cx="8702640" cy="228600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0160" y="4944960"/>
            <a:ext cx="8943840" cy="20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00 000000000000000000000000000 00000000000000000000000000000000000000000000000000000000000000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00160" y="3909960"/>
            <a:ext cx="150012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0160" y="4083120"/>
            <a:ext cx="150012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0160" y="4255920"/>
            <a:ext cx="150012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00160" y="4429080"/>
            <a:ext cx="2085840" cy="20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0160" y="4621320"/>
            <a:ext cx="8943840" cy="20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00000000000000000000000000000000000000000000000000000000000000000000000000000000000000000000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0160" y="4792680"/>
            <a:ext cx="8943840" cy="20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00000000000000000000 00000000000000000000000000000000000000000000000000000000000000000000000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39520" y="6141960"/>
            <a:ext cx="2803680" cy="531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FL-3105 Firewall provid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ccess contro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64960" y="4059360"/>
            <a:ext cx="1082520" cy="951840"/>
            <a:chOff x="264960" y="4059360"/>
            <a:chExt cx="1082520" cy="951840"/>
          </a:xfrm>
        </p:grpSpPr>
        <p:pic>
          <p:nvPicPr>
            <p:cNvPr id="536" name="" descr=""/>
            <p:cNvPicPr/>
            <p:nvPr/>
          </p:nvPicPr>
          <p:blipFill>
            <a:blip r:embed="rId1"/>
            <a:stretch/>
          </p:blipFill>
          <p:spPr>
            <a:xfrm>
              <a:off x="399240" y="4810680"/>
              <a:ext cx="259560" cy="199440"/>
            </a:xfrm>
            <a:prstGeom prst="rect">
              <a:avLst/>
            </a:prstGeom>
            <a:ln w="9360">
              <a:solidFill>
                <a:srgbClr val="003300"/>
              </a:solidFill>
              <a:miter/>
            </a:ln>
          </p:spPr>
        </p:pic>
        <p:pic>
          <p:nvPicPr>
            <p:cNvPr id="537" name="" descr=""/>
            <p:cNvPicPr/>
            <p:nvPr/>
          </p:nvPicPr>
          <p:blipFill>
            <a:blip r:embed="rId2"/>
            <a:stretch/>
          </p:blipFill>
          <p:spPr>
            <a:xfrm>
              <a:off x="264960" y="4372560"/>
              <a:ext cx="259200" cy="199080"/>
            </a:xfrm>
            <a:prstGeom prst="rect">
              <a:avLst/>
            </a:prstGeom>
            <a:ln w="9360">
              <a:solidFill>
                <a:srgbClr val="003300"/>
              </a:solidFill>
              <a:miter/>
            </a:ln>
          </p:spPr>
        </p:pic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515160" y="4059360"/>
              <a:ext cx="259560" cy="199440"/>
            </a:xfrm>
            <a:prstGeom prst="rect">
              <a:avLst/>
            </a:prstGeom>
            <a:ln w="9360">
              <a:solidFill>
                <a:srgbClr val="003300"/>
              </a:solidFill>
              <a:miter/>
            </a:ln>
          </p:spPr>
        </p:pic>
        <p:pic>
          <p:nvPicPr>
            <p:cNvPr id="539" name="" descr=""/>
            <p:cNvPicPr/>
            <p:nvPr/>
          </p:nvPicPr>
          <p:blipFill>
            <a:blip r:embed="rId4"/>
            <a:stretch/>
          </p:blipFill>
          <p:spPr>
            <a:xfrm>
              <a:off x="900000" y="4184640"/>
              <a:ext cx="259560" cy="200520"/>
            </a:xfrm>
            <a:prstGeom prst="rect">
              <a:avLst/>
            </a:prstGeom>
            <a:ln w="9360">
              <a:solidFill>
                <a:srgbClr val="003300"/>
              </a:solidFill>
              <a:miter/>
            </a:ln>
          </p:spPr>
        </p:pic>
        <p:pic>
          <p:nvPicPr>
            <p:cNvPr id="540" name="" descr=""/>
            <p:cNvPicPr/>
            <p:nvPr/>
          </p:nvPicPr>
          <p:blipFill>
            <a:blip r:embed="rId5"/>
            <a:stretch/>
          </p:blipFill>
          <p:spPr>
            <a:xfrm>
              <a:off x="900000" y="4810680"/>
              <a:ext cx="260640" cy="200520"/>
            </a:xfrm>
            <a:prstGeom prst="rect">
              <a:avLst/>
            </a:prstGeom>
            <a:ln w="9360">
              <a:solidFill>
                <a:srgbClr val="003300"/>
              </a:solidFill>
              <a:miter/>
            </a:ln>
          </p:spPr>
        </p:pic>
        <p:pic>
          <p:nvPicPr>
            <p:cNvPr id="541" name="" descr=""/>
            <p:cNvPicPr/>
            <p:nvPr/>
          </p:nvPicPr>
          <p:blipFill>
            <a:blip r:embed="rId6"/>
            <a:stretch/>
          </p:blipFill>
          <p:spPr>
            <a:xfrm>
              <a:off x="1087920" y="4497480"/>
              <a:ext cx="259560" cy="200520"/>
            </a:xfrm>
            <a:prstGeom prst="rect">
              <a:avLst/>
            </a:prstGeom>
            <a:ln w="9360">
              <a:solidFill>
                <a:srgbClr val="003300"/>
              </a:solidFill>
              <a:miter/>
            </a:ln>
          </p:spPr>
        </p:pic>
      </p:grpSp>
      <p:pic>
        <p:nvPicPr>
          <p:cNvPr id="542" name="" descr=""/>
          <p:cNvPicPr/>
          <p:nvPr/>
        </p:nvPicPr>
        <p:blipFill>
          <a:blip r:embed="rId7"/>
          <a:stretch/>
        </p:blipFill>
        <p:spPr>
          <a:xfrm>
            <a:off x="1614600" y="3800520"/>
            <a:ext cx="1119240" cy="14414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046680" y="411012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ny Traffic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5960" y="4567320"/>
            <a:ext cx="125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llow Traffic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46320" y="433872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ny Some Attacks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43200" y="4371840"/>
            <a:ext cx="814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43200" y="4610160"/>
            <a:ext cx="814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43200" y="4095720"/>
            <a:ext cx="814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732040" y="5137200"/>
            <a:ext cx="814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4079880"/>
            <a:ext cx="89917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5425920"/>
            <a:ext cx="89917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732040" y="419040"/>
            <a:ext cx="6275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IDS Application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8"/>
          <a:stretch/>
        </p:blipFill>
        <p:spPr>
          <a:xfrm>
            <a:off x="3200400" y="4884840"/>
            <a:ext cx="266760" cy="2062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554" name="" descr=""/>
          <p:cNvPicPr/>
          <p:nvPr/>
        </p:nvPicPr>
        <p:blipFill>
          <a:blip r:embed="rId9"/>
          <a:stretch/>
        </p:blipFill>
        <p:spPr>
          <a:xfrm>
            <a:off x="3733920" y="4884840"/>
            <a:ext cx="264960" cy="2048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555" name="" descr=""/>
          <p:cNvPicPr/>
          <p:nvPr/>
        </p:nvPicPr>
        <p:blipFill>
          <a:blip r:embed="rId10"/>
          <a:stretch/>
        </p:blipFill>
        <p:spPr>
          <a:xfrm>
            <a:off x="4267080" y="4884840"/>
            <a:ext cx="274680" cy="2109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grpSp>
        <p:nvGrpSpPr>
          <p:cNvPr id="556" name=""/>
          <p:cNvGrpSpPr/>
          <p:nvPr/>
        </p:nvGrpSpPr>
        <p:grpSpPr>
          <a:xfrm>
            <a:off x="6781680" y="2581200"/>
            <a:ext cx="2209680" cy="685800"/>
            <a:chOff x="6781680" y="2581200"/>
            <a:chExt cx="2209680" cy="685800"/>
          </a:xfrm>
        </p:grpSpPr>
        <p:sp>
          <p:nvSpPr>
            <p:cNvPr id="557" name=""/>
            <p:cNvSpPr/>
            <p:nvPr/>
          </p:nvSpPr>
          <p:spPr>
            <a:xfrm>
              <a:off x="6781680" y="2581200"/>
              <a:ext cx="2209680" cy="6858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57640" y="2657520"/>
              <a:ext cx="2070360" cy="533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95800" y="2657520"/>
              <a:ext cx="19702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新細明體"/>
                </a:rPr>
                <a:t>Attacks Reach</a:t>
              </a:r>
              <a:br>
                <a:rPr sz="1600"/>
              </a:b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新細明體"/>
                </a:rPr>
                <a:t>the Victim !!!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4648320" y="3681360"/>
            <a:ext cx="3354120" cy="1967040"/>
          </a:xfrm>
          <a:custGeom>
            <a:avLst/>
            <a:gdLst/>
            <a:ahLst/>
            <a:rect l="l" t="t" r="r" b="b"/>
            <a:pathLst>
              <a:path w="1200" h="816">
                <a:moveTo>
                  <a:pt x="240" y="816"/>
                </a:moveTo>
                <a:lnTo>
                  <a:pt x="0" y="0"/>
                </a:lnTo>
                <a:lnTo>
                  <a:pt x="1200" y="0"/>
                </a:lnTo>
                <a:lnTo>
                  <a:pt x="1008" y="816"/>
                </a:lnTo>
                <a:lnTo>
                  <a:pt x="240" y="81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1908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69760" y="6141960"/>
            <a:ext cx="2387520" cy="531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FL-3105 IDS provid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ttack monitor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418440" y="5946840"/>
            <a:ext cx="0" cy="19836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1"/>
          <a:stretch/>
        </p:blipFill>
        <p:spPr>
          <a:xfrm>
            <a:off x="1558800" y="1057320"/>
            <a:ext cx="5846760" cy="26287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4424400" y="2276640"/>
            <a:ext cx="447480" cy="196560"/>
          </a:xfrm>
          <a:custGeom>
            <a:avLst/>
            <a:gdLst/>
            <a:ahLst/>
            <a:rect l="l" t="t" r="r" b="b"/>
            <a:pathLst>
              <a:path w="282" h="124">
                <a:moveTo>
                  <a:pt x="282" y="90"/>
                </a:moveTo>
                <a:lnTo>
                  <a:pt x="188" y="0"/>
                </a:lnTo>
                <a:lnTo>
                  <a:pt x="0" y="64"/>
                </a:lnTo>
                <a:lnTo>
                  <a:pt x="218" y="124"/>
                </a:lnTo>
                <a:lnTo>
                  <a:pt x="282" y="90"/>
                </a:lnTo>
                <a:close/>
              </a:path>
            </a:pathLst>
          </a:custGeom>
          <a:solidFill>
            <a:srgbClr val="ffff66"/>
          </a:solidFill>
          <a:ln w="64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508720" y="3575160"/>
            <a:ext cx="1073520" cy="1562040"/>
            <a:chOff x="5508720" y="3575160"/>
            <a:chExt cx="1073520" cy="1562040"/>
          </a:xfrm>
        </p:grpSpPr>
        <p:sp>
          <p:nvSpPr>
            <p:cNvPr id="566" name=""/>
            <p:cNvSpPr/>
            <p:nvPr/>
          </p:nvSpPr>
          <p:spPr>
            <a:xfrm flipV="1">
              <a:off x="5621400" y="4165560"/>
              <a:ext cx="457200" cy="5335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002280" y="4165560"/>
              <a:ext cx="76320" cy="83808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5508720" y="4622760"/>
              <a:ext cx="264960" cy="209520"/>
              <a:chOff x="5508720" y="4622760"/>
              <a:chExt cx="264960" cy="209520"/>
            </a:xfrm>
          </p:grpSpPr>
          <p:sp>
            <p:nvSpPr>
              <p:cNvPr id="569" name=""/>
              <p:cNvSpPr/>
              <p:nvPr/>
            </p:nvSpPr>
            <p:spPr>
              <a:xfrm>
                <a:off x="5508720" y="4622760"/>
                <a:ext cx="264960" cy="2095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565960" y="465120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5813640" y="4927680"/>
              <a:ext cx="264960" cy="209520"/>
              <a:chOff x="5813640" y="4927680"/>
              <a:chExt cx="264960" cy="209520"/>
            </a:xfrm>
          </p:grpSpPr>
          <p:sp>
            <p:nvSpPr>
              <p:cNvPr id="572" name=""/>
              <p:cNvSpPr/>
              <p:nvPr/>
            </p:nvSpPr>
            <p:spPr>
              <a:xfrm>
                <a:off x="5813640" y="4927680"/>
                <a:ext cx="264960" cy="20952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70520" y="495648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5714280" y="3575160"/>
              <a:ext cx="867960" cy="531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新細明體"/>
                </a:rPr>
                <a:t>False </a:t>
              </a:r>
              <a:br>
                <a:rPr sz="1600"/>
              </a:b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新細明體"/>
                </a:rPr>
                <a:t>Alarm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pic>
        <p:nvPicPr>
          <p:cNvPr id="575" name="" descr=""/>
          <p:cNvPicPr/>
          <p:nvPr/>
        </p:nvPicPr>
        <p:blipFill>
          <a:blip r:embed="rId12"/>
          <a:stretch/>
        </p:blipFill>
        <p:spPr>
          <a:xfrm>
            <a:off x="4859280" y="4657680"/>
            <a:ext cx="266760" cy="2062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576" name="" descr=""/>
          <p:cNvPicPr/>
          <p:nvPr/>
        </p:nvPicPr>
        <p:blipFill>
          <a:blip r:embed="rId13"/>
          <a:stretch/>
        </p:blipFill>
        <p:spPr>
          <a:xfrm>
            <a:off x="5087880" y="4962600"/>
            <a:ext cx="265320" cy="2048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577" name=""/>
          <p:cNvSpPr/>
          <p:nvPr/>
        </p:nvSpPr>
        <p:spPr>
          <a:xfrm flipH="1">
            <a:off x="914040" y="3876840"/>
            <a:ext cx="685800" cy="2286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743200" y="4181400"/>
            <a:ext cx="838080" cy="19814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7086600" y="3587760"/>
            <a:ext cx="1282680" cy="1482480"/>
            <a:chOff x="7086600" y="3587760"/>
            <a:chExt cx="1282680" cy="1482480"/>
          </a:xfrm>
        </p:grpSpPr>
        <p:pic>
          <p:nvPicPr>
            <p:cNvPr id="580" name="" descr=""/>
            <p:cNvPicPr/>
            <p:nvPr/>
          </p:nvPicPr>
          <p:blipFill>
            <a:blip r:embed="rId14"/>
            <a:stretch/>
          </p:blipFill>
          <p:spPr>
            <a:xfrm>
              <a:off x="7149960" y="4863960"/>
              <a:ext cx="266760" cy="206280"/>
            </a:xfrm>
            <a:prstGeom prst="rect">
              <a:avLst/>
            </a:prstGeom>
            <a:ln w="9360">
              <a:solidFill>
                <a:srgbClr val="003300"/>
              </a:solidFill>
              <a:miter/>
            </a:ln>
          </p:spPr>
        </p:pic>
        <p:pic>
          <p:nvPicPr>
            <p:cNvPr id="581" name="" descr=""/>
            <p:cNvPicPr/>
            <p:nvPr/>
          </p:nvPicPr>
          <p:blipFill>
            <a:blip r:embed="rId15"/>
            <a:stretch/>
          </p:blipFill>
          <p:spPr>
            <a:xfrm>
              <a:off x="8064360" y="4635360"/>
              <a:ext cx="274680" cy="210960"/>
            </a:xfrm>
            <a:prstGeom prst="rect">
              <a:avLst/>
            </a:prstGeom>
            <a:ln w="9360">
              <a:solidFill>
                <a:srgbClr val="003300"/>
              </a:solidFill>
              <a:miter/>
            </a:ln>
          </p:spPr>
        </p:pic>
        <p:sp>
          <p:nvSpPr>
            <p:cNvPr id="582" name=""/>
            <p:cNvSpPr/>
            <p:nvPr/>
          </p:nvSpPr>
          <p:spPr>
            <a:xfrm flipV="1">
              <a:off x="7302600" y="4101480"/>
              <a:ext cx="380880" cy="7621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759800" y="4101840"/>
              <a:ext cx="304560" cy="5335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86600" y="3587760"/>
              <a:ext cx="1282680" cy="531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新細明體"/>
                </a:rPr>
                <a:t>Undetected</a:t>
              </a:r>
              <a:br>
                <a:rPr sz="1600"/>
              </a:b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新細明體"/>
                </a:rPr>
                <a:t>Attack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3301200" y="3281400"/>
            <a:ext cx="671400" cy="246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ahoma"/>
                <a:ea typeface="新細明體"/>
              </a:rPr>
              <a:t>DFL-100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50760" y="2646360"/>
            <a:ext cx="1216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emote Offic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65560" y="3575160"/>
            <a:ext cx="1593720" cy="276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emote Offic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26560" y="281160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ahoma"/>
                <a:ea typeface="新細明體"/>
              </a:rPr>
              <a:t>DFL-100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493880" y="3579840"/>
            <a:ext cx="1035720" cy="1352160"/>
            <a:chOff x="4493880" y="3579840"/>
            <a:chExt cx="1035720" cy="1352160"/>
          </a:xfrm>
        </p:grpSpPr>
        <p:sp>
          <p:nvSpPr>
            <p:cNvPr id="590" name=""/>
            <p:cNvSpPr/>
            <p:nvPr/>
          </p:nvSpPr>
          <p:spPr>
            <a:xfrm>
              <a:off x="4493880" y="3579840"/>
              <a:ext cx="1035720" cy="531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新細明體"/>
                </a:rPr>
                <a:t>Detected</a:t>
              </a:r>
              <a:br>
                <a:rPr sz="1600"/>
              </a:b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新細明體"/>
                </a:rPr>
                <a:t>Attack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5005080" y="4170240"/>
              <a:ext cx="0" cy="38088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5005080" y="4246200"/>
              <a:ext cx="304560" cy="68580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5508720" y="1057320"/>
            <a:ext cx="18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rporation Network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94" name="des-3105-3" descr=""/>
          <p:cNvPicPr/>
          <p:nvPr/>
        </p:nvPicPr>
        <p:blipFill>
          <a:blip r:embed="rId16"/>
          <a:stretch/>
        </p:blipFill>
        <p:spPr>
          <a:xfrm>
            <a:off x="1160640" y="5425920"/>
            <a:ext cx="2187360" cy="747720"/>
          </a:xfrm>
          <a:prstGeom prst="rect">
            <a:avLst/>
          </a:prstGeom>
          <a:ln w="0">
            <a:noFill/>
          </a:ln>
        </p:spPr>
      </p:pic>
      <p:pic>
        <p:nvPicPr>
          <p:cNvPr id="595" name="des-3105-3" descr=""/>
          <p:cNvPicPr/>
          <p:nvPr/>
        </p:nvPicPr>
        <p:blipFill>
          <a:blip r:embed="rId17"/>
          <a:stretch/>
        </p:blipFill>
        <p:spPr>
          <a:xfrm>
            <a:off x="5310360" y="5425920"/>
            <a:ext cx="2187360" cy="747720"/>
          </a:xfrm>
          <a:prstGeom prst="rect">
            <a:avLst/>
          </a:prstGeom>
          <a:ln w="0">
            <a:noFill/>
          </a:ln>
        </p:spPr>
      </p:pic>
      <p:pic>
        <p:nvPicPr>
          <p:cNvPr id="596" name="des-3105-3" descr=""/>
          <p:cNvPicPr/>
          <p:nvPr/>
        </p:nvPicPr>
        <p:blipFill>
          <a:blip r:embed="rId18"/>
          <a:stretch/>
        </p:blipFill>
        <p:spPr>
          <a:xfrm>
            <a:off x="3933720" y="2276640"/>
            <a:ext cx="1154160" cy="4572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4031280" y="2752560"/>
            <a:ext cx="1092240" cy="337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新細明體"/>
              </a:rPr>
              <a:t>DFL-3105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7375680" y="591012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26400" y="582480"/>
            <a:ext cx="514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Load Balance Application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52280" y="1523880"/>
            <a:ext cx="3733920" cy="25146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63360" dir="5400000" blurRad="0" rotWithShape="0">
              <a:srgbClr val="cc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1981440" cy="144756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1219320" y="2743200"/>
            <a:ext cx="304200" cy="533160"/>
            <a:chOff x="1219320" y="2743200"/>
            <a:chExt cx="304200" cy="533160"/>
          </a:xfrm>
        </p:grpSpPr>
        <p:grpSp>
          <p:nvGrpSpPr>
            <p:cNvPr id="603" name=""/>
            <p:cNvGrpSpPr/>
            <p:nvPr/>
          </p:nvGrpSpPr>
          <p:grpSpPr>
            <a:xfrm>
              <a:off x="1227240" y="2749680"/>
              <a:ext cx="291240" cy="512280"/>
              <a:chOff x="1227240" y="2749680"/>
              <a:chExt cx="291240" cy="512280"/>
            </a:xfrm>
          </p:grpSpPr>
          <p:sp>
            <p:nvSpPr>
              <p:cNvPr id="604" name=""/>
              <p:cNvSpPr/>
              <p:nvPr/>
            </p:nvSpPr>
            <p:spPr>
              <a:xfrm>
                <a:off x="1416600" y="2799000"/>
                <a:ext cx="90360" cy="25308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36600" y="2749680"/>
                <a:ext cx="270000" cy="8892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236600" y="2786760"/>
                <a:ext cx="181080" cy="46908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416600" y="2996280"/>
                <a:ext cx="90360" cy="26136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505520" y="3195720"/>
                <a:ext cx="12960" cy="24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227240" y="3185280"/>
                <a:ext cx="190800" cy="7668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405080" y="323460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1502640" y="3205800"/>
              <a:ext cx="1620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02640" y="3205800"/>
              <a:ext cx="1620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18040" y="2794320"/>
              <a:ext cx="92520" cy="24588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229760" y="2743200"/>
              <a:ext cx="281160" cy="9324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29760" y="2782440"/>
              <a:ext cx="189360" cy="48744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434600" y="2841840"/>
              <a:ext cx="61200" cy="52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434600" y="2895480"/>
              <a:ext cx="61200" cy="511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18040" y="3000600"/>
              <a:ext cx="92520" cy="2718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18040" y="3000600"/>
              <a:ext cx="92520" cy="3960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406160" y="2793240"/>
              <a:ext cx="104760" cy="432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406160" y="2832480"/>
              <a:ext cx="14040" cy="43740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219320" y="3197880"/>
              <a:ext cx="199800" cy="784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05080" y="3249000"/>
              <a:ext cx="14040" cy="273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509840" y="3207240"/>
              <a:ext cx="13680" cy="25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676520" y="2590920"/>
            <a:ext cx="304200" cy="533160"/>
            <a:chOff x="1676520" y="2590920"/>
            <a:chExt cx="304200" cy="533160"/>
          </a:xfrm>
        </p:grpSpPr>
        <p:grpSp>
          <p:nvGrpSpPr>
            <p:cNvPr id="626" name=""/>
            <p:cNvGrpSpPr/>
            <p:nvPr/>
          </p:nvGrpSpPr>
          <p:grpSpPr>
            <a:xfrm>
              <a:off x="1684440" y="2597400"/>
              <a:ext cx="291240" cy="511560"/>
              <a:chOff x="1684440" y="2597400"/>
              <a:chExt cx="291240" cy="511560"/>
            </a:xfrm>
          </p:grpSpPr>
          <p:sp>
            <p:nvSpPr>
              <p:cNvPr id="627" name=""/>
              <p:cNvSpPr/>
              <p:nvPr/>
            </p:nvSpPr>
            <p:spPr>
              <a:xfrm>
                <a:off x="1873800" y="2646720"/>
                <a:ext cx="90360" cy="25272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693800" y="2597400"/>
                <a:ext cx="270000" cy="8856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693800" y="2634480"/>
                <a:ext cx="181080" cy="46872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873800" y="2843640"/>
                <a:ext cx="90360" cy="26136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962720" y="3043080"/>
                <a:ext cx="12960" cy="24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684440" y="3032640"/>
                <a:ext cx="190800" cy="7632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862280" y="308196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1959840" y="3053160"/>
              <a:ext cx="1620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59840" y="3053160"/>
              <a:ext cx="1620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75240" y="2642040"/>
              <a:ext cx="92520" cy="24552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86960" y="2590920"/>
              <a:ext cx="281160" cy="9288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86960" y="2630160"/>
              <a:ext cx="189360" cy="48708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91800" y="2689200"/>
              <a:ext cx="61200" cy="52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91800" y="2743200"/>
              <a:ext cx="61200" cy="511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75240" y="2847960"/>
              <a:ext cx="92520" cy="2718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75240" y="2847960"/>
              <a:ext cx="92520" cy="3960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63360" y="2640960"/>
              <a:ext cx="104760" cy="428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63360" y="2680200"/>
              <a:ext cx="14040" cy="43704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76520" y="3045240"/>
              <a:ext cx="199800" cy="784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62280" y="3096720"/>
              <a:ext cx="14040" cy="273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67040" y="3054600"/>
              <a:ext cx="13680" cy="25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057400" y="2438280"/>
            <a:ext cx="304560" cy="533160"/>
            <a:chOff x="2057400" y="2438280"/>
            <a:chExt cx="304560" cy="533160"/>
          </a:xfrm>
        </p:grpSpPr>
        <p:grpSp>
          <p:nvGrpSpPr>
            <p:cNvPr id="649" name=""/>
            <p:cNvGrpSpPr/>
            <p:nvPr/>
          </p:nvGrpSpPr>
          <p:grpSpPr>
            <a:xfrm>
              <a:off x="2065320" y="2444760"/>
              <a:ext cx="291600" cy="512280"/>
              <a:chOff x="2065320" y="2444760"/>
              <a:chExt cx="291600" cy="512280"/>
            </a:xfrm>
          </p:grpSpPr>
          <p:sp>
            <p:nvSpPr>
              <p:cNvPr id="650" name=""/>
              <p:cNvSpPr/>
              <p:nvPr/>
            </p:nvSpPr>
            <p:spPr>
              <a:xfrm>
                <a:off x="2255040" y="2494080"/>
                <a:ext cx="90360" cy="25308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75040" y="2444760"/>
                <a:ext cx="270360" cy="8892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075040" y="2481840"/>
                <a:ext cx="181440" cy="46908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255040" y="2691360"/>
                <a:ext cx="90360" cy="26136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343960" y="2890800"/>
                <a:ext cx="12960" cy="24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065320" y="2880360"/>
                <a:ext cx="191160" cy="7668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243160" y="292968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2341080" y="2900880"/>
              <a:ext cx="1620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41080" y="2900880"/>
              <a:ext cx="1620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56480" y="2489400"/>
              <a:ext cx="92880" cy="24588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67840" y="2438280"/>
              <a:ext cx="281160" cy="9324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067840" y="2477520"/>
              <a:ext cx="189360" cy="48744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72680" y="2536920"/>
              <a:ext cx="61200" cy="52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72680" y="2590560"/>
              <a:ext cx="61200" cy="511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56480" y="2695680"/>
              <a:ext cx="92880" cy="2718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56480" y="2695680"/>
              <a:ext cx="92880" cy="3960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44600" y="2488320"/>
              <a:ext cx="104760" cy="432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44600" y="2527560"/>
              <a:ext cx="14040" cy="43740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2892960"/>
              <a:ext cx="200160" cy="784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43520" y="2944080"/>
              <a:ext cx="14040" cy="273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48280" y="2902320"/>
              <a:ext cx="13680" cy="25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514240" y="2895480"/>
            <a:ext cx="381240" cy="383760"/>
            <a:chOff x="2514240" y="2895480"/>
            <a:chExt cx="381240" cy="383760"/>
          </a:xfrm>
        </p:grpSpPr>
        <p:grpSp>
          <p:nvGrpSpPr>
            <p:cNvPr id="672" name=""/>
            <p:cNvGrpSpPr/>
            <p:nvPr/>
          </p:nvGrpSpPr>
          <p:grpSpPr>
            <a:xfrm>
              <a:off x="2526840" y="3095640"/>
              <a:ext cx="368640" cy="183600"/>
              <a:chOff x="2526840" y="3095640"/>
              <a:chExt cx="368640" cy="183600"/>
            </a:xfrm>
          </p:grpSpPr>
          <p:sp>
            <p:nvSpPr>
              <p:cNvPr id="673" name=""/>
              <p:cNvSpPr/>
              <p:nvPr/>
            </p:nvSpPr>
            <p:spPr>
              <a:xfrm>
                <a:off x="2527200" y="3143160"/>
                <a:ext cx="127440" cy="136080"/>
              </a:xfrm>
              <a:custGeom>
                <a:avLst/>
                <a:gdLst/>
                <a:ahLst/>
                <a:rect l="l" t="t" r="r" b="b"/>
                <a:pathLst>
                  <a:path w="289" h="334">
                    <a:moveTo>
                      <a:pt x="289" y="174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288" y="334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526840" y="3095640"/>
                <a:ext cx="368640" cy="11772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2654280" y="3153240"/>
                <a:ext cx="241200" cy="12564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2666880" y="3202560"/>
                <a:ext cx="97560" cy="54720"/>
                <a:chOff x="2666880" y="3202560"/>
                <a:chExt cx="97560" cy="54720"/>
              </a:xfrm>
            </p:grpSpPr>
            <p:sp>
              <p:nvSpPr>
                <p:cNvPr id="677" name=""/>
                <p:cNvSpPr/>
                <p:nvPr/>
              </p:nvSpPr>
              <p:spPr>
                <a:xfrm flipH="1">
                  <a:off x="2666880" y="320256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>
                  <a:off x="2666880" y="321228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flipH="1">
                  <a:off x="2666880" y="322236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H="1">
                  <a:off x="2666880" y="323208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2782800" y="3168360"/>
                <a:ext cx="96840" cy="63720"/>
                <a:chOff x="2782800" y="3168360"/>
                <a:chExt cx="96840" cy="63720"/>
              </a:xfrm>
            </p:grpSpPr>
            <p:sp>
              <p:nvSpPr>
                <p:cNvPr id="682" name=""/>
                <p:cNvSpPr/>
                <p:nvPr/>
              </p:nvSpPr>
              <p:spPr>
                <a:xfrm flipH="1">
                  <a:off x="2784240" y="3168720"/>
                  <a:ext cx="94680" cy="608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H="1">
                  <a:off x="2786400" y="3191400"/>
                  <a:ext cx="91440" cy="2160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H="1">
                  <a:off x="2784600" y="3168360"/>
                  <a:ext cx="94680" cy="3672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9360" bIns="936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H="1">
                  <a:off x="2797200" y="3180240"/>
                  <a:ext cx="74160" cy="169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H="1">
                  <a:off x="2855520" y="3202560"/>
                  <a:ext cx="13680" cy="2160"/>
                </a:xfrm>
                <a:prstGeom prst="line">
                  <a:avLst/>
                </a:prstGeom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>
                  <a:off x="2825640" y="318492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200" bIns="-1620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H="1">
                  <a:off x="2782800" y="3194640"/>
                  <a:ext cx="95760" cy="3744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9" name=""/>
            <p:cNvGrpSpPr/>
            <p:nvPr/>
          </p:nvGrpSpPr>
          <p:grpSpPr>
            <a:xfrm>
              <a:off x="2514240" y="2895480"/>
              <a:ext cx="345240" cy="299520"/>
              <a:chOff x="2514240" y="2895480"/>
              <a:chExt cx="345240" cy="299520"/>
            </a:xfrm>
          </p:grpSpPr>
          <p:sp>
            <p:nvSpPr>
              <p:cNvPr id="690" name=""/>
              <p:cNvSpPr/>
              <p:nvPr/>
            </p:nvSpPr>
            <p:spPr>
              <a:xfrm flipH="1">
                <a:off x="2565000" y="3090240"/>
                <a:ext cx="268560" cy="1047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2569320" y="3092400"/>
                <a:ext cx="259560" cy="9288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2629800" y="3115080"/>
                <a:ext cx="135360" cy="500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2620800" y="3117240"/>
                <a:ext cx="218160" cy="558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2513880" y="2895480"/>
                <a:ext cx="272520" cy="23184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2562120" y="2946600"/>
                <a:ext cx="54720" cy="2253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2562120" y="2898000"/>
                <a:ext cx="297360" cy="7668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2616120" y="2920680"/>
                <a:ext cx="242280" cy="25236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2635200" y="2943000"/>
                <a:ext cx="205200" cy="2070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2647440" y="2957040"/>
                <a:ext cx="179640" cy="17820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812320" y="2971440"/>
                <a:ext cx="0" cy="27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2057040" y="3048120"/>
            <a:ext cx="381240" cy="383760"/>
            <a:chOff x="2057040" y="3048120"/>
            <a:chExt cx="381240" cy="383760"/>
          </a:xfrm>
        </p:grpSpPr>
        <p:grpSp>
          <p:nvGrpSpPr>
            <p:cNvPr id="702" name=""/>
            <p:cNvGrpSpPr/>
            <p:nvPr/>
          </p:nvGrpSpPr>
          <p:grpSpPr>
            <a:xfrm>
              <a:off x="2069640" y="3248280"/>
              <a:ext cx="368640" cy="183600"/>
              <a:chOff x="2069640" y="3248280"/>
              <a:chExt cx="368640" cy="183600"/>
            </a:xfrm>
          </p:grpSpPr>
          <p:sp>
            <p:nvSpPr>
              <p:cNvPr id="703" name=""/>
              <p:cNvSpPr/>
              <p:nvPr/>
            </p:nvSpPr>
            <p:spPr>
              <a:xfrm>
                <a:off x="2070000" y="3295800"/>
                <a:ext cx="127440" cy="136080"/>
              </a:xfrm>
              <a:custGeom>
                <a:avLst/>
                <a:gdLst/>
                <a:ahLst/>
                <a:rect l="l" t="t" r="r" b="b"/>
                <a:pathLst>
                  <a:path w="289" h="334">
                    <a:moveTo>
                      <a:pt x="289" y="174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288" y="334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2069640" y="3248280"/>
                <a:ext cx="368640" cy="11772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2197080" y="3305880"/>
                <a:ext cx="241200" cy="12564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10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2209680" y="3355200"/>
                <a:ext cx="97560" cy="54720"/>
                <a:chOff x="2209680" y="3355200"/>
                <a:chExt cx="97560" cy="54720"/>
              </a:xfrm>
            </p:grpSpPr>
            <p:sp>
              <p:nvSpPr>
                <p:cNvPr id="707" name=""/>
                <p:cNvSpPr/>
                <p:nvPr/>
              </p:nvSpPr>
              <p:spPr>
                <a:xfrm flipH="1">
                  <a:off x="2209680" y="335520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H="1">
                  <a:off x="2209680" y="336492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>
                  <a:off x="2209680" y="337500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H="1">
                  <a:off x="2209680" y="338472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2325600" y="3321000"/>
                <a:ext cx="96840" cy="63720"/>
                <a:chOff x="2325600" y="3321000"/>
                <a:chExt cx="96840" cy="63720"/>
              </a:xfrm>
            </p:grpSpPr>
            <p:sp>
              <p:nvSpPr>
                <p:cNvPr id="712" name=""/>
                <p:cNvSpPr/>
                <p:nvPr/>
              </p:nvSpPr>
              <p:spPr>
                <a:xfrm flipH="1">
                  <a:off x="2327040" y="3321360"/>
                  <a:ext cx="94680" cy="608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H="1">
                  <a:off x="2329200" y="3344040"/>
                  <a:ext cx="91440" cy="2160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H="1">
                  <a:off x="2327400" y="3321000"/>
                  <a:ext cx="94680" cy="3672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9360" bIns="936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>
                  <a:off x="2340000" y="3332880"/>
                  <a:ext cx="74160" cy="169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H="1">
                  <a:off x="2398320" y="3355200"/>
                  <a:ext cx="13680" cy="2160"/>
                </a:xfrm>
                <a:prstGeom prst="line">
                  <a:avLst/>
                </a:prstGeom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H="1">
                  <a:off x="2368440" y="333756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200" bIns="-1620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>
                  <a:off x="2325600" y="3347280"/>
                  <a:ext cx="95760" cy="3744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9" name=""/>
            <p:cNvGrpSpPr/>
            <p:nvPr/>
          </p:nvGrpSpPr>
          <p:grpSpPr>
            <a:xfrm>
              <a:off x="2057040" y="3048120"/>
              <a:ext cx="345240" cy="299520"/>
              <a:chOff x="2057040" y="3048120"/>
              <a:chExt cx="345240" cy="299520"/>
            </a:xfrm>
          </p:grpSpPr>
          <p:sp>
            <p:nvSpPr>
              <p:cNvPr id="720" name=""/>
              <p:cNvSpPr/>
              <p:nvPr/>
            </p:nvSpPr>
            <p:spPr>
              <a:xfrm flipH="1">
                <a:off x="2107800" y="3242880"/>
                <a:ext cx="268560" cy="1047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2112120" y="3245040"/>
                <a:ext cx="259560" cy="9288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2172600" y="3267720"/>
                <a:ext cx="135360" cy="500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2163600" y="3269880"/>
                <a:ext cx="218160" cy="558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2056680" y="3048120"/>
                <a:ext cx="272520" cy="23184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11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104920" y="3099240"/>
                <a:ext cx="54720" cy="2253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2104920" y="3050640"/>
                <a:ext cx="297360" cy="7668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2158920" y="3073320"/>
                <a:ext cx="242280" cy="25236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2178000" y="3095640"/>
                <a:ext cx="205200" cy="2070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2190240" y="3109680"/>
                <a:ext cx="179640" cy="17820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355120" y="3124080"/>
                <a:ext cx="0" cy="27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1" name=""/>
          <p:cNvGrpSpPr/>
          <p:nvPr/>
        </p:nvGrpSpPr>
        <p:grpSpPr>
          <a:xfrm>
            <a:off x="1599840" y="3200400"/>
            <a:ext cx="381240" cy="383760"/>
            <a:chOff x="1599840" y="3200400"/>
            <a:chExt cx="381240" cy="383760"/>
          </a:xfrm>
        </p:grpSpPr>
        <p:grpSp>
          <p:nvGrpSpPr>
            <p:cNvPr id="732" name=""/>
            <p:cNvGrpSpPr/>
            <p:nvPr/>
          </p:nvGrpSpPr>
          <p:grpSpPr>
            <a:xfrm>
              <a:off x="1612440" y="3400560"/>
              <a:ext cx="368640" cy="183600"/>
              <a:chOff x="1612440" y="3400560"/>
              <a:chExt cx="368640" cy="183600"/>
            </a:xfrm>
          </p:grpSpPr>
          <p:sp>
            <p:nvSpPr>
              <p:cNvPr id="733" name=""/>
              <p:cNvSpPr/>
              <p:nvPr/>
            </p:nvSpPr>
            <p:spPr>
              <a:xfrm>
                <a:off x="1612800" y="3448080"/>
                <a:ext cx="127440" cy="136080"/>
              </a:xfrm>
              <a:custGeom>
                <a:avLst/>
                <a:gdLst/>
                <a:ahLst/>
                <a:rect l="l" t="t" r="r" b="b"/>
                <a:pathLst>
                  <a:path w="289" h="334">
                    <a:moveTo>
                      <a:pt x="289" y="174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288" y="334"/>
                    </a:ln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1612440" y="3400560"/>
                <a:ext cx="368640" cy="11772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15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1739880" y="3458160"/>
                <a:ext cx="241200" cy="12564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16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1752480" y="3507480"/>
                <a:ext cx="97560" cy="54720"/>
                <a:chOff x="1752480" y="3507480"/>
                <a:chExt cx="97560" cy="54720"/>
              </a:xfrm>
            </p:grpSpPr>
            <p:sp>
              <p:nvSpPr>
                <p:cNvPr id="737" name=""/>
                <p:cNvSpPr/>
                <p:nvPr/>
              </p:nvSpPr>
              <p:spPr>
                <a:xfrm flipH="1">
                  <a:off x="1752480" y="350748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>
                  <a:off x="1752480" y="351720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>
                  <a:off x="1752480" y="352728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H="1">
                  <a:off x="1752480" y="353700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1868400" y="3473280"/>
                <a:ext cx="96840" cy="63720"/>
                <a:chOff x="1868400" y="3473280"/>
                <a:chExt cx="96840" cy="63720"/>
              </a:xfrm>
            </p:grpSpPr>
            <p:sp>
              <p:nvSpPr>
                <p:cNvPr id="742" name=""/>
                <p:cNvSpPr/>
                <p:nvPr/>
              </p:nvSpPr>
              <p:spPr>
                <a:xfrm flipH="1">
                  <a:off x="1869840" y="3473640"/>
                  <a:ext cx="94680" cy="608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>
                  <a:off x="1872000" y="3496320"/>
                  <a:ext cx="91440" cy="2160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H="1">
                  <a:off x="1870200" y="3473280"/>
                  <a:ext cx="94680" cy="3672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9360" bIns="936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H="1">
                  <a:off x="1882800" y="3485160"/>
                  <a:ext cx="74160" cy="169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>
                  <a:off x="1941120" y="3507480"/>
                  <a:ext cx="13680" cy="2160"/>
                </a:xfrm>
                <a:prstGeom prst="line">
                  <a:avLst/>
                </a:prstGeom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>
                  <a:off x="1911240" y="348984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200" bIns="-1620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>
                  <a:off x="1868400" y="3499560"/>
                  <a:ext cx="95760" cy="3744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1599840" y="3200400"/>
              <a:ext cx="345240" cy="299520"/>
              <a:chOff x="1599840" y="3200400"/>
              <a:chExt cx="345240" cy="299520"/>
            </a:xfrm>
          </p:grpSpPr>
          <p:sp>
            <p:nvSpPr>
              <p:cNvPr id="750" name=""/>
              <p:cNvSpPr/>
              <p:nvPr/>
            </p:nvSpPr>
            <p:spPr>
              <a:xfrm flipH="1">
                <a:off x="1650600" y="3395160"/>
                <a:ext cx="268560" cy="1047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1654920" y="3397320"/>
                <a:ext cx="259560" cy="9288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1715400" y="3420000"/>
                <a:ext cx="135360" cy="500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1706400" y="3422160"/>
                <a:ext cx="218160" cy="558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1599480" y="3200400"/>
                <a:ext cx="272520" cy="23184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17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1647720" y="3251520"/>
                <a:ext cx="54720" cy="2253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1647720" y="3202920"/>
                <a:ext cx="297360" cy="7668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1701720" y="3225600"/>
                <a:ext cx="242280" cy="25236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18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1720800" y="3247920"/>
                <a:ext cx="205200" cy="2070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1733040" y="3261960"/>
                <a:ext cx="179640" cy="17820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897920" y="3276360"/>
                <a:ext cx="0" cy="27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1" name=""/>
          <p:cNvGrpSpPr/>
          <p:nvPr/>
        </p:nvGrpSpPr>
        <p:grpSpPr>
          <a:xfrm>
            <a:off x="5913360" y="4962600"/>
            <a:ext cx="762120" cy="457200"/>
            <a:chOff x="5913360" y="4962600"/>
            <a:chExt cx="762120" cy="457200"/>
          </a:xfrm>
        </p:grpSpPr>
        <p:pic>
          <p:nvPicPr>
            <p:cNvPr id="762" name="" descr=""/>
            <p:cNvPicPr/>
            <p:nvPr/>
          </p:nvPicPr>
          <p:blipFill>
            <a:blip r:embed="rId20"/>
            <a:stretch/>
          </p:blipFill>
          <p:spPr>
            <a:xfrm>
              <a:off x="5913360" y="4962600"/>
              <a:ext cx="76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5978520" y="5026320"/>
              <a:ext cx="6303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新細明體"/>
                </a:rPr>
                <a:t>ISP A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5056200" y="5222880"/>
            <a:ext cx="756720" cy="452160"/>
            <a:chOff x="5056200" y="5222880"/>
            <a:chExt cx="756720" cy="452160"/>
          </a:xfrm>
        </p:grpSpPr>
        <p:grpSp>
          <p:nvGrpSpPr>
            <p:cNvPr id="765" name=""/>
            <p:cNvGrpSpPr/>
            <p:nvPr/>
          </p:nvGrpSpPr>
          <p:grpSpPr>
            <a:xfrm>
              <a:off x="5056200" y="5222880"/>
              <a:ext cx="756720" cy="452160"/>
              <a:chOff x="5056200" y="5222880"/>
              <a:chExt cx="756720" cy="452160"/>
            </a:xfrm>
          </p:grpSpPr>
          <p:sp>
            <p:nvSpPr>
              <p:cNvPr id="766" name=""/>
              <p:cNvSpPr/>
              <p:nvPr/>
            </p:nvSpPr>
            <p:spPr>
              <a:xfrm>
                <a:off x="5313240" y="5224320"/>
                <a:ext cx="328680" cy="185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133960" y="5273640"/>
                <a:ext cx="250920" cy="1839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056200" y="5384880"/>
                <a:ext cx="169920" cy="15084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106960" y="5451480"/>
                <a:ext cx="255600" cy="16200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288040" y="5478480"/>
                <a:ext cx="380880" cy="19368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530680" y="5278320"/>
                <a:ext cx="244440" cy="1461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567400" y="5371920"/>
                <a:ext cx="242640" cy="14472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45080" y="5402160"/>
                <a:ext cx="241200" cy="23832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192640" y="5330880"/>
                <a:ext cx="488880" cy="2379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315040" y="5222880"/>
                <a:ext cx="330840" cy="18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38" y="7434"/>
                    </a:moveTo>
                    <a:arcTo wR="10800" hR="10800" stAng="-9710438" swAng="83880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38" y="7434"/>
                    </a:moveTo>
                    <a:arcTo wR="10800" hR="10800" stAng="-9710438" swAng="8388026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316120" y="5224320"/>
                <a:ext cx="327960" cy="18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5" y="7411"/>
                    </a:moveTo>
                    <a:arcTo wR="10800" hR="10800" stAng="-9702802" swAng="83714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5" y="7411"/>
                    </a:moveTo>
                    <a:arcTo wR="10800" hR="10800" stAng="-9702802" swAng="8371423"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805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33960" y="5272200"/>
                <a:ext cx="250920" cy="185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4" y="13085"/>
                    </a:moveTo>
                    <a:arcTo wR="10800" hR="10800" stAng="10067126" swAng="79935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4" y="13085"/>
                    </a:moveTo>
                    <a:arcTo wR="10800" hR="10800" stAng="10067126" swAng="7993520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135400" y="5273640"/>
                <a:ext cx="249120" cy="18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7" y="13095"/>
                    </a:moveTo>
                    <a:arcTo wR="10800" hR="10800" stAng="10063861" swAng="79898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7" y="13095"/>
                    </a:moveTo>
                    <a:arcTo wR="10800" hR="10800" stAng="10063861" swAng="7989835"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805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105520" y="5447880"/>
                <a:ext cx="263160" cy="16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96" y="20212"/>
                    </a:moveTo>
                    <a:arcTo wR="10800" hR="10800" stAng="3637942" swAng="73490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96" y="20212"/>
                    </a:moveTo>
                    <a:arcTo wR="10800" hR="10800" stAng="3637942" swAng="7349008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106960" y="5449320"/>
                <a:ext cx="259920" cy="1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69" y="20227"/>
                    </a:moveTo>
                    <a:arcTo wR="10800" hR="10800" stAng="3647837" swAng="73403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69" y="20227"/>
                    </a:moveTo>
                    <a:arcTo wR="10800" hR="10800" stAng="3647837" swAng="7340376"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805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31760" y="5276880"/>
                <a:ext cx="244800" cy="14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9" y="227"/>
                    </a:moveTo>
                    <a:arcTo wR="10800" hR="10800" stAng="-6105611" swAng="7870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9" y="227"/>
                    </a:moveTo>
                    <a:arcTo wR="10800" hR="10800" stAng="-6105611" swAng="7870116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535000" y="5278320"/>
                <a:ext cx="23976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18" y="223"/>
                    </a:moveTo>
                    <a:arcTo wR="10800" hR="10800" stAng="-6099526" swAng="78771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18" y="223"/>
                    </a:moveTo>
                    <a:arcTo wR="10800" hR="10800" stAng="-6099526" swAng="7877159"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805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531040" y="5368320"/>
                <a:ext cx="281880" cy="15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58" y="2297"/>
                    </a:moveTo>
                    <a:arcTo wR="10800" hR="10800" stAng="-3116235" swAng="52771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58" y="2297"/>
                    </a:moveTo>
                    <a:arcTo wR="10800" hR="10800" stAng="-3116235" swAng="5277129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532480" y="5370480"/>
                <a:ext cx="279000" cy="15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21" y="2268"/>
                    </a:moveTo>
                    <a:arcTo wR="10800" hR="10800" stAng="-3131312" swAng="53070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21" y="2268"/>
                    </a:moveTo>
                    <a:arcTo wR="10800" hR="10800" stAng="-3131312" swAng="5307015"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805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541120" y="5403960"/>
                <a:ext cx="24804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1" y="7684"/>
                    </a:moveTo>
                    <a:arcTo wR="10800" hR="10800" stAng="-1006065" swAng="75531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1" y="7684"/>
                    </a:moveTo>
                    <a:arcTo wR="10800" hR="10800" stAng="-1006065" swAng="7553188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544000" y="5405040"/>
                <a:ext cx="2437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1" y="7683"/>
                    </a:moveTo>
                    <a:arcTo wR="10800" hR="10800" stAng="-1006390" swAng="755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1" y="7683"/>
                    </a:moveTo>
                    <a:arcTo wR="10800" hR="10800" stAng="-1006390" swAng="7553149"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805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056200" y="5384880"/>
                <a:ext cx="180360" cy="15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20" y="20672"/>
                    </a:moveTo>
                    <a:arcTo wR="10800" hR="10800" stAng="6835529" swAng="91539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20" y="20672"/>
                    </a:moveTo>
                    <a:arcTo wR="10800" hR="10800" stAng="6835529" swAng="9153951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057640" y="5386320"/>
                <a:ext cx="177480" cy="150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1" y="20677"/>
                    </a:moveTo>
                    <a:arcTo wR="10800" hR="10800" stAng="6831739" swAng="91583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1" y="20677"/>
                    </a:moveTo>
                    <a:arcTo wR="10800" hR="10800" stAng="6831739" swAng="9158363"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805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289120" y="5493960"/>
                <a:ext cx="373680" cy="18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725" y="16882"/>
                    </a:moveTo>
                    <a:arcTo wR="10800" hR="10800" stAng="2056487" swAng="80598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725" y="16882"/>
                    </a:moveTo>
                    <a:arcTo wR="10800" hR="10800" stAng="2056487" swAng="8059889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290560" y="5495760"/>
                <a:ext cx="37116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98" y="16921"/>
                    </a:moveTo>
                    <a:arcTo wR="10800" hR="10800" stAng="2071466" swAng="80386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98" y="16921"/>
                    </a:moveTo>
                    <a:arcTo wR="10800" hR="10800" stAng="2071466" swAng="8038661"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805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129280" y="5295960"/>
              <a:ext cx="6303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ISP B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5765760" y="5591160"/>
            <a:ext cx="2787480" cy="791640"/>
            <a:chOff x="5765760" y="5591160"/>
            <a:chExt cx="2787480" cy="791640"/>
          </a:xfrm>
        </p:grpSpPr>
        <p:sp>
          <p:nvSpPr>
            <p:cNvPr id="793" name="Cloud"/>
            <p:cNvSpPr/>
            <p:nvPr/>
          </p:nvSpPr>
          <p:spPr>
            <a:xfrm>
              <a:off x="6044040" y="5591160"/>
              <a:ext cx="2090520" cy="791640"/>
            </a:xfrm>
            <a:prstGeom prst="pi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765760" y="5832000"/>
              <a:ext cx="27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SimSun"/>
                </a:rPr>
                <a:t>Internet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5000760" y="4229640"/>
            <a:ext cx="1237680" cy="864720"/>
            <a:chOff x="5000760" y="4229640"/>
            <a:chExt cx="1237680" cy="864720"/>
          </a:xfrm>
        </p:grpSpPr>
        <p:sp>
          <p:nvSpPr>
            <p:cNvPr id="796" name=""/>
            <p:cNvSpPr/>
            <p:nvPr/>
          </p:nvSpPr>
          <p:spPr>
            <a:xfrm rot="18000000">
              <a:off x="5441400" y="4212360"/>
              <a:ext cx="136440" cy="1096920"/>
            </a:xfrm>
            <a:prstGeom prst="can">
              <a:avLst>
                <a:gd name="adj" fmla="val 434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108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800000">
              <a:off x="5042520" y="4518360"/>
              <a:ext cx="1218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ahoma"/>
                  <a:ea typeface="新細明體"/>
                </a:rPr>
                <a:t>Weight 3=75%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005360" y="4351680"/>
            <a:ext cx="1704600" cy="1111320"/>
            <a:chOff x="4005360" y="4351680"/>
            <a:chExt cx="1704600" cy="1111320"/>
          </a:xfrm>
        </p:grpSpPr>
        <p:sp>
          <p:nvSpPr>
            <p:cNvPr id="799" name=""/>
            <p:cNvSpPr/>
            <p:nvPr/>
          </p:nvSpPr>
          <p:spPr>
            <a:xfrm rot="1800000">
              <a:off x="3957120" y="4789800"/>
              <a:ext cx="18158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ahoma"/>
                  <a:ea typeface="新細明體"/>
                </a:rPr>
                <a:t>Weight 1=25%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8000000">
              <a:off x="4503240" y="4254480"/>
              <a:ext cx="66600" cy="1188360"/>
            </a:xfrm>
            <a:prstGeom prst="can">
              <a:avLst>
                <a:gd name="adj" fmla="val 434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108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3608280" y="3886200"/>
            <a:ext cx="19044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03680" y="3809880"/>
            <a:ext cx="109692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529320" y="5402160"/>
            <a:ext cx="292320" cy="243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813280" y="5591160"/>
            <a:ext cx="416160" cy="241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19520" y="32767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1981080" y="335268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828800" y="35812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62320" y="3352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4800600" y="3581280"/>
            <a:ext cx="1683000" cy="508680"/>
            <a:chOff x="4800600" y="3581280"/>
            <a:chExt cx="1683000" cy="508680"/>
          </a:xfrm>
        </p:grpSpPr>
        <p:sp>
          <p:nvSpPr>
            <p:cNvPr id="810" name=""/>
            <p:cNvSpPr/>
            <p:nvPr/>
          </p:nvSpPr>
          <p:spPr>
            <a:xfrm>
              <a:off x="4800600" y="3654000"/>
              <a:ext cx="236160" cy="218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033160" y="3581280"/>
              <a:ext cx="14504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400" spc="-1" strike="noStrike" u="sng">
                  <a:solidFill>
                    <a:srgbClr val="003300"/>
                  </a:solidFill>
                  <a:uFillTx/>
                  <a:latin typeface="Arial"/>
                  <a:ea typeface="新細明體"/>
                </a:rPr>
                <a:t>T1 Leased Line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Arial"/>
                  <a:ea typeface="新細明體"/>
                </a:rPr>
                <a:t>1.5 MB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666880" y="5105520"/>
            <a:ext cx="2285640" cy="508680"/>
            <a:chOff x="2666880" y="5105520"/>
            <a:chExt cx="2285640" cy="508680"/>
          </a:xfrm>
        </p:grpSpPr>
        <p:sp>
          <p:nvSpPr>
            <p:cNvPr id="813" name=""/>
            <p:cNvSpPr/>
            <p:nvPr/>
          </p:nvSpPr>
          <p:spPr>
            <a:xfrm>
              <a:off x="2958840" y="5105520"/>
              <a:ext cx="19936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400" spc="-1" strike="noStrike" u="sng">
                  <a:solidFill>
                    <a:srgbClr val="003300"/>
                  </a:solidFill>
                  <a:uFillTx/>
                  <a:latin typeface="Arial"/>
                  <a:ea typeface="新細明體"/>
                </a:rPr>
                <a:t>xDSL/ Cable Modem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Arial"/>
                  <a:ea typeface="新細明體"/>
                </a:rPr>
                <a:t>512 KB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666880" y="5191560"/>
              <a:ext cx="291960" cy="258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4132440" y="1297080"/>
            <a:ext cx="495288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標楷體"/>
              </a:rPr>
              <a:t>Weighted load balance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For example: Bandwidth of T1 leased line (WAN1) is three times faster than 512K ADSL line (WAN2). We could assign load weight 3: 1 for WAN1 vs. WAN2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16" name="Device-2" descr=""/>
          <p:cNvPicPr/>
          <p:nvPr/>
        </p:nvPicPr>
        <p:blipFill>
          <a:blip r:embed="rId21"/>
          <a:stretch/>
        </p:blipFill>
        <p:spPr>
          <a:xfrm>
            <a:off x="4686480" y="4211640"/>
            <a:ext cx="488880" cy="268200"/>
          </a:xfrm>
          <a:prstGeom prst="rect">
            <a:avLst/>
          </a:prstGeom>
          <a:ln w="0">
            <a:noFill/>
          </a:ln>
        </p:spPr>
      </p:pic>
      <p:pic>
        <p:nvPicPr>
          <p:cNvPr id="817" name="Device-2" descr=""/>
          <p:cNvPicPr/>
          <p:nvPr/>
        </p:nvPicPr>
        <p:blipFill>
          <a:blip r:embed="rId22"/>
          <a:stretch/>
        </p:blipFill>
        <p:spPr>
          <a:xfrm>
            <a:off x="3695760" y="4238640"/>
            <a:ext cx="488880" cy="268200"/>
          </a:xfrm>
          <a:prstGeom prst="rect">
            <a:avLst/>
          </a:prstGeom>
          <a:ln w="0">
            <a:noFill/>
          </a:ln>
        </p:spPr>
      </p:pic>
      <p:pic>
        <p:nvPicPr>
          <p:cNvPr id="818" name="des-3105-1" descr=""/>
          <p:cNvPicPr/>
          <p:nvPr/>
        </p:nvPicPr>
        <p:blipFill>
          <a:blip r:embed="rId23"/>
          <a:stretch/>
        </p:blipFill>
        <p:spPr>
          <a:xfrm>
            <a:off x="2438280" y="3576600"/>
            <a:ext cx="1541520" cy="51264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24"/>
          <a:stretch/>
        </p:blipFill>
        <p:spPr>
          <a:xfrm>
            <a:off x="4184640" y="4010040"/>
            <a:ext cx="312840" cy="2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01520" y="2828880"/>
            <a:ext cx="2667240" cy="1371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8400" y="2957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標楷體"/>
              </a:rPr>
              <a:t>Remote use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09600" y="3352680"/>
            <a:ext cx="1519200" cy="459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Third-party VPN client softwar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268800" y="3311640"/>
            <a:ext cx="11793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998720" y="1593720"/>
            <a:ext cx="3022560" cy="115092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325600" y="3311640"/>
            <a:ext cx="70668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481720" y="1693800"/>
            <a:ext cx="2619360" cy="113508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4830840" y="3648240"/>
            <a:ext cx="501480" cy="26172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5232240" y="2365200"/>
            <a:ext cx="517680" cy="605160"/>
          </a:xfrm>
          <a:custGeom>
            <a:avLst/>
            <a:gdLst/>
            <a:ahLst/>
            <a:rect l="l" t="t" r="r" b="b"/>
            <a:pathLst>
              <a:path w="82" h="1180">
                <a:moveTo>
                  <a:pt x="82" y="0"/>
                </a:moveTo>
                <a:lnTo>
                  <a:pt x="0" y="0"/>
                </a:lnTo>
                <a:lnTo>
                  <a:pt x="0" y="1180"/>
                </a:ln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352680" y="166860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標楷體"/>
              </a:rPr>
              <a:t>Branch offi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95680" y="2382840"/>
            <a:ext cx="492120" cy="525600"/>
          </a:xfrm>
          <a:custGeom>
            <a:avLst/>
            <a:gdLst/>
            <a:ahLst/>
            <a:rect l="l" t="t" r="r" b="b"/>
            <a:pathLst>
              <a:path w="307" h="106">
                <a:moveTo>
                  <a:pt x="0" y="0"/>
                </a:moveTo>
                <a:lnTo>
                  <a:pt x="307" y="0"/>
                </a:lnTo>
                <a:lnTo>
                  <a:pt x="307" y="106"/>
                </a:ln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832360" y="16905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標楷體"/>
              </a:rPr>
              <a:t>Home offi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32" name="IPCLOUD" descr=""/>
          <p:cNvPicPr/>
          <p:nvPr/>
        </p:nvPicPr>
        <p:blipFill>
          <a:blip r:embed="rId2"/>
          <a:stretch/>
        </p:blipFill>
        <p:spPr>
          <a:xfrm>
            <a:off x="3787920" y="2744640"/>
            <a:ext cx="2313000" cy="88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3" name=""/>
          <p:cNvGraphicFramePr/>
          <p:nvPr/>
        </p:nvGraphicFramePr>
        <p:xfrm>
          <a:off x="6081840" y="2238480"/>
          <a:ext cx="765000" cy="2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1840" y="2238480"/>
                    <a:ext cx="76500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"/>
          <p:cNvGraphicFramePr/>
          <p:nvPr/>
        </p:nvGraphicFramePr>
        <p:xfrm>
          <a:off x="3332160" y="2247840"/>
          <a:ext cx="826920" cy="2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32160" y="2247840"/>
                    <a:ext cx="826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"/>
          <p:cNvSpPr/>
          <p:nvPr/>
        </p:nvSpPr>
        <p:spPr>
          <a:xfrm>
            <a:off x="6058080" y="2482920"/>
            <a:ext cx="13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標楷體"/>
              </a:rPr>
              <a:t>DFL-100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2193840" y="3179880"/>
            <a:ext cx="331200" cy="286560"/>
            <a:chOff x="2193840" y="3179880"/>
            <a:chExt cx="331200" cy="286560"/>
          </a:xfrm>
        </p:grpSpPr>
        <p:grpSp>
          <p:nvGrpSpPr>
            <p:cNvPr id="839" name=""/>
            <p:cNvGrpSpPr/>
            <p:nvPr/>
          </p:nvGrpSpPr>
          <p:grpSpPr>
            <a:xfrm>
              <a:off x="2193840" y="3364560"/>
              <a:ext cx="331200" cy="101880"/>
              <a:chOff x="2193840" y="3364560"/>
              <a:chExt cx="331200" cy="101880"/>
            </a:xfrm>
          </p:grpSpPr>
          <p:sp>
            <p:nvSpPr>
              <p:cNvPr id="840" name=""/>
              <p:cNvSpPr/>
              <p:nvPr/>
            </p:nvSpPr>
            <p:spPr>
              <a:xfrm>
                <a:off x="2193840" y="3366000"/>
                <a:ext cx="329400" cy="54000"/>
              </a:xfrm>
              <a:custGeom>
                <a:avLst/>
                <a:gdLst/>
                <a:ahLst/>
                <a:rect l="l" t="t" r="r" b="b"/>
                <a:pathLst>
                  <a:path w="164" h="30">
                    <a:moveTo>
                      <a:pt x="24" y="8"/>
                    </a:moveTo>
                    <a:lnTo>
                      <a:pt x="0" y="25"/>
                    </a:lnTo>
                    <a:lnTo>
                      <a:pt x="124" y="29"/>
                    </a:lnTo>
                    <a:lnTo>
                      <a:pt x="163" y="2"/>
                    </a:lnTo>
                    <a:lnTo>
                      <a:pt x="39" y="0"/>
                    </a:lnTo>
                    <a:lnTo>
                      <a:pt x="24" y="8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193840" y="3412800"/>
                <a:ext cx="252720" cy="53640"/>
              </a:xfrm>
              <a:custGeom>
                <a:avLst/>
                <a:gdLst/>
                <a:ahLst/>
                <a:rect l="l" t="t" r="r" b="b"/>
                <a:pathLst>
                  <a:path w="126" h="30">
                    <a:moveTo>
                      <a:pt x="0" y="0"/>
                    </a:moveTo>
                    <a:lnTo>
                      <a:pt x="125" y="4"/>
                    </a:lnTo>
                    <a:lnTo>
                      <a:pt x="125" y="29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449080" y="3371760"/>
                <a:ext cx="75960" cy="9468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0" y="52"/>
                    </a:moveTo>
                    <a:lnTo>
                      <a:pt x="0" y="27"/>
                    </a:lnTo>
                    <a:lnTo>
                      <a:pt x="37" y="0"/>
                    </a:lnTo>
                    <a:lnTo>
                      <a:pt x="37" y="20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249640" y="3389760"/>
                <a:ext cx="189000" cy="30240"/>
              </a:xfrm>
              <a:custGeom>
                <a:avLst/>
                <a:gdLst/>
                <a:ahLst/>
                <a:rect l="l" t="t" r="r" b="b"/>
                <a:pathLst>
                  <a:path w="94" h="17">
                    <a:moveTo>
                      <a:pt x="0" y="11"/>
                    </a:moveTo>
                    <a:lnTo>
                      <a:pt x="0" y="0"/>
                    </a:lnTo>
                    <a:lnTo>
                      <a:pt x="93" y="5"/>
                    </a:lnTo>
                    <a:lnTo>
                      <a:pt x="93" y="1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436840" y="3369600"/>
                <a:ext cx="42120" cy="378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0"/>
                    </a:moveTo>
                    <a:lnTo>
                      <a:pt x="0" y="14"/>
                    </a:lnTo>
                    <a:lnTo>
                      <a:pt x="20" y="0"/>
                    </a:lnTo>
                    <a:lnTo>
                      <a:pt x="20" y="5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51440" y="3364560"/>
                <a:ext cx="227160" cy="34200"/>
              </a:xfrm>
              <a:custGeom>
                <a:avLst/>
                <a:gdLst/>
                <a:ahLst/>
                <a:rect l="l" t="t" r="r" b="b"/>
                <a:pathLst>
                  <a:path w="113" h="19">
                    <a:moveTo>
                      <a:pt x="0" y="15"/>
                    </a:moveTo>
                    <a:lnTo>
                      <a:pt x="91" y="18"/>
                    </a:lnTo>
                    <a:lnTo>
                      <a:pt x="112" y="2"/>
                    </a:lnTo>
                    <a:lnTo>
                      <a:pt x="24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2197440" y="3179880"/>
              <a:ext cx="303480" cy="200880"/>
              <a:chOff x="2197440" y="3179880"/>
              <a:chExt cx="303480" cy="200880"/>
            </a:xfrm>
          </p:grpSpPr>
          <p:sp>
            <p:nvSpPr>
              <p:cNvPr id="847" name=""/>
              <p:cNvSpPr/>
              <p:nvPr/>
            </p:nvSpPr>
            <p:spPr>
              <a:xfrm>
                <a:off x="2199600" y="3193920"/>
                <a:ext cx="246960" cy="186840"/>
              </a:xfrm>
              <a:custGeom>
                <a:avLst/>
                <a:gdLst/>
                <a:ahLst/>
                <a:rect l="l" t="t" r="r" b="b"/>
                <a:pathLst>
                  <a:path w="123" h="104">
                    <a:moveTo>
                      <a:pt x="0" y="0"/>
                    </a:moveTo>
                    <a:lnTo>
                      <a:pt x="0" y="100"/>
                    </a:lnTo>
                    <a:lnTo>
                      <a:pt x="122" y="103"/>
                    </a:lnTo>
                    <a:lnTo>
                      <a:pt x="122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197440" y="3179880"/>
                <a:ext cx="279360" cy="30240"/>
              </a:xfrm>
              <a:custGeom>
                <a:avLst/>
                <a:gdLst/>
                <a:ahLst/>
                <a:rect l="l" t="t" r="r" b="b"/>
                <a:pathLst>
                  <a:path w="139" h="17">
                    <a:moveTo>
                      <a:pt x="0" y="13"/>
                    </a:moveTo>
                    <a:lnTo>
                      <a:pt x="30" y="0"/>
                    </a:lnTo>
                    <a:lnTo>
                      <a:pt x="138" y="1"/>
                    </a:lnTo>
                    <a:lnTo>
                      <a:pt x="120" y="1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442600" y="3181320"/>
                <a:ext cx="38160" cy="197280"/>
              </a:xfrm>
              <a:custGeom>
                <a:avLst/>
                <a:gdLst/>
                <a:ahLst/>
                <a:rect l="l" t="t" r="r" b="b"/>
                <a:pathLst>
                  <a:path w="19" h="110">
                    <a:moveTo>
                      <a:pt x="0" y="109"/>
                    </a:moveTo>
                    <a:lnTo>
                      <a:pt x="0" y="8"/>
                    </a:lnTo>
                    <a:lnTo>
                      <a:pt x="18" y="0"/>
                    </a:lnTo>
                    <a:lnTo>
                      <a:pt x="18" y="92"/>
                    </a:lnTo>
                    <a:lnTo>
                      <a:pt x="0" y="109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29480" y="3219120"/>
                <a:ext cx="178560" cy="136080"/>
              </a:xfrm>
              <a:custGeom>
                <a:avLst/>
                <a:gdLst/>
                <a:ahLst/>
                <a:rect l="l" t="t" r="r" b="b"/>
                <a:pathLst>
                  <a:path w="89" h="76">
                    <a:moveTo>
                      <a:pt x="88" y="75"/>
                    </a:moveTo>
                    <a:lnTo>
                      <a:pt x="0" y="73"/>
                    </a:lnTo>
                    <a:lnTo>
                      <a:pt x="0" y="0"/>
                    </a:lnTo>
                    <a:lnTo>
                      <a:pt x="88" y="1"/>
                    </a:lnTo>
                    <a:lnTo>
                      <a:pt x="88" y="75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14ffb"/>
                  </a:gs>
                </a:gsLst>
                <a:path path="rect">
                  <a:fillToRect l="50000" t="50000" r="50000" b="50000"/>
                </a:path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485080" y="3201120"/>
                <a:ext cx="15840" cy="131040"/>
              </a:xfrm>
              <a:prstGeom prst="octagon">
                <a:avLst>
                  <a:gd name="adj" fmla="val 29282"/>
                </a:avLst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2" name=""/>
          <p:cNvSpPr/>
          <p:nvPr/>
        </p:nvSpPr>
        <p:spPr>
          <a:xfrm>
            <a:off x="3032280" y="3262320"/>
            <a:ext cx="236520" cy="100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738520" y="3311640"/>
            <a:ext cx="117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  <a:ea typeface="標楷體"/>
              </a:rPr>
              <a:t>ADSL modem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654520" y="2313000"/>
            <a:ext cx="236520" cy="100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64400" y="2352600"/>
            <a:ext cx="23652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7720" y="201600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Times New Roman"/>
                <a:ea typeface="標楷體"/>
              </a:rPr>
              <a:t>ADSL</a:t>
            </a:r>
            <a:r>
              <a:rPr b="1" i="1" lang="en-US" sz="1600" spc="-1" strike="noStrike">
                <a:solidFill>
                  <a:srgbClr val="003300"/>
                </a:solidFill>
                <a:latin typeface="Times New Roman"/>
                <a:ea typeface="標楷體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359240" y="2330280"/>
            <a:ext cx="235080" cy="100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79960" y="2371680"/>
            <a:ext cx="23652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268800" y="2446200"/>
            <a:ext cx="11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標楷體"/>
              </a:rPr>
              <a:t>DFL-100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994040" y="3627360"/>
            <a:ext cx="6476760" cy="3213000"/>
          </a:xfrm>
          <a:prstGeom prst="ellipse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7"/>
          <a:stretch/>
        </p:blipFill>
        <p:spPr>
          <a:xfrm>
            <a:off x="4724280" y="3854520"/>
            <a:ext cx="595440" cy="3157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5011560" y="4013280"/>
            <a:ext cx="0" cy="368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987800" y="4645080"/>
            <a:ext cx="0" cy="5792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8"/>
          <a:stretch/>
        </p:blipFill>
        <p:spPr>
          <a:xfrm>
            <a:off x="2989440" y="5224320"/>
            <a:ext cx="296640" cy="3682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865" name=""/>
          <p:cNvSpPr/>
          <p:nvPr/>
        </p:nvSpPr>
        <p:spPr>
          <a:xfrm>
            <a:off x="2103120" y="5224320"/>
            <a:ext cx="90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00"/>
                </a:solidFill>
                <a:latin typeface="Arial"/>
                <a:ea typeface="新細明體"/>
              </a:rPr>
              <a:t>O</a:t>
            </a:r>
            <a:r>
              <a:rPr b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S server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19680" y="4221000"/>
            <a:ext cx="118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3300"/>
                </a:solidFill>
                <a:latin typeface="Arial"/>
                <a:ea typeface="新細明體"/>
              </a:rPr>
              <a:t>WWW Server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360520" y="4476600"/>
            <a:ext cx="192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新細明體"/>
              </a:rPr>
              <a:t>DFL-3105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189400" y="4487760"/>
            <a:ext cx="15447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849360" y="42670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DMZ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275520" y="4487760"/>
            <a:ext cx="0" cy="1573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9"/>
          <a:stretch/>
        </p:blipFill>
        <p:spPr>
          <a:xfrm>
            <a:off x="6100920" y="4645080"/>
            <a:ext cx="296640" cy="36828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3286080" y="5383080"/>
            <a:ext cx="1062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159080" y="6010200"/>
            <a:ext cx="615600" cy="293400"/>
            <a:chOff x="4159080" y="6010200"/>
            <a:chExt cx="615600" cy="293400"/>
          </a:xfrm>
        </p:grpSpPr>
        <p:sp>
          <p:nvSpPr>
            <p:cNvPr id="874" name=""/>
            <p:cNvSpPr/>
            <p:nvPr/>
          </p:nvSpPr>
          <p:spPr>
            <a:xfrm>
              <a:off x="4286520" y="6010200"/>
              <a:ext cx="36000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59080" y="6243480"/>
              <a:ext cx="61560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24560" y="6271920"/>
              <a:ext cx="10728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299120" y="6173640"/>
            <a:ext cx="615600" cy="293400"/>
            <a:chOff x="4299120" y="6173640"/>
            <a:chExt cx="615600" cy="293400"/>
          </a:xfrm>
        </p:grpSpPr>
        <p:sp>
          <p:nvSpPr>
            <p:cNvPr id="878" name=""/>
            <p:cNvSpPr/>
            <p:nvPr/>
          </p:nvSpPr>
          <p:spPr>
            <a:xfrm>
              <a:off x="4426560" y="6173640"/>
              <a:ext cx="36000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299120" y="6406920"/>
              <a:ext cx="61560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64600" y="6435360"/>
              <a:ext cx="10728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417920" y="6278400"/>
            <a:ext cx="612360" cy="293400"/>
            <a:chOff x="4417920" y="6278400"/>
            <a:chExt cx="612360" cy="293400"/>
          </a:xfrm>
        </p:grpSpPr>
        <p:sp>
          <p:nvSpPr>
            <p:cNvPr id="882" name=""/>
            <p:cNvSpPr/>
            <p:nvPr/>
          </p:nvSpPr>
          <p:spPr>
            <a:xfrm>
              <a:off x="4545000" y="6278400"/>
              <a:ext cx="35820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17920" y="6511680"/>
              <a:ext cx="61236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880880" y="6540120"/>
              <a:ext cx="106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pic>
        <p:nvPicPr>
          <p:cNvPr id="885" name="" descr=""/>
          <p:cNvPicPr/>
          <p:nvPr/>
        </p:nvPicPr>
        <p:blipFill>
          <a:blip r:embed="rId10"/>
          <a:stretch/>
        </p:blipFill>
        <p:spPr>
          <a:xfrm>
            <a:off x="6853320" y="5119560"/>
            <a:ext cx="296640" cy="36828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5546880" y="5224320"/>
            <a:ext cx="13064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46880" y="5276880"/>
            <a:ext cx="13064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486400" y="5330880"/>
            <a:ext cx="136692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546880" y="5383080"/>
            <a:ext cx="13064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594320" y="5670720"/>
            <a:ext cx="3240" cy="4204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721400" y="5646600"/>
            <a:ext cx="2880" cy="6318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307840" y="381492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Router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3" name="des5024" descr=""/>
          <p:cNvPicPr/>
          <p:nvPr/>
        </p:nvPicPr>
        <p:blipFill>
          <a:blip r:embed="rId11"/>
          <a:stretch/>
        </p:blipFill>
        <p:spPr>
          <a:xfrm>
            <a:off x="4287960" y="5119560"/>
            <a:ext cx="1366560" cy="5842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12"/>
          <a:stretch/>
        </p:blipFill>
        <p:spPr>
          <a:xfrm>
            <a:off x="5288040" y="5722920"/>
            <a:ext cx="1511280" cy="36828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5611680" y="6056280"/>
            <a:ext cx="0" cy="2635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033960" y="5972040"/>
            <a:ext cx="0" cy="331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222960" y="5962680"/>
            <a:ext cx="511200" cy="407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469200" y="5962680"/>
            <a:ext cx="439560" cy="2937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427720" y="6248520"/>
            <a:ext cx="406440" cy="293040"/>
            <a:chOff x="5427720" y="6248520"/>
            <a:chExt cx="406440" cy="293040"/>
          </a:xfrm>
        </p:grpSpPr>
        <p:sp>
          <p:nvSpPr>
            <p:cNvPr id="900" name=""/>
            <p:cNvSpPr/>
            <p:nvPr/>
          </p:nvSpPr>
          <p:spPr>
            <a:xfrm>
              <a:off x="5511960" y="6248520"/>
              <a:ext cx="237600" cy="17496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427720" y="6481440"/>
              <a:ext cx="40644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734800" y="6510240"/>
              <a:ext cx="70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5902200" y="6330960"/>
            <a:ext cx="405000" cy="293400"/>
            <a:chOff x="5902200" y="6330960"/>
            <a:chExt cx="405000" cy="293400"/>
          </a:xfrm>
        </p:grpSpPr>
        <p:sp>
          <p:nvSpPr>
            <p:cNvPr id="904" name=""/>
            <p:cNvSpPr/>
            <p:nvPr/>
          </p:nvSpPr>
          <p:spPr>
            <a:xfrm>
              <a:off x="5986080" y="6330960"/>
              <a:ext cx="23688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902200" y="6564240"/>
              <a:ext cx="40500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08200" y="6592680"/>
              <a:ext cx="70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6469200" y="6319800"/>
            <a:ext cx="406440" cy="294840"/>
            <a:chOff x="6469200" y="6319800"/>
            <a:chExt cx="406440" cy="294840"/>
          </a:xfrm>
        </p:grpSpPr>
        <p:sp>
          <p:nvSpPr>
            <p:cNvPr id="908" name=""/>
            <p:cNvSpPr/>
            <p:nvPr/>
          </p:nvSpPr>
          <p:spPr>
            <a:xfrm>
              <a:off x="6553440" y="6319800"/>
              <a:ext cx="237600" cy="17604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469200" y="6554160"/>
              <a:ext cx="406440" cy="6048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76280" y="6582960"/>
              <a:ext cx="70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791400" y="6195960"/>
            <a:ext cx="406440" cy="293400"/>
            <a:chOff x="6791400" y="6195960"/>
            <a:chExt cx="406440" cy="293400"/>
          </a:xfrm>
        </p:grpSpPr>
        <p:sp>
          <p:nvSpPr>
            <p:cNvPr id="912" name=""/>
            <p:cNvSpPr/>
            <p:nvPr/>
          </p:nvSpPr>
          <p:spPr>
            <a:xfrm>
              <a:off x="6875640" y="6195960"/>
              <a:ext cx="23760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791400" y="6429240"/>
              <a:ext cx="40644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098480" y="6457680"/>
              <a:ext cx="70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5249880" y="5487840"/>
            <a:ext cx="534960" cy="3682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69040" y="5487840"/>
            <a:ext cx="533160" cy="3682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734160" y="4487760"/>
            <a:ext cx="0" cy="1573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3"/>
          <a:stretch/>
        </p:blipFill>
        <p:spPr>
          <a:xfrm>
            <a:off x="6611760" y="4645080"/>
            <a:ext cx="297000" cy="36828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7110000" y="5170320"/>
            <a:ext cx="90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00"/>
                </a:solidFill>
                <a:latin typeface="Arial"/>
                <a:ea typeface="新細明體"/>
              </a:rPr>
              <a:t>O</a:t>
            </a:r>
            <a:r>
              <a:rPr b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S server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00200" y="3324240"/>
            <a:ext cx="2392560" cy="1019160"/>
          </a:xfrm>
          <a:custGeom>
            <a:avLst/>
            <a:gdLst/>
            <a:ahLst/>
            <a:rect l="l" t="t" r="r" b="b"/>
            <a:pathLst>
              <a:path w="1536" h="1152">
                <a:moveTo>
                  <a:pt x="0" y="0"/>
                </a:moveTo>
                <a:cubicBezTo>
                  <a:pt x="472" y="0"/>
                  <a:pt x="944" y="0"/>
                  <a:pt x="1200" y="192"/>
                </a:cubicBezTo>
                <a:cubicBezTo>
                  <a:pt x="1456" y="384"/>
                  <a:pt x="1480" y="992"/>
                  <a:pt x="1536" y="1152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243320" y="2330280"/>
            <a:ext cx="768240" cy="205128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32" y="68"/>
                  <a:pt x="264" y="136"/>
                  <a:pt x="336" y="240"/>
                </a:cubicBezTo>
                <a:cubicBezTo>
                  <a:pt x="408" y="344"/>
                  <a:pt x="420" y="484"/>
                  <a:pt x="432" y="624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189400" y="2413080"/>
            <a:ext cx="990720" cy="1969920"/>
          </a:xfrm>
          <a:custGeom>
            <a:avLst/>
            <a:gdLst/>
            <a:ahLst/>
            <a:rect l="l" t="t" r="r" b="b"/>
            <a:pathLst>
              <a:path w="288" h="768">
                <a:moveTo>
                  <a:pt x="288" y="0"/>
                </a:moveTo>
                <a:cubicBezTo>
                  <a:pt x="192" y="56"/>
                  <a:pt x="96" y="112"/>
                  <a:pt x="48" y="240"/>
                </a:cubicBezTo>
                <a:cubicBezTo>
                  <a:pt x="0" y="368"/>
                  <a:pt x="0" y="568"/>
                  <a:pt x="0" y="768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138480" y="2341440"/>
            <a:ext cx="22860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4"/>
          <a:stretch/>
        </p:blipFill>
        <p:spPr>
          <a:xfrm>
            <a:off x="1828800" y="350532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5"/>
          <a:stretch/>
        </p:blipFill>
        <p:spPr>
          <a:xfrm>
            <a:off x="6908760" y="1714680"/>
            <a:ext cx="1143000" cy="85068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6"/>
          <a:stretch/>
        </p:blipFill>
        <p:spPr>
          <a:xfrm>
            <a:off x="2732040" y="129528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7"/>
          <a:stretch/>
        </p:blipFill>
        <p:spPr>
          <a:xfrm>
            <a:off x="2438280" y="1555920"/>
            <a:ext cx="330480" cy="448920"/>
          </a:xfrm>
          <a:prstGeom prst="rect">
            <a:avLst/>
          </a:prstGeom>
          <a:ln w="0">
            <a:noFill/>
          </a:ln>
        </p:spPr>
      </p:pic>
      <p:grpSp>
        <p:nvGrpSpPr>
          <p:cNvPr id="928" name=""/>
          <p:cNvGrpSpPr/>
          <p:nvPr/>
        </p:nvGrpSpPr>
        <p:grpSpPr>
          <a:xfrm>
            <a:off x="2549520" y="1859040"/>
            <a:ext cx="304560" cy="533160"/>
            <a:chOff x="2549520" y="1859040"/>
            <a:chExt cx="304560" cy="533160"/>
          </a:xfrm>
        </p:grpSpPr>
        <p:grpSp>
          <p:nvGrpSpPr>
            <p:cNvPr id="929" name=""/>
            <p:cNvGrpSpPr/>
            <p:nvPr/>
          </p:nvGrpSpPr>
          <p:grpSpPr>
            <a:xfrm>
              <a:off x="2557440" y="1865520"/>
              <a:ext cx="291600" cy="511560"/>
              <a:chOff x="2557440" y="1865520"/>
              <a:chExt cx="291600" cy="511560"/>
            </a:xfrm>
          </p:grpSpPr>
          <p:sp>
            <p:nvSpPr>
              <p:cNvPr id="930" name=""/>
              <p:cNvSpPr/>
              <p:nvPr/>
            </p:nvSpPr>
            <p:spPr>
              <a:xfrm>
                <a:off x="2747160" y="1914840"/>
                <a:ext cx="90360" cy="25272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567160" y="1865520"/>
                <a:ext cx="270360" cy="8856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567160" y="1902600"/>
                <a:ext cx="181440" cy="46872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747160" y="2111760"/>
                <a:ext cx="90360" cy="26136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36080" y="2311200"/>
                <a:ext cx="12960" cy="24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557440" y="2300760"/>
                <a:ext cx="191160" cy="7632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735280" y="235008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2833200" y="2321280"/>
              <a:ext cx="1620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833200" y="2321280"/>
              <a:ext cx="1620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748600" y="1910160"/>
              <a:ext cx="92880" cy="24552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559960" y="1859040"/>
              <a:ext cx="281160" cy="9288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59960" y="1898280"/>
              <a:ext cx="189360" cy="48708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764800" y="1957320"/>
              <a:ext cx="61200" cy="52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64800" y="2011320"/>
              <a:ext cx="61200" cy="511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748600" y="2116080"/>
              <a:ext cx="92880" cy="2718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748600" y="2116080"/>
              <a:ext cx="92880" cy="3960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736720" y="1909080"/>
              <a:ext cx="104760" cy="428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736720" y="1948320"/>
              <a:ext cx="14040" cy="43704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49520" y="2313360"/>
              <a:ext cx="200160" cy="784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735640" y="2364840"/>
              <a:ext cx="14040" cy="273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40400" y="2322720"/>
              <a:ext cx="13680" cy="25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2314440" y="2004840"/>
            <a:ext cx="304560" cy="533160"/>
            <a:chOff x="2314440" y="2004840"/>
            <a:chExt cx="304560" cy="533160"/>
          </a:xfrm>
        </p:grpSpPr>
        <p:grpSp>
          <p:nvGrpSpPr>
            <p:cNvPr id="952" name=""/>
            <p:cNvGrpSpPr/>
            <p:nvPr/>
          </p:nvGrpSpPr>
          <p:grpSpPr>
            <a:xfrm>
              <a:off x="2322360" y="2011320"/>
              <a:ext cx="291600" cy="512280"/>
              <a:chOff x="2322360" y="2011320"/>
              <a:chExt cx="291600" cy="512280"/>
            </a:xfrm>
          </p:grpSpPr>
          <p:sp>
            <p:nvSpPr>
              <p:cNvPr id="953" name=""/>
              <p:cNvSpPr/>
              <p:nvPr/>
            </p:nvSpPr>
            <p:spPr>
              <a:xfrm>
                <a:off x="2512080" y="2060640"/>
                <a:ext cx="90360" cy="25308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332080" y="2011320"/>
                <a:ext cx="270360" cy="8892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332080" y="2048400"/>
                <a:ext cx="181440" cy="46908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512080" y="2257920"/>
                <a:ext cx="90360" cy="26136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601000" y="2457360"/>
                <a:ext cx="12960" cy="24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22360" y="2446920"/>
                <a:ext cx="191160" cy="7668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500200" y="249624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2598120" y="2467440"/>
              <a:ext cx="1620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98120" y="2467440"/>
              <a:ext cx="1620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13520" y="2055960"/>
              <a:ext cx="92880" cy="24588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24880" y="2004840"/>
              <a:ext cx="281160" cy="9324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24880" y="2044080"/>
              <a:ext cx="189360" cy="48744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29720" y="2103480"/>
              <a:ext cx="61200" cy="52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9720" y="2157120"/>
              <a:ext cx="61200" cy="511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3520" y="2262240"/>
              <a:ext cx="92880" cy="2718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13520" y="2262240"/>
              <a:ext cx="92880" cy="3960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01640" y="2054880"/>
              <a:ext cx="104760" cy="432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01640" y="2094120"/>
              <a:ext cx="14040" cy="43740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314440" y="2459520"/>
              <a:ext cx="200160" cy="784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0560" y="2510640"/>
              <a:ext cx="14040" cy="273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05320" y="2468880"/>
              <a:ext cx="13680" cy="25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2804760" y="2093760"/>
            <a:ext cx="381240" cy="384480"/>
            <a:chOff x="2804760" y="2093760"/>
            <a:chExt cx="381240" cy="384480"/>
          </a:xfrm>
        </p:grpSpPr>
        <p:grpSp>
          <p:nvGrpSpPr>
            <p:cNvPr id="975" name=""/>
            <p:cNvGrpSpPr/>
            <p:nvPr/>
          </p:nvGrpSpPr>
          <p:grpSpPr>
            <a:xfrm>
              <a:off x="2817360" y="2294280"/>
              <a:ext cx="368640" cy="183960"/>
              <a:chOff x="2817360" y="2294280"/>
              <a:chExt cx="368640" cy="183960"/>
            </a:xfrm>
          </p:grpSpPr>
          <p:sp>
            <p:nvSpPr>
              <p:cNvPr id="976" name=""/>
              <p:cNvSpPr/>
              <p:nvPr/>
            </p:nvSpPr>
            <p:spPr>
              <a:xfrm>
                <a:off x="2817720" y="2341800"/>
                <a:ext cx="127440" cy="136080"/>
              </a:xfrm>
              <a:custGeom>
                <a:avLst/>
                <a:gdLst/>
                <a:ahLst/>
                <a:rect l="l" t="t" r="r" b="b"/>
                <a:pathLst>
                  <a:path w="289" h="334">
                    <a:moveTo>
                      <a:pt x="289" y="174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288" y="334"/>
                    </a:lnTo>
                  </a:path>
                </a:pathLst>
              </a:custGeom>
              <a:blipFill rotWithShape="0">
                <a:blip r:embed="rId18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2817360" y="2294280"/>
                <a:ext cx="368640" cy="11808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19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2944800" y="2352240"/>
                <a:ext cx="241200" cy="12600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20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979" name=""/>
              <p:cNvGrpSpPr/>
              <p:nvPr/>
            </p:nvGrpSpPr>
            <p:grpSpPr>
              <a:xfrm>
                <a:off x="2957400" y="2401560"/>
                <a:ext cx="97560" cy="55080"/>
                <a:chOff x="2957400" y="2401560"/>
                <a:chExt cx="97560" cy="55080"/>
              </a:xfrm>
            </p:grpSpPr>
            <p:sp>
              <p:nvSpPr>
                <p:cNvPr id="980" name=""/>
                <p:cNvSpPr/>
                <p:nvPr/>
              </p:nvSpPr>
              <p:spPr>
                <a:xfrm flipH="1">
                  <a:off x="2957400" y="240156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>
                  <a:off x="2957400" y="241128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2957400" y="242136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>
                  <a:off x="2957400" y="243144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073320" y="2367360"/>
                <a:ext cx="96840" cy="63720"/>
                <a:chOff x="3073320" y="2367360"/>
                <a:chExt cx="96840" cy="63720"/>
              </a:xfrm>
            </p:grpSpPr>
            <p:sp>
              <p:nvSpPr>
                <p:cNvPr id="985" name=""/>
                <p:cNvSpPr/>
                <p:nvPr/>
              </p:nvSpPr>
              <p:spPr>
                <a:xfrm flipH="1">
                  <a:off x="3074760" y="2367720"/>
                  <a:ext cx="94680" cy="612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>
                  <a:off x="3076920" y="2390400"/>
                  <a:ext cx="91440" cy="2160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>
                  <a:off x="3075120" y="2367360"/>
                  <a:ext cx="94680" cy="3708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9720" bIns="972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>
                  <a:off x="3087720" y="2379600"/>
                  <a:ext cx="74160" cy="169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>
                  <a:off x="3146040" y="2401560"/>
                  <a:ext cx="13680" cy="2160"/>
                </a:xfrm>
                <a:prstGeom prst="line">
                  <a:avLst/>
                </a:prstGeom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>
                  <a:off x="3116160" y="2383920"/>
                  <a:ext cx="22320" cy="115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5840" bIns="-1584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>
                  <a:off x="3073320" y="2393640"/>
                  <a:ext cx="95760" cy="3744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2" name=""/>
            <p:cNvGrpSpPr/>
            <p:nvPr/>
          </p:nvGrpSpPr>
          <p:grpSpPr>
            <a:xfrm>
              <a:off x="2804760" y="2093760"/>
              <a:ext cx="345240" cy="299880"/>
              <a:chOff x="2804760" y="2093760"/>
              <a:chExt cx="345240" cy="299880"/>
            </a:xfrm>
          </p:grpSpPr>
          <p:sp>
            <p:nvSpPr>
              <p:cNvPr id="993" name=""/>
              <p:cNvSpPr/>
              <p:nvPr/>
            </p:nvSpPr>
            <p:spPr>
              <a:xfrm flipH="1">
                <a:off x="2855520" y="2288880"/>
                <a:ext cx="268560" cy="1047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2859840" y="2290680"/>
                <a:ext cx="259560" cy="9288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2920320" y="2313720"/>
                <a:ext cx="135360" cy="500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2911320" y="2315880"/>
                <a:ext cx="218160" cy="558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2804400" y="2093760"/>
                <a:ext cx="272520" cy="23220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21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2852640" y="2145240"/>
                <a:ext cx="54720" cy="22572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2852640" y="2096280"/>
                <a:ext cx="297360" cy="7668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2906640" y="2118960"/>
                <a:ext cx="242280" cy="25272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22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2925720" y="2141280"/>
                <a:ext cx="205200" cy="20736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2937960" y="2155320"/>
                <a:ext cx="179640" cy="17820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102840" y="2170080"/>
                <a:ext cx="0" cy="27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4" name=""/>
          <p:cNvSpPr/>
          <p:nvPr/>
        </p:nvSpPr>
        <p:spPr>
          <a:xfrm>
            <a:off x="2651040" y="400212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標楷體"/>
              </a:rPr>
              <a:t>Head quart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32320" y="3627360"/>
            <a:ext cx="10130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274800" y="347508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VPN Tunnels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139800" y="506520"/>
            <a:ext cx="275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VPN Application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467240" y="296064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Interne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09" name="des-3105-3" descr=""/>
          <p:cNvPicPr/>
          <p:nvPr/>
        </p:nvPicPr>
        <p:blipFill>
          <a:blip r:embed="rId24"/>
          <a:stretch/>
        </p:blipFill>
        <p:spPr>
          <a:xfrm>
            <a:off x="3813120" y="4267080"/>
            <a:ext cx="2203560" cy="77976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5045040" y="3441600"/>
            <a:ext cx="0" cy="40824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1143000" y="60948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962520" y="3885840"/>
            <a:ext cx="0" cy="152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276720" y="2819520"/>
            <a:ext cx="144756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219640" y="3549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Rout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685800" y="2438280"/>
            <a:ext cx="2361960" cy="1676520"/>
            <a:chOff x="685800" y="2438280"/>
            <a:chExt cx="2361960" cy="1676520"/>
          </a:xfrm>
        </p:grpSpPr>
        <p:sp>
          <p:nvSpPr>
            <p:cNvPr id="1016" name=""/>
            <p:cNvSpPr/>
            <p:nvPr/>
          </p:nvSpPr>
          <p:spPr>
            <a:xfrm>
              <a:off x="685800" y="2438280"/>
              <a:ext cx="2133360" cy="1676520"/>
            </a:xfrm>
            <a:prstGeom prst="parallelogram">
              <a:avLst>
                <a:gd name="adj" fmla="val 4762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cc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017" name=""/>
            <p:cNvGrpSpPr/>
            <p:nvPr/>
          </p:nvGrpSpPr>
          <p:grpSpPr>
            <a:xfrm>
              <a:off x="1218960" y="2666880"/>
              <a:ext cx="990360" cy="1295280"/>
              <a:chOff x="1218960" y="2666880"/>
              <a:chExt cx="990360" cy="1295280"/>
            </a:xfrm>
          </p:grpSpPr>
          <p:pic>
            <p:nvPicPr>
              <p:cNvPr id="10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160" y="2666880"/>
                <a:ext cx="53316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520" y="2895480"/>
                <a:ext cx="533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71240" y="3200400"/>
                <a:ext cx="53352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18960" y="3429000"/>
                <a:ext cx="533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2" name=""/>
            <p:cNvGrpSpPr/>
            <p:nvPr/>
          </p:nvGrpSpPr>
          <p:grpSpPr>
            <a:xfrm>
              <a:off x="1676160" y="3200400"/>
              <a:ext cx="1066680" cy="762120"/>
              <a:chOff x="1676160" y="3200400"/>
              <a:chExt cx="1066680" cy="762120"/>
            </a:xfrm>
          </p:grpSpPr>
          <p:sp>
            <p:nvSpPr>
              <p:cNvPr id="1023" name=""/>
              <p:cNvSpPr/>
              <p:nvPr/>
            </p:nvSpPr>
            <p:spPr>
              <a:xfrm flipH="1">
                <a:off x="1942200" y="3200400"/>
                <a:ext cx="333720" cy="762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1676160" y="3962520"/>
                <a:ext cx="2664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809360" y="3733920"/>
                <a:ext cx="233280" cy="1440"/>
              </a:xfrm>
              <a:custGeom>
                <a:avLst/>
                <a:gdLst/>
                <a:ahLst/>
                <a:rect l="l" t="t" r="r" b="b"/>
                <a:pathLst>
                  <a:path w="168" h="1">
                    <a:moveTo>
                      <a:pt x="168" y="0"/>
                    </a:moveTo>
                    <a:lnTo>
                      <a:pt x="0" y="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42560" y="3429000"/>
                <a:ext cx="8002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076120" y="3200400"/>
                <a:ext cx="210960" cy="180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pic>
          <p:nvPicPr>
            <p:cNvPr id="1028" name="" descr=""/>
            <p:cNvPicPr/>
            <p:nvPr/>
          </p:nvPicPr>
          <p:blipFill>
            <a:blip r:embed="rId5"/>
            <a:stretch/>
          </p:blipFill>
          <p:spPr>
            <a:xfrm>
              <a:off x="2590560" y="3124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9" name="" descr=""/>
          <p:cNvPicPr/>
          <p:nvPr/>
        </p:nvPicPr>
        <p:blipFill>
          <a:blip r:embed="rId6"/>
          <a:stretch/>
        </p:blipFill>
        <p:spPr>
          <a:xfrm>
            <a:off x="4267080" y="4941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1600200" y="49528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619440" y="4511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新細明體"/>
              </a:rPr>
              <a:t>DMZ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981080" y="4724280"/>
            <a:ext cx="381240" cy="685800"/>
            <a:chOff x="1981080" y="4724280"/>
            <a:chExt cx="381240" cy="685800"/>
          </a:xfrm>
        </p:grpSpPr>
        <p:sp>
          <p:nvSpPr>
            <p:cNvPr id="1033" name=""/>
            <p:cNvSpPr/>
            <p:nvPr/>
          </p:nvSpPr>
          <p:spPr>
            <a:xfrm>
              <a:off x="2242080" y="5036040"/>
              <a:ext cx="52920" cy="5364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0" y="44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3" y="44"/>
                  </a:lnTo>
                  <a:lnTo>
                    <a:pt x="0" y="44"/>
                  </a:lnTo>
                </a:path>
              </a:pathLst>
            </a:custGeom>
            <a:solidFill>
              <a:srgbClr val="f9f9f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311560" y="5036040"/>
              <a:ext cx="50760" cy="53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44"/>
                  </a:lnTo>
                  <a:lnTo>
                    <a:pt x="0" y="44"/>
                  </a:lnTo>
                </a:path>
              </a:pathLst>
            </a:custGeom>
            <a:solidFill>
              <a:srgbClr val="776f65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178000" y="4797000"/>
              <a:ext cx="174240" cy="611640"/>
            </a:xfrm>
            <a:custGeom>
              <a:avLst/>
              <a:gdLst/>
              <a:ahLst/>
              <a:rect l="l" t="t" r="r" b="b"/>
              <a:pathLst>
                <a:path w="144" h="512">
                  <a:moveTo>
                    <a:pt x="143" y="0"/>
                  </a:moveTo>
                  <a:lnTo>
                    <a:pt x="143" y="455"/>
                  </a:lnTo>
                  <a:lnTo>
                    <a:pt x="0" y="511"/>
                  </a:lnTo>
                  <a:lnTo>
                    <a:pt x="0" y="20"/>
                  </a:lnTo>
                  <a:lnTo>
                    <a:pt x="143" y="0"/>
                  </a:lnTo>
                </a:path>
              </a:pathLst>
            </a:custGeom>
            <a:solidFill>
              <a:srgbClr val="e7d9c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981080" y="4724280"/>
              <a:ext cx="371160" cy="99000"/>
            </a:xfrm>
            <a:custGeom>
              <a:avLst/>
              <a:gdLst/>
              <a:ahLst/>
              <a:rect l="l" t="t" r="r" b="b"/>
              <a:pathLst>
                <a:path w="307" h="83">
                  <a:moveTo>
                    <a:pt x="306" y="61"/>
                  </a:moveTo>
                  <a:lnTo>
                    <a:pt x="143" y="0"/>
                  </a:lnTo>
                  <a:lnTo>
                    <a:pt x="0" y="19"/>
                  </a:lnTo>
                  <a:lnTo>
                    <a:pt x="162" y="82"/>
                  </a:lnTo>
                  <a:lnTo>
                    <a:pt x="306" y="61"/>
                  </a:lnTo>
                </a:path>
              </a:pathLst>
            </a:custGeom>
            <a:solidFill>
              <a:srgbClr val="f9f2e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983240" y="4749480"/>
              <a:ext cx="197280" cy="660600"/>
            </a:xfrm>
            <a:custGeom>
              <a:avLst/>
              <a:gdLst/>
              <a:ahLst/>
              <a:rect l="l" t="t" r="r" b="b"/>
              <a:pathLst>
                <a:path w="163" h="553">
                  <a:moveTo>
                    <a:pt x="162" y="63"/>
                  </a:moveTo>
                  <a:lnTo>
                    <a:pt x="0" y="0"/>
                  </a:lnTo>
                  <a:lnTo>
                    <a:pt x="0" y="455"/>
                  </a:lnTo>
                  <a:lnTo>
                    <a:pt x="162" y="552"/>
                  </a:lnTo>
                  <a:lnTo>
                    <a:pt x="162" y="63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191320" y="5071680"/>
              <a:ext cx="144000" cy="132480"/>
            </a:xfrm>
            <a:custGeom>
              <a:avLst/>
              <a:gdLst/>
              <a:ahLst/>
              <a:rect l="l" t="t" r="r" b="b"/>
              <a:pathLst>
                <a:path w="119" h="111">
                  <a:moveTo>
                    <a:pt x="118" y="0"/>
                  </a:moveTo>
                  <a:lnTo>
                    <a:pt x="118" y="76"/>
                  </a:lnTo>
                  <a:lnTo>
                    <a:pt x="0" y="110"/>
                  </a:lnTo>
                  <a:lnTo>
                    <a:pt x="0" y="31"/>
                  </a:lnTo>
                  <a:lnTo>
                    <a:pt x="118" y="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191320" y="4936680"/>
              <a:ext cx="144000" cy="132480"/>
            </a:xfrm>
            <a:custGeom>
              <a:avLst/>
              <a:gdLst/>
              <a:ahLst/>
              <a:rect l="l" t="t" r="r" b="b"/>
              <a:pathLst>
                <a:path w="119" h="111">
                  <a:moveTo>
                    <a:pt x="118" y="0"/>
                  </a:moveTo>
                  <a:lnTo>
                    <a:pt x="118" y="78"/>
                  </a:lnTo>
                  <a:lnTo>
                    <a:pt x="0" y="110"/>
                  </a:lnTo>
                  <a:lnTo>
                    <a:pt x="0" y="25"/>
                  </a:lnTo>
                  <a:lnTo>
                    <a:pt x="118" y="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334240" y="4935600"/>
              <a:ext cx="25200" cy="102600"/>
            </a:xfrm>
            <a:custGeom>
              <a:avLst/>
              <a:gdLst/>
              <a:ahLst/>
              <a:rect l="l" t="t" r="r" b="b"/>
              <a:pathLst>
                <a:path w="21" h="86">
                  <a:moveTo>
                    <a:pt x="0" y="0"/>
                  </a:moveTo>
                  <a:lnTo>
                    <a:pt x="20" y="0"/>
                  </a:lnTo>
                  <a:lnTo>
                    <a:pt x="20" y="85"/>
                  </a:lnTo>
                  <a:lnTo>
                    <a:pt x="0" y="79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192400" y="5031000"/>
              <a:ext cx="150120" cy="47880"/>
            </a:xfrm>
            <a:custGeom>
              <a:avLst/>
              <a:gdLst/>
              <a:ahLst/>
              <a:rect l="l" t="t" r="r" b="b"/>
              <a:pathLst>
                <a:path w="124" h="40">
                  <a:moveTo>
                    <a:pt x="123" y="5"/>
                  </a:moveTo>
                  <a:lnTo>
                    <a:pt x="116" y="0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123" y="5"/>
                  </a:lnTo>
                </a:path>
              </a:pathLst>
            </a:custGeom>
            <a:solidFill>
              <a:srgbClr val="fae8c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203560" y="5036040"/>
              <a:ext cx="156960" cy="57240"/>
            </a:xfrm>
            <a:custGeom>
              <a:avLst/>
              <a:gdLst/>
              <a:ahLst/>
              <a:rect l="l" t="t" r="r" b="b"/>
              <a:pathLst>
                <a:path w="130" h="48">
                  <a:moveTo>
                    <a:pt x="122" y="0"/>
                  </a:moveTo>
                  <a:lnTo>
                    <a:pt x="129" y="15"/>
                  </a:lnTo>
                  <a:lnTo>
                    <a:pt x="7" y="47"/>
                  </a:lnTo>
                  <a:lnTo>
                    <a:pt x="0" y="31"/>
                  </a:lnTo>
                  <a:lnTo>
                    <a:pt x="122" y="0"/>
                  </a:lnTo>
                </a:path>
              </a:pathLst>
            </a:custGeom>
            <a:solidFill>
              <a:srgbClr val="e8d7b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3560" y="5055120"/>
              <a:ext cx="156960" cy="51120"/>
            </a:xfrm>
            <a:custGeom>
              <a:avLst/>
              <a:gdLst/>
              <a:ahLst/>
              <a:rect l="l" t="t" r="r" b="b"/>
              <a:pathLst>
                <a:path w="130" h="43">
                  <a:moveTo>
                    <a:pt x="129" y="0"/>
                  </a:moveTo>
                  <a:lnTo>
                    <a:pt x="122" y="10"/>
                  </a:lnTo>
                  <a:lnTo>
                    <a:pt x="0" y="42"/>
                  </a:lnTo>
                  <a:lnTo>
                    <a:pt x="7" y="31"/>
                  </a:lnTo>
                  <a:lnTo>
                    <a:pt x="129" y="0"/>
                  </a:lnTo>
                </a:path>
              </a:pathLst>
            </a:custGeom>
            <a:solidFill>
              <a:srgbClr val="beb098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03560" y="5073120"/>
              <a:ext cx="25200" cy="32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0"/>
                  </a:moveTo>
                  <a:lnTo>
                    <a:pt x="20" y="15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34240" y="5068440"/>
              <a:ext cx="25200" cy="102600"/>
            </a:xfrm>
            <a:custGeom>
              <a:avLst/>
              <a:gdLst/>
              <a:ahLst/>
              <a:rect l="l" t="t" r="r" b="b"/>
              <a:pathLst>
                <a:path w="21" h="86">
                  <a:moveTo>
                    <a:pt x="0" y="1"/>
                  </a:moveTo>
                  <a:lnTo>
                    <a:pt x="20" y="0"/>
                  </a:lnTo>
                  <a:lnTo>
                    <a:pt x="20" y="85"/>
                  </a:lnTo>
                  <a:lnTo>
                    <a:pt x="0" y="79"/>
                  </a:lnTo>
                  <a:lnTo>
                    <a:pt x="0" y="1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92400" y="5164920"/>
              <a:ext cx="150120" cy="51480"/>
            </a:xfrm>
            <a:custGeom>
              <a:avLst/>
              <a:gdLst/>
              <a:ahLst/>
              <a:rect l="l" t="t" r="r" b="b"/>
              <a:pathLst>
                <a:path w="124" h="43">
                  <a:moveTo>
                    <a:pt x="116" y="0"/>
                  </a:moveTo>
                  <a:lnTo>
                    <a:pt x="123" y="5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116" y="0"/>
                  </a:lnTo>
                </a:path>
              </a:pathLst>
            </a:custGeom>
            <a:solidFill>
              <a:srgbClr val="fae8c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223000" y="4837680"/>
              <a:ext cx="80640" cy="4752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6" y="0"/>
                  </a:moveTo>
                  <a:lnTo>
                    <a:pt x="61" y="13"/>
                  </a:lnTo>
                  <a:lnTo>
                    <a:pt x="66" y="26"/>
                  </a:lnTo>
                  <a:lnTo>
                    <a:pt x="0" y="39"/>
                  </a:lnTo>
                  <a:lnTo>
                    <a:pt x="0" y="11"/>
                  </a:lnTo>
                  <a:lnTo>
                    <a:pt x="66" y="0"/>
                  </a:lnTo>
                </a:path>
              </a:pathLst>
            </a:custGeom>
            <a:solidFill>
              <a:srgbClr val="c6bba6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90240" y="4844520"/>
              <a:ext cx="153720" cy="3708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6" y="0"/>
                  </a:moveTo>
                  <a:lnTo>
                    <a:pt x="0" y="22"/>
                  </a:lnTo>
                  <a:lnTo>
                    <a:pt x="0" y="30"/>
                  </a:lnTo>
                  <a:lnTo>
                    <a:pt x="126" y="6"/>
                  </a:lnTo>
                  <a:lnTo>
                    <a:pt x="126" y="0"/>
                  </a:lnTo>
                </a:path>
              </a:pathLst>
            </a:custGeom>
            <a:solidFill>
              <a:srgbClr val="c6bba6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296800" y="4838760"/>
              <a:ext cx="2412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9" y="0"/>
                  </a:moveTo>
                  <a:lnTo>
                    <a:pt x="19" y="25"/>
                  </a:lnTo>
                  <a:lnTo>
                    <a:pt x="0" y="12"/>
                  </a:lnTo>
                  <a:lnTo>
                    <a:pt x="19" y="0"/>
                  </a:lnTo>
                </a:path>
              </a:pathLst>
            </a:custGeom>
            <a:solidFill>
              <a:srgbClr val="9d9484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96360" y="4848480"/>
              <a:ext cx="141480" cy="32040"/>
            </a:xfrm>
            <a:custGeom>
              <a:avLst/>
              <a:gdLst/>
              <a:ahLst/>
              <a:rect l="l" t="t" r="r" b="b"/>
              <a:pathLst>
                <a:path w="117" h="27">
                  <a:moveTo>
                    <a:pt x="116" y="0"/>
                  </a:moveTo>
                  <a:lnTo>
                    <a:pt x="0" y="21"/>
                  </a:lnTo>
                  <a:lnTo>
                    <a:pt x="0" y="26"/>
                  </a:lnTo>
                  <a:lnTo>
                    <a:pt x="116" y="3"/>
                  </a:lnTo>
                  <a:lnTo>
                    <a:pt x="116" y="0"/>
                  </a:lnTo>
                </a:path>
              </a:pathLst>
            </a:custGeom>
            <a:solidFill>
              <a:srgbClr val="413e3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097000" y="5338440"/>
              <a:ext cx="24120" cy="4392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19" y="27"/>
                  </a:moveTo>
                  <a:lnTo>
                    <a:pt x="0" y="36"/>
                  </a:lnTo>
                  <a:lnTo>
                    <a:pt x="19" y="0"/>
                  </a:lnTo>
                  <a:lnTo>
                    <a:pt x="19" y="27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067840" y="5324040"/>
              <a:ext cx="48240" cy="583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39" y="11"/>
                  </a:moveTo>
                  <a:lnTo>
                    <a:pt x="23" y="48"/>
                  </a:lnTo>
                  <a:lnTo>
                    <a:pt x="0" y="32"/>
                  </a:lnTo>
                  <a:lnTo>
                    <a:pt x="15" y="0"/>
                  </a:lnTo>
                  <a:lnTo>
                    <a:pt x="39" y="11"/>
                  </a:lnTo>
                </a:path>
              </a:pathLst>
            </a:custGeom>
            <a:solidFill>
              <a:srgbClr val="e8dac2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016000" y="5293080"/>
              <a:ext cx="24120" cy="381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23"/>
                  </a:moveTo>
                  <a:lnTo>
                    <a:pt x="0" y="31"/>
                  </a:lnTo>
                  <a:lnTo>
                    <a:pt x="19" y="0"/>
                  </a:lnTo>
                  <a:lnTo>
                    <a:pt x="19" y="23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995480" y="5280840"/>
              <a:ext cx="39600" cy="5148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2" y="10"/>
                  </a:moveTo>
                  <a:lnTo>
                    <a:pt x="19" y="42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2" y="10"/>
                  </a:lnTo>
                </a:path>
              </a:pathLst>
            </a:custGeom>
            <a:solidFill>
              <a:srgbClr val="e8dac2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73320" y="5213880"/>
              <a:ext cx="180360" cy="71640"/>
            </a:xfrm>
            <a:custGeom>
              <a:avLst/>
              <a:gdLst/>
              <a:ahLst/>
              <a:rect l="l" t="t" r="r" b="b"/>
              <a:pathLst>
                <a:path w="149" h="60">
                  <a:moveTo>
                    <a:pt x="148" y="10"/>
                  </a:moveTo>
                  <a:lnTo>
                    <a:pt x="3" y="59"/>
                  </a:lnTo>
                  <a:lnTo>
                    <a:pt x="0" y="46"/>
                  </a:lnTo>
                  <a:lnTo>
                    <a:pt x="144" y="0"/>
                  </a:lnTo>
                  <a:lnTo>
                    <a:pt x="148" y="10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173320" y="5199840"/>
              <a:ext cx="180360" cy="71640"/>
            </a:xfrm>
            <a:custGeom>
              <a:avLst/>
              <a:gdLst/>
              <a:ahLst/>
              <a:rect l="l" t="t" r="r" b="b"/>
              <a:pathLst>
                <a:path w="149" h="60">
                  <a:moveTo>
                    <a:pt x="144" y="11"/>
                  </a:moveTo>
                  <a:lnTo>
                    <a:pt x="0" y="59"/>
                  </a:lnTo>
                  <a:lnTo>
                    <a:pt x="3" y="48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73320" y="524160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8" y="11"/>
                  </a:moveTo>
                  <a:lnTo>
                    <a:pt x="3" y="61"/>
                  </a:lnTo>
                  <a:lnTo>
                    <a:pt x="0" y="47"/>
                  </a:lnTo>
                  <a:lnTo>
                    <a:pt x="144" y="0"/>
                  </a:lnTo>
                  <a:lnTo>
                    <a:pt x="148" y="11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173320" y="5227200"/>
              <a:ext cx="180360" cy="72720"/>
            </a:xfrm>
            <a:custGeom>
              <a:avLst/>
              <a:gdLst/>
              <a:ahLst/>
              <a:rect l="l" t="t" r="r" b="b"/>
              <a:pathLst>
                <a:path w="149" h="61">
                  <a:moveTo>
                    <a:pt x="144" y="11"/>
                  </a:moveTo>
                  <a:lnTo>
                    <a:pt x="0" y="60"/>
                  </a:lnTo>
                  <a:lnTo>
                    <a:pt x="3" y="49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73320" y="527004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8" y="11"/>
                  </a:moveTo>
                  <a:lnTo>
                    <a:pt x="3" y="61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148" y="11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73320" y="5254560"/>
              <a:ext cx="180360" cy="7524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4" y="11"/>
                  </a:moveTo>
                  <a:lnTo>
                    <a:pt x="0" y="62"/>
                  </a:lnTo>
                  <a:lnTo>
                    <a:pt x="3" y="51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73320" y="5297760"/>
              <a:ext cx="180360" cy="77400"/>
            </a:xfrm>
            <a:custGeom>
              <a:avLst/>
              <a:gdLst/>
              <a:ahLst/>
              <a:rect l="l" t="t" r="r" b="b"/>
              <a:pathLst>
                <a:path w="149" h="65">
                  <a:moveTo>
                    <a:pt x="148" y="10"/>
                  </a:moveTo>
                  <a:lnTo>
                    <a:pt x="3" y="64"/>
                  </a:lnTo>
                  <a:lnTo>
                    <a:pt x="0" y="51"/>
                  </a:lnTo>
                  <a:lnTo>
                    <a:pt x="144" y="0"/>
                  </a:lnTo>
                  <a:lnTo>
                    <a:pt x="148" y="10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73320" y="528444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4" y="10"/>
                  </a:moveTo>
                  <a:lnTo>
                    <a:pt x="0" y="61"/>
                  </a:lnTo>
                  <a:lnTo>
                    <a:pt x="3" y="50"/>
                  </a:lnTo>
                  <a:lnTo>
                    <a:pt x="148" y="0"/>
                  </a:lnTo>
                  <a:lnTo>
                    <a:pt x="144" y="1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03560" y="4902120"/>
              <a:ext cx="156960" cy="47520"/>
            </a:xfrm>
            <a:custGeom>
              <a:avLst/>
              <a:gdLst/>
              <a:ahLst/>
              <a:rect l="l" t="t" r="r" b="b"/>
              <a:pathLst>
                <a:path w="130" h="40">
                  <a:moveTo>
                    <a:pt x="122" y="0"/>
                  </a:moveTo>
                  <a:lnTo>
                    <a:pt x="129" y="14"/>
                  </a:lnTo>
                  <a:lnTo>
                    <a:pt x="7" y="39"/>
                  </a:lnTo>
                  <a:lnTo>
                    <a:pt x="0" y="23"/>
                  </a:lnTo>
                  <a:lnTo>
                    <a:pt x="122" y="0"/>
                  </a:lnTo>
                </a:path>
              </a:pathLst>
            </a:custGeom>
            <a:solidFill>
              <a:srgbClr val="e8d7b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203560" y="4920120"/>
              <a:ext cx="156960" cy="4644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129" y="0"/>
                  </a:moveTo>
                  <a:lnTo>
                    <a:pt x="122" y="11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129" y="0"/>
                  </a:lnTo>
                </a:path>
              </a:pathLst>
            </a:custGeom>
            <a:solidFill>
              <a:srgbClr val="beb098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203560" y="4932000"/>
              <a:ext cx="25200" cy="3456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lnTo>
                    <a:pt x="20" y="15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981080" y="5143680"/>
              <a:ext cx="371160" cy="114480"/>
            </a:xfrm>
            <a:custGeom>
              <a:avLst/>
              <a:gdLst/>
              <a:ahLst/>
              <a:rect l="l" t="t" r="r" b="b"/>
              <a:pathLst>
                <a:path w="307" h="96">
                  <a:moveTo>
                    <a:pt x="306" y="47"/>
                  </a:moveTo>
                  <a:lnTo>
                    <a:pt x="162" y="9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2438280" y="4724280"/>
            <a:ext cx="381240" cy="685800"/>
            <a:chOff x="2438280" y="4724280"/>
            <a:chExt cx="381240" cy="685800"/>
          </a:xfrm>
        </p:grpSpPr>
        <p:sp>
          <p:nvSpPr>
            <p:cNvPr id="1068" name=""/>
            <p:cNvSpPr/>
            <p:nvPr/>
          </p:nvSpPr>
          <p:spPr>
            <a:xfrm>
              <a:off x="2699280" y="5036040"/>
              <a:ext cx="52920" cy="5364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0" y="44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3" y="44"/>
                  </a:lnTo>
                  <a:lnTo>
                    <a:pt x="0" y="44"/>
                  </a:lnTo>
                </a:path>
              </a:pathLst>
            </a:custGeom>
            <a:solidFill>
              <a:srgbClr val="f9f9f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768760" y="5036040"/>
              <a:ext cx="50760" cy="53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44"/>
                  </a:lnTo>
                  <a:lnTo>
                    <a:pt x="0" y="44"/>
                  </a:lnTo>
                </a:path>
              </a:pathLst>
            </a:custGeom>
            <a:solidFill>
              <a:srgbClr val="776f65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35200" y="4797000"/>
              <a:ext cx="174240" cy="611640"/>
            </a:xfrm>
            <a:custGeom>
              <a:avLst/>
              <a:gdLst/>
              <a:ahLst/>
              <a:rect l="l" t="t" r="r" b="b"/>
              <a:pathLst>
                <a:path w="144" h="512">
                  <a:moveTo>
                    <a:pt x="143" y="0"/>
                  </a:moveTo>
                  <a:lnTo>
                    <a:pt x="143" y="455"/>
                  </a:lnTo>
                  <a:lnTo>
                    <a:pt x="0" y="511"/>
                  </a:lnTo>
                  <a:lnTo>
                    <a:pt x="0" y="20"/>
                  </a:lnTo>
                  <a:lnTo>
                    <a:pt x="143" y="0"/>
                  </a:lnTo>
                </a:path>
              </a:pathLst>
            </a:custGeom>
            <a:solidFill>
              <a:srgbClr val="e7d9c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438280" y="4724280"/>
              <a:ext cx="371160" cy="99000"/>
            </a:xfrm>
            <a:custGeom>
              <a:avLst/>
              <a:gdLst/>
              <a:ahLst/>
              <a:rect l="l" t="t" r="r" b="b"/>
              <a:pathLst>
                <a:path w="307" h="83">
                  <a:moveTo>
                    <a:pt x="306" y="61"/>
                  </a:moveTo>
                  <a:lnTo>
                    <a:pt x="143" y="0"/>
                  </a:lnTo>
                  <a:lnTo>
                    <a:pt x="0" y="19"/>
                  </a:lnTo>
                  <a:lnTo>
                    <a:pt x="162" y="82"/>
                  </a:lnTo>
                  <a:lnTo>
                    <a:pt x="306" y="61"/>
                  </a:lnTo>
                </a:path>
              </a:pathLst>
            </a:custGeom>
            <a:solidFill>
              <a:srgbClr val="f9f2e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440440" y="4749480"/>
              <a:ext cx="197280" cy="660600"/>
            </a:xfrm>
            <a:custGeom>
              <a:avLst/>
              <a:gdLst/>
              <a:ahLst/>
              <a:rect l="l" t="t" r="r" b="b"/>
              <a:pathLst>
                <a:path w="163" h="553">
                  <a:moveTo>
                    <a:pt x="162" y="63"/>
                  </a:moveTo>
                  <a:lnTo>
                    <a:pt x="0" y="0"/>
                  </a:lnTo>
                  <a:lnTo>
                    <a:pt x="0" y="455"/>
                  </a:lnTo>
                  <a:lnTo>
                    <a:pt x="162" y="552"/>
                  </a:lnTo>
                  <a:lnTo>
                    <a:pt x="162" y="63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48520" y="5071680"/>
              <a:ext cx="144000" cy="132480"/>
            </a:xfrm>
            <a:custGeom>
              <a:avLst/>
              <a:gdLst/>
              <a:ahLst/>
              <a:rect l="l" t="t" r="r" b="b"/>
              <a:pathLst>
                <a:path w="119" h="111">
                  <a:moveTo>
                    <a:pt x="118" y="0"/>
                  </a:moveTo>
                  <a:lnTo>
                    <a:pt x="118" y="76"/>
                  </a:lnTo>
                  <a:lnTo>
                    <a:pt x="0" y="110"/>
                  </a:lnTo>
                  <a:lnTo>
                    <a:pt x="0" y="31"/>
                  </a:lnTo>
                  <a:lnTo>
                    <a:pt x="118" y="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648520" y="4936680"/>
              <a:ext cx="144000" cy="132480"/>
            </a:xfrm>
            <a:custGeom>
              <a:avLst/>
              <a:gdLst/>
              <a:ahLst/>
              <a:rect l="l" t="t" r="r" b="b"/>
              <a:pathLst>
                <a:path w="119" h="111">
                  <a:moveTo>
                    <a:pt x="118" y="0"/>
                  </a:moveTo>
                  <a:lnTo>
                    <a:pt x="118" y="78"/>
                  </a:lnTo>
                  <a:lnTo>
                    <a:pt x="0" y="110"/>
                  </a:lnTo>
                  <a:lnTo>
                    <a:pt x="0" y="25"/>
                  </a:lnTo>
                  <a:lnTo>
                    <a:pt x="118" y="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791440" y="4935600"/>
              <a:ext cx="25200" cy="102600"/>
            </a:xfrm>
            <a:custGeom>
              <a:avLst/>
              <a:gdLst/>
              <a:ahLst/>
              <a:rect l="l" t="t" r="r" b="b"/>
              <a:pathLst>
                <a:path w="21" h="86">
                  <a:moveTo>
                    <a:pt x="0" y="0"/>
                  </a:moveTo>
                  <a:lnTo>
                    <a:pt x="20" y="0"/>
                  </a:lnTo>
                  <a:lnTo>
                    <a:pt x="20" y="85"/>
                  </a:lnTo>
                  <a:lnTo>
                    <a:pt x="0" y="79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49600" y="5031000"/>
              <a:ext cx="150120" cy="47880"/>
            </a:xfrm>
            <a:custGeom>
              <a:avLst/>
              <a:gdLst/>
              <a:ahLst/>
              <a:rect l="l" t="t" r="r" b="b"/>
              <a:pathLst>
                <a:path w="124" h="40">
                  <a:moveTo>
                    <a:pt x="123" y="5"/>
                  </a:moveTo>
                  <a:lnTo>
                    <a:pt x="116" y="0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123" y="5"/>
                  </a:lnTo>
                </a:path>
              </a:pathLst>
            </a:custGeom>
            <a:solidFill>
              <a:srgbClr val="fae8c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660760" y="5036040"/>
              <a:ext cx="156960" cy="57240"/>
            </a:xfrm>
            <a:custGeom>
              <a:avLst/>
              <a:gdLst/>
              <a:ahLst/>
              <a:rect l="l" t="t" r="r" b="b"/>
              <a:pathLst>
                <a:path w="130" h="48">
                  <a:moveTo>
                    <a:pt x="122" y="0"/>
                  </a:moveTo>
                  <a:lnTo>
                    <a:pt x="129" y="15"/>
                  </a:lnTo>
                  <a:lnTo>
                    <a:pt x="7" y="47"/>
                  </a:lnTo>
                  <a:lnTo>
                    <a:pt x="0" y="31"/>
                  </a:lnTo>
                  <a:lnTo>
                    <a:pt x="122" y="0"/>
                  </a:lnTo>
                </a:path>
              </a:pathLst>
            </a:custGeom>
            <a:solidFill>
              <a:srgbClr val="e8d7b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660760" y="5055120"/>
              <a:ext cx="156960" cy="51120"/>
            </a:xfrm>
            <a:custGeom>
              <a:avLst/>
              <a:gdLst/>
              <a:ahLst/>
              <a:rect l="l" t="t" r="r" b="b"/>
              <a:pathLst>
                <a:path w="130" h="43">
                  <a:moveTo>
                    <a:pt x="129" y="0"/>
                  </a:moveTo>
                  <a:lnTo>
                    <a:pt x="122" y="10"/>
                  </a:lnTo>
                  <a:lnTo>
                    <a:pt x="0" y="42"/>
                  </a:lnTo>
                  <a:lnTo>
                    <a:pt x="7" y="31"/>
                  </a:lnTo>
                  <a:lnTo>
                    <a:pt x="129" y="0"/>
                  </a:lnTo>
                </a:path>
              </a:pathLst>
            </a:custGeom>
            <a:solidFill>
              <a:srgbClr val="beb098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60760" y="5073120"/>
              <a:ext cx="25200" cy="32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0"/>
                  </a:moveTo>
                  <a:lnTo>
                    <a:pt x="20" y="15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791440" y="5068440"/>
              <a:ext cx="25200" cy="102600"/>
            </a:xfrm>
            <a:custGeom>
              <a:avLst/>
              <a:gdLst/>
              <a:ahLst/>
              <a:rect l="l" t="t" r="r" b="b"/>
              <a:pathLst>
                <a:path w="21" h="86">
                  <a:moveTo>
                    <a:pt x="0" y="1"/>
                  </a:moveTo>
                  <a:lnTo>
                    <a:pt x="20" y="0"/>
                  </a:lnTo>
                  <a:lnTo>
                    <a:pt x="20" y="85"/>
                  </a:lnTo>
                  <a:lnTo>
                    <a:pt x="0" y="79"/>
                  </a:lnTo>
                  <a:lnTo>
                    <a:pt x="0" y="1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49600" y="5164920"/>
              <a:ext cx="150120" cy="51480"/>
            </a:xfrm>
            <a:custGeom>
              <a:avLst/>
              <a:gdLst/>
              <a:ahLst/>
              <a:rect l="l" t="t" r="r" b="b"/>
              <a:pathLst>
                <a:path w="124" h="43">
                  <a:moveTo>
                    <a:pt x="116" y="0"/>
                  </a:moveTo>
                  <a:lnTo>
                    <a:pt x="123" y="5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116" y="0"/>
                  </a:lnTo>
                </a:path>
              </a:pathLst>
            </a:custGeom>
            <a:solidFill>
              <a:srgbClr val="fae8c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680200" y="4837680"/>
              <a:ext cx="80640" cy="4752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6" y="0"/>
                  </a:moveTo>
                  <a:lnTo>
                    <a:pt x="61" y="13"/>
                  </a:lnTo>
                  <a:lnTo>
                    <a:pt x="66" y="26"/>
                  </a:lnTo>
                  <a:lnTo>
                    <a:pt x="0" y="39"/>
                  </a:lnTo>
                  <a:lnTo>
                    <a:pt x="0" y="11"/>
                  </a:lnTo>
                  <a:lnTo>
                    <a:pt x="66" y="0"/>
                  </a:lnTo>
                </a:path>
              </a:pathLst>
            </a:custGeom>
            <a:solidFill>
              <a:srgbClr val="c6bba6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47440" y="4844520"/>
              <a:ext cx="153720" cy="3708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6" y="0"/>
                  </a:moveTo>
                  <a:lnTo>
                    <a:pt x="0" y="22"/>
                  </a:lnTo>
                  <a:lnTo>
                    <a:pt x="0" y="30"/>
                  </a:lnTo>
                  <a:lnTo>
                    <a:pt x="126" y="6"/>
                  </a:lnTo>
                  <a:lnTo>
                    <a:pt x="126" y="0"/>
                  </a:lnTo>
                </a:path>
              </a:pathLst>
            </a:custGeom>
            <a:solidFill>
              <a:srgbClr val="c6bba6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54000" y="4838760"/>
              <a:ext cx="2412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9" y="0"/>
                  </a:moveTo>
                  <a:lnTo>
                    <a:pt x="19" y="25"/>
                  </a:lnTo>
                  <a:lnTo>
                    <a:pt x="0" y="12"/>
                  </a:lnTo>
                  <a:lnTo>
                    <a:pt x="19" y="0"/>
                  </a:lnTo>
                </a:path>
              </a:pathLst>
            </a:custGeom>
            <a:solidFill>
              <a:srgbClr val="9d9484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653560" y="4848480"/>
              <a:ext cx="141480" cy="32040"/>
            </a:xfrm>
            <a:custGeom>
              <a:avLst/>
              <a:gdLst/>
              <a:ahLst/>
              <a:rect l="l" t="t" r="r" b="b"/>
              <a:pathLst>
                <a:path w="117" h="27">
                  <a:moveTo>
                    <a:pt x="116" y="0"/>
                  </a:moveTo>
                  <a:lnTo>
                    <a:pt x="0" y="21"/>
                  </a:lnTo>
                  <a:lnTo>
                    <a:pt x="0" y="26"/>
                  </a:lnTo>
                  <a:lnTo>
                    <a:pt x="116" y="3"/>
                  </a:lnTo>
                  <a:lnTo>
                    <a:pt x="116" y="0"/>
                  </a:lnTo>
                </a:path>
              </a:pathLst>
            </a:custGeom>
            <a:solidFill>
              <a:srgbClr val="413e3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54200" y="5338440"/>
              <a:ext cx="24120" cy="4392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19" y="27"/>
                  </a:moveTo>
                  <a:lnTo>
                    <a:pt x="0" y="36"/>
                  </a:lnTo>
                  <a:lnTo>
                    <a:pt x="19" y="0"/>
                  </a:lnTo>
                  <a:lnTo>
                    <a:pt x="19" y="27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525040" y="5324040"/>
              <a:ext cx="48240" cy="583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39" y="11"/>
                  </a:moveTo>
                  <a:lnTo>
                    <a:pt x="23" y="48"/>
                  </a:lnTo>
                  <a:lnTo>
                    <a:pt x="0" y="32"/>
                  </a:lnTo>
                  <a:lnTo>
                    <a:pt x="15" y="0"/>
                  </a:lnTo>
                  <a:lnTo>
                    <a:pt x="39" y="11"/>
                  </a:lnTo>
                </a:path>
              </a:pathLst>
            </a:custGeom>
            <a:solidFill>
              <a:srgbClr val="e8dac2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473200" y="5293080"/>
              <a:ext cx="24120" cy="381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23"/>
                  </a:moveTo>
                  <a:lnTo>
                    <a:pt x="0" y="31"/>
                  </a:lnTo>
                  <a:lnTo>
                    <a:pt x="19" y="0"/>
                  </a:lnTo>
                  <a:lnTo>
                    <a:pt x="19" y="23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452680" y="5280840"/>
              <a:ext cx="39600" cy="5148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2" y="10"/>
                  </a:moveTo>
                  <a:lnTo>
                    <a:pt x="19" y="42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2" y="10"/>
                  </a:lnTo>
                </a:path>
              </a:pathLst>
            </a:custGeom>
            <a:solidFill>
              <a:srgbClr val="e8dac2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30520" y="5213880"/>
              <a:ext cx="180360" cy="71640"/>
            </a:xfrm>
            <a:custGeom>
              <a:avLst/>
              <a:gdLst/>
              <a:ahLst/>
              <a:rect l="l" t="t" r="r" b="b"/>
              <a:pathLst>
                <a:path w="149" h="60">
                  <a:moveTo>
                    <a:pt x="148" y="10"/>
                  </a:moveTo>
                  <a:lnTo>
                    <a:pt x="3" y="59"/>
                  </a:lnTo>
                  <a:lnTo>
                    <a:pt x="0" y="46"/>
                  </a:lnTo>
                  <a:lnTo>
                    <a:pt x="144" y="0"/>
                  </a:lnTo>
                  <a:lnTo>
                    <a:pt x="148" y="10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30520" y="5199840"/>
              <a:ext cx="180360" cy="71640"/>
            </a:xfrm>
            <a:custGeom>
              <a:avLst/>
              <a:gdLst/>
              <a:ahLst/>
              <a:rect l="l" t="t" r="r" b="b"/>
              <a:pathLst>
                <a:path w="149" h="60">
                  <a:moveTo>
                    <a:pt x="144" y="11"/>
                  </a:moveTo>
                  <a:lnTo>
                    <a:pt x="0" y="59"/>
                  </a:lnTo>
                  <a:lnTo>
                    <a:pt x="3" y="48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630520" y="524160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8" y="11"/>
                  </a:moveTo>
                  <a:lnTo>
                    <a:pt x="3" y="61"/>
                  </a:lnTo>
                  <a:lnTo>
                    <a:pt x="0" y="47"/>
                  </a:lnTo>
                  <a:lnTo>
                    <a:pt x="144" y="0"/>
                  </a:lnTo>
                  <a:lnTo>
                    <a:pt x="148" y="11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30520" y="5227200"/>
              <a:ext cx="180360" cy="72720"/>
            </a:xfrm>
            <a:custGeom>
              <a:avLst/>
              <a:gdLst/>
              <a:ahLst/>
              <a:rect l="l" t="t" r="r" b="b"/>
              <a:pathLst>
                <a:path w="149" h="61">
                  <a:moveTo>
                    <a:pt x="144" y="11"/>
                  </a:moveTo>
                  <a:lnTo>
                    <a:pt x="0" y="60"/>
                  </a:lnTo>
                  <a:lnTo>
                    <a:pt x="3" y="49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630520" y="527004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8" y="11"/>
                  </a:moveTo>
                  <a:lnTo>
                    <a:pt x="3" y="61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148" y="11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630520" y="5254560"/>
              <a:ext cx="180360" cy="7524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4" y="11"/>
                  </a:moveTo>
                  <a:lnTo>
                    <a:pt x="0" y="62"/>
                  </a:lnTo>
                  <a:lnTo>
                    <a:pt x="3" y="51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30520" y="5297760"/>
              <a:ext cx="180360" cy="77400"/>
            </a:xfrm>
            <a:custGeom>
              <a:avLst/>
              <a:gdLst/>
              <a:ahLst/>
              <a:rect l="l" t="t" r="r" b="b"/>
              <a:pathLst>
                <a:path w="149" h="65">
                  <a:moveTo>
                    <a:pt x="148" y="10"/>
                  </a:moveTo>
                  <a:lnTo>
                    <a:pt x="3" y="64"/>
                  </a:lnTo>
                  <a:lnTo>
                    <a:pt x="0" y="51"/>
                  </a:lnTo>
                  <a:lnTo>
                    <a:pt x="144" y="0"/>
                  </a:lnTo>
                  <a:lnTo>
                    <a:pt x="148" y="10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630520" y="528444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4" y="10"/>
                  </a:moveTo>
                  <a:lnTo>
                    <a:pt x="0" y="61"/>
                  </a:lnTo>
                  <a:lnTo>
                    <a:pt x="3" y="50"/>
                  </a:lnTo>
                  <a:lnTo>
                    <a:pt x="148" y="0"/>
                  </a:lnTo>
                  <a:lnTo>
                    <a:pt x="144" y="1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660760" y="4902120"/>
              <a:ext cx="156960" cy="47520"/>
            </a:xfrm>
            <a:custGeom>
              <a:avLst/>
              <a:gdLst/>
              <a:ahLst/>
              <a:rect l="l" t="t" r="r" b="b"/>
              <a:pathLst>
                <a:path w="130" h="40">
                  <a:moveTo>
                    <a:pt x="122" y="0"/>
                  </a:moveTo>
                  <a:lnTo>
                    <a:pt x="129" y="14"/>
                  </a:lnTo>
                  <a:lnTo>
                    <a:pt x="7" y="39"/>
                  </a:lnTo>
                  <a:lnTo>
                    <a:pt x="0" y="23"/>
                  </a:lnTo>
                  <a:lnTo>
                    <a:pt x="122" y="0"/>
                  </a:lnTo>
                </a:path>
              </a:pathLst>
            </a:custGeom>
            <a:solidFill>
              <a:srgbClr val="e8d7b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60760" y="4920120"/>
              <a:ext cx="156960" cy="4644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129" y="0"/>
                  </a:moveTo>
                  <a:lnTo>
                    <a:pt x="122" y="11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129" y="0"/>
                  </a:lnTo>
                </a:path>
              </a:pathLst>
            </a:custGeom>
            <a:solidFill>
              <a:srgbClr val="beb098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60760" y="4932000"/>
              <a:ext cx="25200" cy="3456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lnTo>
                    <a:pt x="20" y="15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438280" y="5143680"/>
              <a:ext cx="371160" cy="114480"/>
            </a:xfrm>
            <a:custGeom>
              <a:avLst/>
              <a:gdLst/>
              <a:ahLst/>
              <a:rect l="l" t="t" r="r" b="b"/>
              <a:pathLst>
                <a:path w="307" h="96">
                  <a:moveTo>
                    <a:pt x="306" y="47"/>
                  </a:moveTo>
                  <a:lnTo>
                    <a:pt x="162" y="9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2895480" y="4724280"/>
            <a:ext cx="381240" cy="685800"/>
            <a:chOff x="2895480" y="4724280"/>
            <a:chExt cx="381240" cy="685800"/>
          </a:xfrm>
        </p:grpSpPr>
        <p:sp>
          <p:nvSpPr>
            <p:cNvPr id="1103" name=""/>
            <p:cNvSpPr/>
            <p:nvPr/>
          </p:nvSpPr>
          <p:spPr>
            <a:xfrm>
              <a:off x="3156480" y="5036040"/>
              <a:ext cx="52920" cy="5364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0" y="44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3" y="44"/>
                  </a:lnTo>
                  <a:lnTo>
                    <a:pt x="0" y="44"/>
                  </a:lnTo>
                </a:path>
              </a:pathLst>
            </a:custGeom>
            <a:solidFill>
              <a:srgbClr val="f9f9f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225960" y="5036040"/>
              <a:ext cx="50760" cy="53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44"/>
                  </a:lnTo>
                  <a:lnTo>
                    <a:pt x="0" y="44"/>
                  </a:lnTo>
                </a:path>
              </a:pathLst>
            </a:custGeom>
            <a:solidFill>
              <a:srgbClr val="776f65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092400" y="4797000"/>
              <a:ext cx="174240" cy="611640"/>
            </a:xfrm>
            <a:custGeom>
              <a:avLst/>
              <a:gdLst/>
              <a:ahLst/>
              <a:rect l="l" t="t" r="r" b="b"/>
              <a:pathLst>
                <a:path w="144" h="512">
                  <a:moveTo>
                    <a:pt x="143" y="0"/>
                  </a:moveTo>
                  <a:lnTo>
                    <a:pt x="143" y="455"/>
                  </a:lnTo>
                  <a:lnTo>
                    <a:pt x="0" y="511"/>
                  </a:lnTo>
                  <a:lnTo>
                    <a:pt x="0" y="20"/>
                  </a:lnTo>
                  <a:lnTo>
                    <a:pt x="143" y="0"/>
                  </a:lnTo>
                </a:path>
              </a:pathLst>
            </a:custGeom>
            <a:solidFill>
              <a:srgbClr val="e7d9c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895480" y="4724280"/>
              <a:ext cx="371160" cy="99000"/>
            </a:xfrm>
            <a:custGeom>
              <a:avLst/>
              <a:gdLst/>
              <a:ahLst/>
              <a:rect l="l" t="t" r="r" b="b"/>
              <a:pathLst>
                <a:path w="307" h="83">
                  <a:moveTo>
                    <a:pt x="306" y="61"/>
                  </a:moveTo>
                  <a:lnTo>
                    <a:pt x="143" y="0"/>
                  </a:lnTo>
                  <a:lnTo>
                    <a:pt x="0" y="19"/>
                  </a:lnTo>
                  <a:lnTo>
                    <a:pt x="162" y="82"/>
                  </a:lnTo>
                  <a:lnTo>
                    <a:pt x="306" y="61"/>
                  </a:lnTo>
                </a:path>
              </a:pathLst>
            </a:custGeom>
            <a:solidFill>
              <a:srgbClr val="f9f2e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897640" y="4749480"/>
              <a:ext cx="197280" cy="660600"/>
            </a:xfrm>
            <a:custGeom>
              <a:avLst/>
              <a:gdLst/>
              <a:ahLst/>
              <a:rect l="l" t="t" r="r" b="b"/>
              <a:pathLst>
                <a:path w="163" h="553">
                  <a:moveTo>
                    <a:pt x="162" y="63"/>
                  </a:moveTo>
                  <a:lnTo>
                    <a:pt x="0" y="0"/>
                  </a:lnTo>
                  <a:lnTo>
                    <a:pt x="0" y="455"/>
                  </a:lnTo>
                  <a:lnTo>
                    <a:pt x="162" y="552"/>
                  </a:lnTo>
                  <a:lnTo>
                    <a:pt x="162" y="63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105720" y="5071680"/>
              <a:ext cx="144000" cy="132480"/>
            </a:xfrm>
            <a:custGeom>
              <a:avLst/>
              <a:gdLst/>
              <a:ahLst/>
              <a:rect l="l" t="t" r="r" b="b"/>
              <a:pathLst>
                <a:path w="119" h="111">
                  <a:moveTo>
                    <a:pt x="118" y="0"/>
                  </a:moveTo>
                  <a:lnTo>
                    <a:pt x="118" y="76"/>
                  </a:lnTo>
                  <a:lnTo>
                    <a:pt x="0" y="110"/>
                  </a:lnTo>
                  <a:lnTo>
                    <a:pt x="0" y="31"/>
                  </a:lnTo>
                  <a:lnTo>
                    <a:pt x="118" y="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105720" y="4936680"/>
              <a:ext cx="144000" cy="132480"/>
            </a:xfrm>
            <a:custGeom>
              <a:avLst/>
              <a:gdLst/>
              <a:ahLst/>
              <a:rect l="l" t="t" r="r" b="b"/>
              <a:pathLst>
                <a:path w="119" h="111">
                  <a:moveTo>
                    <a:pt x="118" y="0"/>
                  </a:moveTo>
                  <a:lnTo>
                    <a:pt x="118" y="78"/>
                  </a:lnTo>
                  <a:lnTo>
                    <a:pt x="0" y="110"/>
                  </a:lnTo>
                  <a:lnTo>
                    <a:pt x="0" y="25"/>
                  </a:lnTo>
                  <a:lnTo>
                    <a:pt x="118" y="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248640" y="4935600"/>
              <a:ext cx="25200" cy="102600"/>
            </a:xfrm>
            <a:custGeom>
              <a:avLst/>
              <a:gdLst/>
              <a:ahLst/>
              <a:rect l="l" t="t" r="r" b="b"/>
              <a:pathLst>
                <a:path w="21" h="86">
                  <a:moveTo>
                    <a:pt x="0" y="0"/>
                  </a:moveTo>
                  <a:lnTo>
                    <a:pt x="20" y="0"/>
                  </a:lnTo>
                  <a:lnTo>
                    <a:pt x="20" y="85"/>
                  </a:lnTo>
                  <a:lnTo>
                    <a:pt x="0" y="79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106800" y="5031000"/>
              <a:ext cx="150120" cy="47880"/>
            </a:xfrm>
            <a:custGeom>
              <a:avLst/>
              <a:gdLst/>
              <a:ahLst/>
              <a:rect l="l" t="t" r="r" b="b"/>
              <a:pathLst>
                <a:path w="124" h="40">
                  <a:moveTo>
                    <a:pt x="123" y="5"/>
                  </a:moveTo>
                  <a:lnTo>
                    <a:pt x="116" y="0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123" y="5"/>
                  </a:lnTo>
                </a:path>
              </a:pathLst>
            </a:custGeom>
            <a:solidFill>
              <a:srgbClr val="fae8c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17960" y="5036040"/>
              <a:ext cx="156960" cy="57240"/>
            </a:xfrm>
            <a:custGeom>
              <a:avLst/>
              <a:gdLst/>
              <a:ahLst/>
              <a:rect l="l" t="t" r="r" b="b"/>
              <a:pathLst>
                <a:path w="130" h="48">
                  <a:moveTo>
                    <a:pt x="122" y="0"/>
                  </a:moveTo>
                  <a:lnTo>
                    <a:pt x="129" y="15"/>
                  </a:lnTo>
                  <a:lnTo>
                    <a:pt x="7" y="47"/>
                  </a:lnTo>
                  <a:lnTo>
                    <a:pt x="0" y="31"/>
                  </a:lnTo>
                  <a:lnTo>
                    <a:pt x="122" y="0"/>
                  </a:lnTo>
                </a:path>
              </a:pathLst>
            </a:custGeom>
            <a:solidFill>
              <a:srgbClr val="e8d7b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17960" y="5055120"/>
              <a:ext cx="156960" cy="51120"/>
            </a:xfrm>
            <a:custGeom>
              <a:avLst/>
              <a:gdLst/>
              <a:ahLst/>
              <a:rect l="l" t="t" r="r" b="b"/>
              <a:pathLst>
                <a:path w="130" h="43">
                  <a:moveTo>
                    <a:pt x="129" y="0"/>
                  </a:moveTo>
                  <a:lnTo>
                    <a:pt x="122" y="10"/>
                  </a:lnTo>
                  <a:lnTo>
                    <a:pt x="0" y="42"/>
                  </a:lnTo>
                  <a:lnTo>
                    <a:pt x="7" y="31"/>
                  </a:lnTo>
                  <a:lnTo>
                    <a:pt x="129" y="0"/>
                  </a:lnTo>
                </a:path>
              </a:pathLst>
            </a:custGeom>
            <a:solidFill>
              <a:srgbClr val="beb098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17960" y="5073120"/>
              <a:ext cx="25200" cy="32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0"/>
                  </a:moveTo>
                  <a:lnTo>
                    <a:pt x="20" y="15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48640" y="5068440"/>
              <a:ext cx="25200" cy="102600"/>
            </a:xfrm>
            <a:custGeom>
              <a:avLst/>
              <a:gdLst/>
              <a:ahLst/>
              <a:rect l="l" t="t" r="r" b="b"/>
              <a:pathLst>
                <a:path w="21" h="86">
                  <a:moveTo>
                    <a:pt x="0" y="1"/>
                  </a:moveTo>
                  <a:lnTo>
                    <a:pt x="20" y="0"/>
                  </a:lnTo>
                  <a:lnTo>
                    <a:pt x="20" y="85"/>
                  </a:lnTo>
                  <a:lnTo>
                    <a:pt x="0" y="79"/>
                  </a:lnTo>
                  <a:lnTo>
                    <a:pt x="0" y="1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106800" y="5164920"/>
              <a:ext cx="150120" cy="51480"/>
            </a:xfrm>
            <a:custGeom>
              <a:avLst/>
              <a:gdLst/>
              <a:ahLst/>
              <a:rect l="l" t="t" r="r" b="b"/>
              <a:pathLst>
                <a:path w="124" h="43">
                  <a:moveTo>
                    <a:pt x="116" y="0"/>
                  </a:moveTo>
                  <a:lnTo>
                    <a:pt x="123" y="5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116" y="0"/>
                  </a:lnTo>
                </a:path>
              </a:pathLst>
            </a:custGeom>
            <a:solidFill>
              <a:srgbClr val="fae8c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137400" y="4837680"/>
              <a:ext cx="80640" cy="4752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6" y="0"/>
                  </a:moveTo>
                  <a:lnTo>
                    <a:pt x="61" y="13"/>
                  </a:lnTo>
                  <a:lnTo>
                    <a:pt x="66" y="26"/>
                  </a:lnTo>
                  <a:lnTo>
                    <a:pt x="0" y="39"/>
                  </a:lnTo>
                  <a:lnTo>
                    <a:pt x="0" y="11"/>
                  </a:lnTo>
                  <a:lnTo>
                    <a:pt x="66" y="0"/>
                  </a:lnTo>
                </a:path>
              </a:pathLst>
            </a:custGeom>
            <a:solidFill>
              <a:srgbClr val="c6bba6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04640" y="4844520"/>
              <a:ext cx="153720" cy="3708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6" y="0"/>
                  </a:moveTo>
                  <a:lnTo>
                    <a:pt x="0" y="22"/>
                  </a:lnTo>
                  <a:lnTo>
                    <a:pt x="0" y="30"/>
                  </a:lnTo>
                  <a:lnTo>
                    <a:pt x="126" y="6"/>
                  </a:lnTo>
                  <a:lnTo>
                    <a:pt x="126" y="0"/>
                  </a:lnTo>
                </a:path>
              </a:pathLst>
            </a:custGeom>
            <a:solidFill>
              <a:srgbClr val="c6bba6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211200" y="4838760"/>
              <a:ext cx="2412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9" y="0"/>
                  </a:moveTo>
                  <a:lnTo>
                    <a:pt x="19" y="25"/>
                  </a:lnTo>
                  <a:lnTo>
                    <a:pt x="0" y="12"/>
                  </a:lnTo>
                  <a:lnTo>
                    <a:pt x="19" y="0"/>
                  </a:lnTo>
                </a:path>
              </a:pathLst>
            </a:custGeom>
            <a:solidFill>
              <a:srgbClr val="9d9484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110760" y="4848480"/>
              <a:ext cx="141480" cy="32040"/>
            </a:xfrm>
            <a:custGeom>
              <a:avLst/>
              <a:gdLst/>
              <a:ahLst/>
              <a:rect l="l" t="t" r="r" b="b"/>
              <a:pathLst>
                <a:path w="117" h="27">
                  <a:moveTo>
                    <a:pt x="116" y="0"/>
                  </a:moveTo>
                  <a:lnTo>
                    <a:pt x="0" y="21"/>
                  </a:lnTo>
                  <a:lnTo>
                    <a:pt x="0" y="26"/>
                  </a:lnTo>
                  <a:lnTo>
                    <a:pt x="116" y="3"/>
                  </a:lnTo>
                  <a:lnTo>
                    <a:pt x="116" y="0"/>
                  </a:lnTo>
                </a:path>
              </a:pathLst>
            </a:custGeom>
            <a:solidFill>
              <a:srgbClr val="413e3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011400" y="5338440"/>
              <a:ext cx="24120" cy="4392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19" y="27"/>
                  </a:moveTo>
                  <a:lnTo>
                    <a:pt x="0" y="36"/>
                  </a:lnTo>
                  <a:lnTo>
                    <a:pt x="19" y="0"/>
                  </a:lnTo>
                  <a:lnTo>
                    <a:pt x="19" y="27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982240" y="5324040"/>
              <a:ext cx="48240" cy="583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39" y="11"/>
                  </a:moveTo>
                  <a:lnTo>
                    <a:pt x="23" y="48"/>
                  </a:lnTo>
                  <a:lnTo>
                    <a:pt x="0" y="32"/>
                  </a:lnTo>
                  <a:lnTo>
                    <a:pt x="15" y="0"/>
                  </a:lnTo>
                  <a:lnTo>
                    <a:pt x="39" y="11"/>
                  </a:lnTo>
                </a:path>
              </a:pathLst>
            </a:custGeom>
            <a:solidFill>
              <a:srgbClr val="e8dac2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930400" y="5293080"/>
              <a:ext cx="24120" cy="381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23"/>
                  </a:moveTo>
                  <a:lnTo>
                    <a:pt x="0" y="31"/>
                  </a:lnTo>
                  <a:lnTo>
                    <a:pt x="19" y="0"/>
                  </a:lnTo>
                  <a:lnTo>
                    <a:pt x="19" y="23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909880" y="5280840"/>
              <a:ext cx="39600" cy="5148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2" y="10"/>
                  </a:moveTo>
                  <a:lnTo>
                    <a:pt x="19" y="42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2" y="10"/>
                  </a:lnTo>
                </a:path>
              </a:pathLst>
            </a:custGeom>
            <a:solidFill>
              <a:srgbClr val="e8dac2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087720" y="5213880"/>
              <a:ext cx="180360" cy="71640"/>
            </a:xfrm>
            <a:custGeom>
              <a:avLst/>
              <a:gdLst/>
              <a:ahLst/>
              <a:rect l="l" t="t" r="r" b="b"/>
              <a:pathLst>
                <a:path w="149" h="60">
                  <a:moveTo>
                    <a:pt x="148" y="10"/>
                  </a:moveTo>
                  <a:lnTo>
                    <a:pt x="3" y="59"/>
                  </a:lnTo>
                  <a:lnTo>
                    <a:pt x="0" y="46"/>
                  </a:lnTo>
                  <a:lnTo>
                    <a:pt x="144" y="0"/>
                  </a:lnTo>
                  <a:lnTo>
                    <a:pt x="148" y="10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087720" y="5199840"/>
              <a:ext cx="180360" cy="71640"/>
            </a:xfrm>
            <a:custGeom>
              <a:avLst/>
              <a:gdLst/>
              <a:ahLst/>
              <a:rect l="l" t="t" r="r" b="b"/>
              <a:pathLst>
                <a:path w="149" h="60">
                  <a:moveTo>
                    <a:pt x="144" y="11"/>
                  </a:moveTo>
                  <a:lnTo>
                    <a:pt x="0" y="59"/>
                  </a:lnTo>
                  <a:lnTo>
                    <a:pt x="3" y="48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087720" y="524160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8" y="11"/>
                  </a:moveTo>
                  <a:lnTo>
                    <a:pt x="3" y="61"/>
                  </a:lnTo>
                  <a:lnTo>
                    <a:pt x="0" y="47"/>
                  </a:lnTo>
                  <a:lnTo>
                    <a:pt x="144" y="0"/>
                  </a:lnTo>
                  <a:lnTo>
                    <a:pt x="148" y="11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87720" y="5227200"/>
              <a:ext cx="180360" cy="72720"/>
            </a:xfrm>
            <a:custGeom>
              <a:avLst/>
              <a:gdLst/>
              <a:ahLst/>
              <a:rect l="l" t="t" r="r" b="b"/>
              <a:pathLst>
                <a:path w="149" h="61">
                  <a:moveTo>
                    <a:pt x="144" y="11"/>
                  </a:moveTo>
                  <a:lnTo>
                    <a:pt x="0" y="60"/>
                  </a:lnTo>
                  <a:lnTo>
                    <a:pt x="3" y="49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087720" y="527004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8" y="11"/>
                  </a:moveTo>
                  <a:lnTo>
                    <a:pt x="3" y="61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148" y="11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087720" y="5254560"/>
              <a:ext cx="180360" cy="7524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4" y="11"/>
                  </a:moveTo>
                  <a:lnTo>
                    <a:pt x="0" y="62"/>
                  </a:lnTo>
                  <a:lnTo>
                    <a:pt x="3" y="51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87720" y="5297760"/>
              <a:ext cx="180360" cy="77400"/>
            </a:xfrm>
            <a:custGeom>
              <a:avLst/>
              <a:gdLst/>
              <a:ahLst/>
              <a:rect l="l" t="t" r="r" b="b"/>
              <a:pathLst>
                <a:path w="149" h="65">
                  <a:moveTo>
                    <a:pt x="148" y="10"/>
                  </a:moveTo>
                  <a:lnTo>
                    <a:pt x="3" y="64"/>
                  </a:lnTo>
                  <a:lnTo>
                    <a:pt x="0" y="51"/>
                  </a:lnTo>
                  <a:lnTo>
                    <a:pt x="144" y="0"/>
                  </a:lnTo>
                  <a:lnTo>
                    <a:pt x="148" y="10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087720" y="528444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4" y="10"/>
                  </a:moveTo>
                  <a:lnTo>
                    <a:pt x="0" y="61"/>
                  </a:lnTo>
                  <a:lnTo>
                    <a:pt x="3" y="50"/>
                  </a:lnTo>
                  <a:lnTo>
                    <a:pt x="148" y="0"/>
                  </a:lnTo>
                  <a:lnTo>
                    <a:pt x="144" y="1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117960" y="4902120"/>
              <a:ext cx="156960" cy="47520"/>
            </a:xfrm>
            <a:custGeom>
              <a:avLst/>
              <a:gdLst/>
              <a:ahLst/>
              <a:rect l="l" t="t" r="r" b="b"/>
              <a:pathLst>
                <a:path w="130" h="40">
                  <a:moveTo>
                    <a:pt x="122" y="0"/>
                  </a:moveTo>
                  <a:lnTo>
                    <a:pt x="129" y="14"/>
                  </a:lnTo>
                  <a:lnTo>
                    <a:pt x="7" y="39"/>
                  </a:lnTo>
                  <a:lnTo>
                    <a:pt x="0" y="23"/>
                  </a:lnTo>
                  <a:lnTo>
                    <a:pt x="122" y="0"/>
                  </a:lnTo>
                </a:path>
              </a:pathLst>
            </a:custGeom>
            <a:solidFill>
              <a:srgbClr val="e8d7b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117960" y="4920120"/>
              <a:ext cx="156960" cy="4644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129" y="0"/>
                  </a:moveTo>
                  <a:lnTo>
                    <a:pt x="122" y="11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129" y="0"/>
                  </a:lnTo>
                </a:path>
              </a:pathLst>
            </a:custGeom>
            <a:solidFill>
              <a:srgbClr val="beb098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117960" y="4932000"/>
              <a:ext cx="25200" cy="3456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lnTo>
                    <a:pt x="20" y="15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895480" y="5143680"/>
              <a:ext cx="371160" cy="114480"/>
            </a:xfrm>
            <a:custGeom>
              <a:avLst/>
              <a:gdLst/>
              <a:ahLst/>
              <a:rect l="l" t="t" r="r" b="b"/>
              <a:pathLst>
                <a:path w="307" h="96">
                  <a:moveTo>
                    <a:pt x="306" y="47"/>
                  </a:moveTo>
                  <a:lnTo>
                    <a:pt x="162" y="9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 flipV="1">
            <a:off x="1905120" y="5334120"/>
            <a:ext cx="152280" cy="30456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2362320" y="5334120"/>
            <a:ext cx="152280" cy="30456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2819520" y="5334120"/>
            <a:ext cx="152280" cy="30456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612800" y="6019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Mail / Web / DNS Serv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905120" y="5638680"/>
            <a:ext cx="25905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562640" y="4516560"/>
            <a:ext cx="0" cy="4665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24360" y="4516560"/>
            <a:ext cx="638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3047760" y="3429000"/>
            <a:ext cx="2286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724280" y="3429000"/>
            <a:ext cx="25146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46" name="" descr=""/>
          <p:cNvPicPr/>
          <p:nvPr/>
        </p:nvPicPr>
        <p:blipFill>
          <a:blip r:embed="rId7"/>
          <a:stretch/>
        </p:blipFill>
        <p:spPr>
          <a:xfrm>
            <a:off x="5410080" y="3276720"/>
            <a:ext cx="533520" cy="30456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 flipV="1">
            <a:off x="3924360" y="4114800"/>
            <a:ext cx="0" cy="44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952880" y="1843200"/>
            <a:ext cx="3149640" cy="914400"/>
          </a:xfrm>
          <a:prstGeom prst="borderCallout1">
            <a:avLst>
              <a:gd name="adj1" fmla="val 18750"/>
              <a:gd name="adj2" fmla="val -8333"/>
              <a:gd name="adj3" fmla="val 92708"/>
              <a:gd name="adj4" fmla="val -17740"/>
            </a:avLst>
          </a:prstGeom>
          <a:solidFill>
            <a:srgbClr val="ccccff"/>
          </a:solidFill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High Availability for Firewall / VPN / Load Balance /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標楷體"/>
              </a:rPr>
              <a:t>Bandwidth Managemen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4304880" y="2743200"/>
            <a:ext cx="647640" cy="114300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73280" y="4038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標楷體"/>
              </a:rPr>
              <a:t>Intrane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362320" y="27874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Switch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365640" y="220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DFL-3105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402080" y="41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DFL-3105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724280" y="50086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Switch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6781680" y="2819520"/>
            <a:ext cx="1981080" cy="1066320"/>
            <a:chOff x="6781680" y="2819520"/>
            <a:chExt cx="1981080" cy="1066320"/>
          </a:xfrm>
        </p:grpSpPr>
        <p:sp>
          <p:nvSpPr>
            <p:cNvPr id="1156" name="Cloud"/>
            <p:cNvSpPr/>
            <p:nvPr/>
          </p:nvSpPr>
          <p:spPr>
            <a:xfrm>
              <a:off x="6979320" y="2819520"/>
              <a:ext cx="1486080" cy="1066320"/>
            </a:xfrm>
            <a:prstGeom prst="pi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781680" y="31438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SimSun"/>
                </a:rPr>
                <a:t>Internet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>
            <a:off x="4401000" y="609480"/>
            <a:ext cx="4649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High Availability Application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3429000" y="2895480"/>
            <a:ext cx="990720" cy="2071440"/>
            <a:chOff x="3429000" y="2895480"/>
            <a:chExt cx="990720" cy="2071440"/>
          </a:xfrm>
        </p:grpSpPr>
        <p:sp>
          <p:nvSpPr>
            <p:cNvPr id="1160" name=""/>
            <p:cNvSpPr/>
            <p:nvPr/>
          </p:nvSpPr>
          <p:spPr>
            <a:xfrm>
              <a:off x="3429000" y="3191400"/>
              <a:ext cx="0" cy="157824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429000" y="4770000"/>
              <a:ext cx="990720" cy="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429000" y="3191400"/>
              <a:ext cx="609840" cy="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4038840" y="2895480"/>
              <a:ext cx="0" cy="29592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419720" y="4770000"/>
              <a:ext cx="0" cy="19692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 flipV="1">
            <a:off x="4495680" y="5316120"/>
            <a:ext cx="0" cy="32220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66" name="des-3105-3" descr=""/>
          <p:cNvPicPr/>
          <p:nvPr/>
        </p:nvPicPr>
        <p:blipFill>
          <a:blip r:embed="rId8"/>
          <a:stretch/>
        </p:blipFill>
        <p:spPr>
          <a:xfrm>
            <a:off x="3505320" y="2619360"/>
            <a:ext cx="1127160" cy="398520"/>
          </a:xfrm>
          <a:prstGeom prst="rect">
            <a:avLst/>
          </a:prstGeom>
          <a:ln w="0">
            <a:noFill/>
          </a:ln>
        </p:spPr>
      </p:pic>
      <p:pic>
        <p:nvPicPr>
          <p:cNvPr id="1167" name="des-3105-3" descr=""/>
          <p:cNvPicPr/>
          <p:nvPr/>
        </p:nvPicPr>
        <p:blipFill>
          <a:blip r:embed="rId9"/>
          <a:stretch/>
        </p:blipFill>
        <p:spPr>
          <a:xfrm>
            <a:off x="3468600" y="3760920"/>
            <a:ext cx="113976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Posi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Competito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Advanta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Appl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Product Specif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title"/>
          </p:nvPr>
        </p:nvSpPr>
        <p:spPr>
          <a:xfrm>
            <a:off x="3505320" y="4568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Contents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533520" y="1066680"/>
            <a:ext cx="8229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724280" y="422280"/>
            <a:ext cx="426744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DFL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-310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 Specif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28600" y="1066680"/>
            <a:ext cx="853452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Product Feature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Five 10/100M Ethernet por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Default two 10/100M Ethernet WAN ports , two 10/100M Fast Ethernet LAN ports  and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One 10/100M Fast Ethernet DMZ port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IEEE 802.3/ 802.3u complian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upport auto-MDIX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Standard Protocol : TCP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/IP, UDP, ARP, ICMP, TFTP, Telnet, SNMP, HTTP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Routing Protocol: Static Routing ,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RIP1/2,OSPF,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Policy route, IGMP v1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/v2 , IP alias (multi-home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Transparent , Route , NAT mode  suppor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DHCP client/server suppor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PPPoE support for ADSL &amp; Cable modem connec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PPTP, L2TP and IPSec support for VPN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Built-in hardware accelerator for DES(56 bit) / 3DES(128 bit) / AES / PKI (X.509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tateful packet inspection Firewall &amp; Protection for DoS ( Denial of Service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Web-based management  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Posi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Competito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Advanta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Appl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Product Specif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505320" y="4568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Contents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8600" y="1397160"/>
            <a:ext cx="7391520" cy="44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Firewall Security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Stateful Packet Inspection 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Packet Filter                         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IP/TCP/UDP Protocol Filt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Access Contro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Attack Alert  and log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Real time lo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Denial of Service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 Unicode MS"/>
              </a:rPr>
              <a:t>Filtering packets in VPN tunne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N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IP Network Address Translation ( NAT 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Traditional IP Network Translation ( Traditional NAT 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Protocol Complications with IP Network Address Transla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Support one-one, one-many, many-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724280" y="422280"/>
            <a:ext cx="426744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DFL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-310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 Specif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400800" y="3276720"/>
            <a:ext cx="2362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4114800" y="2209680"/>
            <a:ext cx="4876920" cy="1474920"/>
            <a:chOff x="4114800" y="2209680"/>
            <a:chExt cx="4876920" cy="1474920"/>
          </a:xfrm>
        </p:grpSpPr>
        <p:pic>
          <p:nvPicPr>
            <p:cNvPr id="1177" name="" descr=""/>
            <p:cNvPicPr/>
            <p:nvPr/>
          </p:nvPicPr>
          <p:blipFill>
            <a:blip r:embed="rId1"/>
            <a:srcRect l="21876" t="33337" r="10938" b="39588"/>
            <a:stretch/>
          </p:blipFill>
          <p:spPr>
            <a:xfrm>
              <a:off x="4114800" y="2209680"/>
              <a:ext cx="487692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8" name=""/>
            <p:cNvSpPr/>
            <p:nvPr/>
          </p:nvSpPr>
          <p:spPr>
            <a:xfrm>
              <a:off x="5791320" y="3200400"/>
              <a:ext cx="3045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818320" y="320184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DFL-3105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477120" y="3352680"/>
              <a:ext cx="23619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" descr=""/>
          <p:cNvPicPr/>
          <p:nvPr/>
        </p:nvPicPr>
        <p:blipFill>
          <a:blip r:embed="rId1"/>
          <a:srcRect l="20315" t="34375" r="11721" b="36462"/>
          <a:stretch/>
        </p:blipFill>
        <p:spPr>
          <a:xfrm>
            <a:off x="3581280" y="1409760"/>
            <a:ext cx="5181840" cy="175248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/>
          <p:nvPr/>
        </p:nvSpPr>
        <p:spPr>
          <a:xfrm>
            <a:off x="343080" y="984240"/>
            <a:ext cx="4305240" cy="55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Virtual Private Networ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Arial Unicode MS"/>
              </a:rPr>
              <a:t>Tunnel Protocol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IPSec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L2TP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PPTP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Arial Unicode MS"/>
              </a:rPr>
              <a:t>Connection Mod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Site to Sit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Clint to Sit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ncryption Algorithm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 ( 56 bit ) , 3DES (128 bit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ES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KI (X.509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 with hardware accelerator aid )                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5487840" y="2266920"/>
            <a:ext cx="2829960" cy="1058040"/>
            <a:chOff x="5487840" y="2266920"/>
            <a:chExt cx="2829960" cy="1058040"/>
          </a:xfrm>
        </p:grpSpPr>
        <p:sp>
          <p:nvSpPr>
            <p:cNvPr id="1184" name=""/>
            <p:cNvSpPr/>
            <p:nvPr/>
          </p:nvSpPr>
          <p:spPr>
            <a:xfrm>
              <a:off x="5487840" y="3017880"/>
              <a:ext cx="297000" cy="187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487840" y="3017880"/>
              <a:ext cx="989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DFL-3105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391520" y="2286000"/>
              <a:ext cx="22860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058880" y="226692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ahoma"/>
                  <a:ea typeface="新細明體"/>
                </a:rPr>
                <a:t>DFL-100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001000" y="2743200"/>
              <a:ext cx="1522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646400" y="269712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ahoma"/>
                  <a:ea typeface="新細明體"/>
                </a:rPr>
                <a:t>DFL-100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4648320" y="422280"/>
            <a:ext cx="426708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DFL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-310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 Specif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324320" y="3313080"/>
            <a:ext cx="4305240" cy="30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uthentication Algorithm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D-5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HA-1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vanced Key Managemen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Internet Security Association and Ke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Management Protocol – ISAKMP   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Internet Key Exchange – IKE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228600" y="990720"/>
            <a:ext cx="867420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Content Filt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HTTP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content level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URL block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Key word block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Java/Active/Cookie/Proxy block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Dynamic URL filtering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(need integrated external database such as: Web Sense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Application prox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POP3 / SMTP / FTP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 Unicode MS"/>
              </a:rPr>
              <a:t>Content Filter within VPN tunnel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IDS (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絡遺羹"/>
              </a:rPr>
              <a:t>ntrusion Detection System )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On-line pattern update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pecific domain attack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Attack alarm (via E-mail)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Provide build-in complete analysis report and packet logg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48320" y="422280"/>
            <a:ext cx="426708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DFL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-310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 Specif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241200" y="990720"/>
            <a:ext cx="867420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Load Balan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upports two Ethernet broadband connection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Provide multi and redundant ISPs link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Automatically check status of WAN connection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Weighted load balance mod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Build-in real-time monitoring mode and remote control via Web brows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WAN backup setup support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Remote control via WEB browser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Bandwidth Management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Guaranteed bandwidth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Maximum bandwidth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Priority-bandwidth utilization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DiffServ stamp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Class-based polici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Application-specific traffic clas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ubnet-specific traffic class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Arial Unicode MS"/>
              </a:rPr>
              <a:t>  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 Unicode MS"/>
              </a:rPr>
              <a:t>Session bandwidth control within VPN tunnels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648320" y="422280"/>
            <a:ext cx="426708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DFL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-310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 Specif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/>
          <p:nvPr/>
        </p:nvSpPr>
        <p:spPr>
          <a:xfrm>
            <a:off x="311040" y="1219320"/>
            <a:ext cx="86742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Authentication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Built-in (internal) database – up to 1500 user limit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upport RADIUS client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upport LDAP client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upport RADIUS authentication accounting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Web-based authentication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648320" y="422280"/>
            <a:ext cx="426708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DFL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-310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 Specif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41200" y="3886200"/>
            <a:ext cx="394992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Logging &amp; Monito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Graphic statistics displa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Firewall access violation lo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Web access lo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DHCP table (active hosts)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IDS intrusion alarm/alert log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System utilization statistics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B/W Monitoring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876920" y="4038480"/>
            <a:ext cx="38098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Mail log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VPN tunnel monito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Event logs and alar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311040" y="1219320"/>
            <a:ext cx="8674200" cy="24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System Managemen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WebUI (HTTP and HTTPS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Command line interface (telnet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Wizard/Quick instal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ecure Command Shell (SSH v1 compatible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upport RADIUS authentication accounting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All management via VPN tunnel on any interfa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648320" y="422280"/>
            <a:ext cx="426708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DFL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-310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 Specif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3300"/>
                </a:solidFill>
                <a:latin typeface="Arial"/>
                <a:ea typeface="新細明體"/>
              </a:rPr>
              <a:t>DFL-3105 could provide several advanced security functions 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3300"/>
                </a:solidFill>
                <a:latin typeface="Arial"/>
                <a:ea typeface="新細明體"/>
              </a:rPr>
              <a:t>Customers don’t need to concern any interoperable issues between each security devices.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3300"/>
                </a:solidFill>
                <a:latin typeface="Arial"/>
                <a:ea typeface="新細明體"/>
              </a:rPr>
              <a:t>DFL-3105 + DFL-100/DFL-500 could provide a very secure network solution not only for enterprise but also for campus.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Summary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2940480" y="2735280"/>
            <a:ext cx="390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  <a:ea typeface="標楷體"/>
              </a:rPr>
              <a:t>Thank you </a:t>
            </a:r>
            <a:r>
              <a:rPr b="1" lang="en-US" sz="4800" spc="-1" strike="noStrike">
                <a:solidFill>
                  <a:srgbClr val="003300"/>
                </a:solidFill>
                <a:latin typeface="Arial"/>
                <a:ea typeface="標楷體"/>
              </a:rPr>
              <a:t>！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Posi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Competito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Advanta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Appl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Product Specif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505320" y="4568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Contents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92520" y="2529000"/>
            <a:ext cx="1440" cy="6444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3040" y="2460600"/>
            <a:ext cx="96048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56080" y="5481720"/>
            <a:ext cx="211140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19720" y="2124000"/>
            <a:ext cx="3776760" cy="2394000"/>
            <a:chOff x="5319720" y="2124000"/>
            <a:chExt cx="3776760" cy="2394000"/>
          </a:xfrm>
        </p:grpSpPr>
        <p:graphicFrame>
          <p:nvGraphicFramePr>
            <p:cNvPr id="96" name=""/>
            <p:cNvGraphicFramePr/>
            <p:nvPr/>
          </p:nvGraphicFramePr>
          <p:xfrm>
            <a:off x="5319720" y="2124000"/>
            <a:ext cx="3776760" cy="2394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19720" y="2124000"/>
                      <a:ext cx="3776760" cy="239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7682040" y="4181400"/>
              <a:ext cx="9903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248520" y="3606840"/>
            <a:ext cx="1218960" cy="18748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13200" y="3554280"/>
            <a:ext cx="1219320" cy="1927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Cloud"/>
          <p:cNvSpPr/>
          <p:nvPr/>
        </p:nvSpPr>
        <p:spPr>
          <a:xfrm>
            <a:off x="1628640" y="2247840"/>
            <a:ext cx="914400" cy="561960"/>
          </a:xfrm>
          <a:prstGeom prst="pie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ISP B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7640" y="161928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ADSL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17800" y="1771560"/>
            <a:ext cx="381240" cy="380880"/>
            <a:chOff x="3817800" y="1771560"/>
            <a:chExt cx="381240" cy="380880"/>
          </a:xfrm>
        </p:grpSpPr>
        <p:sp>
          <p:nvSpPr>
            <p:cNvPr id="104" name=""/>
            <p:cNvSpPr/>
            <p:nvPr/>
          </p:nvSpPr>
          <p:spPr>
            <a:xfrm>
              <a:off x="3818520" y="1931400"/>
              <a:ext cx="380520" cy="221040"/>
            </a:xfrm>
            <a:prstGeom prst="ellipse">
              <a:avLst/>
            </a:prstGeom>
            <a:solidFill>
              <a:srgbClr val="008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17800" y="1885680"/>
              <a:ext cx="380520" cy="1573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17800" y="1885680"/>
              <a:ext cx="380520" cy="157320"/>
            </a:xfrm>
            <a:prstGeom prst="rect">
              <a:avLst/>
            </a:prstGeom>
            <a:solidFill>
              <a:srgbClr val="008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17800" y="1771560"/>
              <a:ext cx="380520" cy="221400"/>
            </a:xfrm>
            <a:prstGeom prst="ellipse">
              <a:avLst/>
            </a:prstGeom>
            <a:gradFill rotWithShape="0">
              <a:gsLst>
                <a:gs pos="0">
                  <a:srgbClr val="9ac7e2"/>
                </a:gs>
                <a:gs pos="100000">
                  <a:srgbClr val="6e8e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876840" y="1800000"/>
              <a:ext cx="263880" cy="167760"/>
              <a:chOff x="3876840" y="1800000"/>
              <a:chExt cx="263880" cy="16776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3876840" y="1800000"/>
                <a:ext cx="261360" cy="164160"/>
                <a:chOff x="3876840" y="1800000"/>
                <a:chExt cx="261360" cy="1641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013280" y="180360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55"/>
                      </a:moveTo>
                      <a:lnTo>
                        <a:pt x="45" y="71"/>
                      </a:lnTo>
                      <a:lnTo>
                        <a:pt x="155" y="23"/>
                      </a:lnTo>
                      <a:lnTo>
                        <a:pt x="204" y="39"/>
                      </a:lnTo>
                      <a:lnTo>
                        <a:pt x="177" y="0"/>
                      </a:lnTo>
                      <a:lnTo>
                        <a:pt x="49" y="0"/>
                      </a:lnTo>
                      <a:lnTo>
                        <a:pt x="102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013280" y="180360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55"/>
                      </a:moveTo>
                      <a:lnTo>
                        <a:pt x="45" y="71"/>
                      </a:lnTo>
                      <a:lnTo>
                        <a:pt x="155" y="23"/>
                      </a:lnTo>
                      <a:lnTo>
                        <a:pt x="204" y="39"/>
                      </a:lnTo>
                      <a:lnTo>
                        <a:pt x="177" y="0"/>
                      </a:lnTo>
                      <a:lnTo>
                        <a:pt x="49" y="0"/>
                      </a:lnTo>
                      <a:lnTo>
                        <a:pt x="102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876840" y="1886040"/>
                  <a:ext cx="124920" cy="74160"/>
                </a:xfrm>
                <a:custGeom>
                  <a:avLst/>
                  <a:gdLst/>
                  <a:ahLst/>
                  <a:rect l="l" t="t" r="r" b="b"/>
                  <a:pathLst>
                    <a:path w="204" h="75">
                      <a:moveTo>
                        <a:pt x="204" y="16"/>
                      </a:moveTo>
                      <a:lnTo>
                        <a:pt x="158" y="0"/>
                      </a:lnTo>
                      <a:lnTo>
                        <a:pt x="52" y="47"/>
                      </a:lnTo>
                      <a:lnTo>
                        <a:pt x="0" y="31"/>
                      </a:lnTo>
                      <a:lnTo>
                        <a:pt x="26" y="75"/>
                      </a:lnTo>
                      <a:lnTo>
                        <a:pt x="158" y="75"/>
                      </a:lnTo>
                      <a:lnTo>
                        <a:pt x="102" y="59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876840" y="1886040"/>
                  <a:ext cx="124920" cy="74160"/>
                </a:xfrm>
                <a:custGeom>
                  <a:avLst/>
                  <a:gdLst/>
                  <a:ahLst/>
                  <a:rect l="l" t="t" r="r" b="b"/>
                  <a:pathLst>
                    <a:path w="204" h="75">
                      <a:moveTo>
                        <a:pt x="204" y="16"/>
                      </a:moveTo>
                      <a:lnTo>
                        <a:pt x="158" y="0"/>
                      </a:lnTo>
                      <a:lnTo>
                        <a:pt x="52" y="47"/>
                      </a:lnTo>
                      <a:lnTo>
                        <a:pt x="0" y="31"/>
                      </a:lnTo>
                      <a:lnTo>
                        <a:pt x="26" y="75"/>
                      </a:lnTo>
                      <a:lnTo>
                        <a:pt x="158" y="75"/>
                      </a:lnTo>
                      <a:lnTo>
                        <a:pt x="102" y="59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83320" y="180000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8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83320" y="180000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8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08600" y="189396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7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008600" y="189396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7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3878640" y="1803600"/>
                <a:ext cx="262080" cy="164160"/>
                <a:chOff x="3878640" y="1803600"/>
                <a:chExt cx="262080" cy="164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4015080" y="1807560"/>
                  <a:ext cx="125640" cy="70200"/>
                </a:xfrm>
                <a:custGeom>
                  <a:avLst/>
                  <a:gdLst/>
                  <a:ahLst/>
                  <a:rect l="l" t="t" r="r" b="b"/>
                  <a:pathLst>
                    <a:path w="205" h="71">
                      <a:moveTo>
                        <a:pt x="0" y="55"/>
                      </a:moveTo>
                      <a:lnTo>
                        <a:pt x="46" y="71"/>
                      </a:lnTo>
                      <a:lnTo>
                        <a:pt x="156" y="23"/>
                      </a:lnTo>
                      <a:lnTo>
                        <a:pt x="205" y="39"/>
                      </a:lnTo>
                      <a:lnTo>
                        <a:pt x="178" y="0"/>
                      </a:lnTo>
                      <a:lnTo>
                        <a:pt x="50" y="0"/>
                      </a:lnTo>
                      <a:lnTo>
                        <a:pt x="103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015080" y="1807560"/>
                  <a:ext cx="125640" cy="70200"/>
                </a:xfrm>
                <a:custGeom>
                  <a:avLst/>
                  <a:gdLst/>
                  <a:ahLst/>
                  <a:rect l="l" t="t" r="r" b="b"/>
                  <a:pathLst>
                    <a:path w="205" h="71">
                      <a:moveTo>
                        <a:pt x="0" y="55"/>
                      </a:moveTo>
                      <a:lnTo>
                        <a:pt x="46" y="71"/>
                      </a:lnTo>
                      <a:lnTo>
                        <a:pt x="156" y="23"/>
                      </a:lnTo>
                      <a:lnTo>
                        <a:pt x="205" y="39"/>
                      </a:lnTo>
                      <a:lnTo>
                        <a:pt x="178" y="0"/>
                      </a:lnTo>
                      <a:lnTo>
                        <a:pt x="50" y="0"/>
                      </a:lnTo>
                      <a:lnTo>
                        <a:pt x="103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878640" y="1889640"/>
                  <a:ext cx="125640" cy="74160"/>
                </a:xfrm>
                <a:custGeom>
                  <a:avLst/>
                  <a:gdLst/>
                  <a:ahLst/>
                  <a:rect l="l" t="t" r="r" b="b"/>
                  <a:pathLst>
                    <a:path w="205" h="75">
                      <a:moveTo>
                        <a:pt x="205" y="16"/>
                      </a:moveTo>
                      <a:lnTo>
                        <a:pt x="159" y="0"/>
                      </a:lnTo>
                      <a:lnTo>
                        <a:pt x="53" y="47"/>
                      </a:lnTo>
                      <a:lnTo>
                        <a:pt x="0" y="31"/>
                      </a:lnTo>
                      <a:lnTo>
                        <a:pt x="27" y="75"/>
                      </a:lnTo>
                      <a:lnTo>
                        <a:pt x="159" y="75"/>
                      </a:lnTo>
                      <a:lnTo>
                        <a:pt x="102" y="59"/>
                      </a:lnTo>
                      <a:lnTo>
                        <a:pt x="20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78640" y="1889640"/>
                  <a:ext cx="125640" cy="74160"/>
                </a:xfrm>
                <a:custGeom>
                  <a:avLst/>
                  <a:gdLst/>
                  <a:ahLst/>
                  <a:rect l="l" t="t" r="r" b="b"/>
                  <a:pathLst>
                    <a:path w="205" h="75">
                      <a:moveTo>
                        <a:pt x="205" y="16"/>
                      </a:moveTo>
                      <a:lnTo>
                        <a:pt x="159" y="0"/>
                      </a:lnTo>
                      <a:lnTo>
                        <a:pt x="53" y="47"/>
                      </a:lnTo>
                      <a:lnTo>
                        <a:pt x="0" y="31"/>
                      </a:lnTo>
                      <a:lnTo>
                        <a:pt x="27" y="75"/>
                      </a:lnTo>
                      <a:lnTo>
                        <a:pt x="159" y="75"/>
                      </a:lnTo>
                      <a:lnTo>
                        <a:pt x="102" y="59"/>
                      </a:lnTo>
                      <a:lnTo>
                        <a:pt x="20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885840" y="180360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7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885840" y="180360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7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010760" y="189756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6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010760" y="189756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6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" name=""/>
            <p:cNvGrpSpPr/>
            <p:nvPr/>
          </p:nvGrpSpPr>
          <p:grpSpPr>
            <a:xfrm>
              <a:off x="3910320" y="2004480"/>
              <a:ext cx="190800" cy="127440"/>
              <a:chOff x="3910320" y="2004480"/>
              <a:chExt cx="190800" cy="127440"/>
            </a:xfrm>
          </p:grpSpPr>
          <p:sp>
            <p:nvSpPr>
              <p:cNvPr id="128" name=""/>
              <p:cNvSpPr/>
              <p:nvPr/>
            </p:nvSpPr>
            <p:spPr>
              <a:xfrm>
                <a:off x="3910320" y="2004480"/>
                <a:ext cx="189000" cy="12348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46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7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7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7" y="99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6" y="106"/>
                    </a:lnTo>
                    <a:lnTo>
                      <a:pt x="46" y="122"/>
                    </a:lnTo>
                    <a:lnTo>
                      <a:pt x="0" y="99"/>
                    </a:lnTo>
                    <a:lnTo>
                      <a:pt x="46" y="71"/>
                    </a:lnTo>
                    <a:lnTo>
                      <a:pt x="46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6" y="31"/>
                    </a:lnTo>
                    <a:lnTo>
                      <a:pt x="46" y="47"/>
                    </a:lnTo>
                    <a:lnTo>
                      <a:pt x="0" y="23"/>
                    </a:lnTo>
                    <a:lnTo>
                      <a:pt x="46" y="0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10320" y="2004480"/>
                <a:ext cx="189000" cy="12348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46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7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7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7" y="99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6" y="106"/>
                    </a:lnTo>
                    <a:lnTo>
                      <a:pt x="46" y="122"/>
                    </a:lnTo>
                    <a:lnTo>
                      <a:pt x="0" y="99"/>
                    </a:lnTo>
                    <a:lnTo>
                      <a:pt x="46" y="71"/>
                    </a:lnTo>
                    <a:lnTo>
                      <a:pt x="46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6" y="31"/>
                    </a:lnTo>
                    <a:lnTo>
                      <a:pt x="46" y="47"/>
                    </a:lnTo>
                    <a:lnTo>
                      <a:pt x="0" y="23"/>
                    </a:lnTo>
                    <a:lnTo>
                      <a:pt x="46" y="0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12480" y="2008440"/>
                <a:ext cx="188640" cy="123480"/>
              </a:xfrm>
              <a:custGeom>
                <a:avLst/>
                <a:gdLst/>
                <a:ahLst/>
                <a:rect l="l" t="t" r="r" b="b"/>
                <a:pathLst>
                  <a:path w="306" h="122">
                    <a:moveTo>
                      <a:pt x="45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6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6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6" y="98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5" y="106"/>
                    </a:lnTo>
                    <a:lnTo>
                      <a:pt x="45" y="122"/>
                    </a:lnTo>
                    <a:lnTo>
                      <a:pt x="0" y="98"/>
                    </a:lnTo>
                    <a:lnTo>
                      <a:pt x="45" y="71"/>
                    </a:lnTo>
                    <a:lnTo>
                      <a:pt x="45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5" y="31"/>
                    </a:lnTo>
                    <a:lnTo>
                      <a:pt x="45" y="47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12480" y="2008440"/>
                <a:ext cx="188640" cy="123480"/>
              </a:xfrm>
              <a:custGeom>
                <a:avLst/>
                <a:gdLst/>
                <a:ahLst/>
                <a:rect l="l" t="t" r="r" b="b"/>
                <a:pathLst>
                  <a:path w="306" h="122">
                    <a:moveTo>
                      <a:pt x="45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6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6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6" y="98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5" y="106"/>
                    </a:lnTo>
                    <a:lnTo>
                      <a:pt x="45" y="122"/>
                    </a:lnTo>
                    <a:lnTo>
                      <a:pt x="0" y="98"/>
                    </a:lnTo>
                    <a:lnTo>
                      <a:pt x="45" y="71"/>
                    </a:lnTo>
                    <a:lnTo>
                      <a:pt x="45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5" y="31"/>
                    </a:lnTo>
                    <a:lnTo>
                      <a:pt x="45" y="47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3444840" y="2371680"/>
            <a:ext cx="380880" cy="380880"/>
            <a:chOff x="3444840" y="2371680"/>
            <a:chExt cx="380880" cy="380880"/>
          </a:xfrm>
        </p:grpSpPr>
        <p:sp>
          <p:nvSpPr>
            <p:cNvPr id="133" name=""/>
            <p:cNvSpPr/>
            <p:nvPr/>
          </p:nvSpPr>
          <p:spPr>
            <a:xfrm>
              <a:off x="3445560" y="2531520"/>
              <a:ext cx="380160" cy="221040"/>
            </a:xfrm>
            <a:prstGeom prst="ellipse">
              <a:avLst/>
            </a:prstGeom>
            <a:solidFill>
              <a:srgbClr val="008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44840" y="2485440"/>
              <a:ext cx="380160" cy="1573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44840" y="2485440"/>
              <a:ext cx="380160" cy="157320"/>
            </a:xfrm>
            <a:prstGeom prst="rect">
              <a:avLst/>
            </a:prstGeom>
            <a:solidFill>
              <a:srgbClr val="008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44840" y="2371680"/>
              <a:ext cx="380160" cy="221040"/>
            </a:xfrm>
            <a:prstGeom prst="ellipse">
              <a:avLst/>
            </a:prstGeom>
            <a:gradFill rotWithShape="0">
              <a:gsLst>
                <a:gs pos="0">
                  <a:srgbClr val="9ac7e2"/>
                </a:gs>
                <a:gs pos="100000">
                  <a:srgbClr val="6e8e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503520" y="2400120"/>
              <a:ext cx="263520" cy="167760"/>
              <a:chOff x="3503520" y="2400120"/>
              <a:chExt cx="263520" cy="16776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3503520" y="2400120"/>
                <a:ext cx="261360" cy="164160"/>
                <a:chOff x="3503520" y="2400120"/>
                <a:chExt cx="261360" cy="164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639960" y="240372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55"/>
                      </a:moveTo>
                      <a:lnTo>
                        <a:pt x="45" y="71"/>
                      </a:lnTo>
                      <a:lnTo>
                        <a:pt x="155" y="23"/>
                      </a:lnTo>
                      <a:lnTo>
                        <a:pt x="204" y="39"/>
                      </a:lnTo>
                      <a:lnTo>
                        <a:pt x="177" y="0"/>
                      </a:lnTo>
                      <a:lnTo>
                        <a:pt x="49" y="0"/>
                      </a:lnTo>
                      <a:lnTo>
                        <a:pt x="102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39960" y="240372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55"/>
                      </a:moveTo>
                      <a:lnTo>
                        <a:pt x="45" y="71"/>
                      </a:lnTo>
                      <a:lnTo>
                        <a:pt x="155" y="23"/>
                      </a:lnTo>
                      <a:lnTo>
                        <a:pt x="204" y="39"/>
                      </a:lnTo>
                      <a:lnTo>
                        <a:pt x="177" y="0"/>
                      </a:lnTo>
                      <a:lnTo>
                        <a:pt x="49" y="0"/>
                      </a:lnTo>
                      <a:lnTo>
                        <a:pt x="102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503520" y="2486160"/>
                  <a:ext cx="1245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75">
                      <a:moveTo>
                        <a:pt x="204" y="16"/>
                      </a:moveTo>
                      <a:lnTo>
                        <a:pt x="158" y="0"/>
                      </a:lnTo>
                      <a:lnTo>
                        <a:pt x="52" y="47"/>
                      </a:lnTo>
                      <a:lnTo>
                        <a:pt x="0" y="31"/>
                      </a:lnTo>
                      <a:lnTo>
                        <a:pt x="26" y="75"/>
                      </a:lnTo>
                      <a:lnTo>
                        <a:pt x="158" y="75"/>
                      </a:lnTo>
                      <a:lnTo>
                        <a:pt x="102" y="59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503520" y="2486160"/>
                  <a:ext cx="1245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75">
                      <a:moveTo>
                        <a:pt x="204" y="16"/>
                      </a:moveTo>
                      <a:lnTo>
                        <a:pt x="158" y="0"/>
                      </a:lnTo>
                      <a:lnTo>
                        <a:pt x="52" y="47"/>
                      </a:lnTo>
                      <a:lnTo>
                        <a:pt x="0" y="31"/>
                      </a:lnTo>
                      <a:lnTo>
                        <a:pt x="26" y="75"/>
                      </a:lnTo>
                      <a:lnTo>
                        <a:pt x="158" y="75"/>
                      </a:lnTo>
                      <a:lnTo>
                        <a:pt x="102" y="59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510000" y="240012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8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510000" y="240012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8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634920" y="2494080"/>
                  <a:ext cx="12456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7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634920" y="2494080"/>
                  <a:ext cx="12456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7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505320" y="2403720"/>
                <a:ext cx="261720" cy="164160"/>
                <a:chOff x="3505320" y="2403720"/>
                <a:chExt cx="261720" cy="164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641760" y="2407680"/>
                  <a:ext cx="125280" cy="70200"/>
                </a:xfrm>
                <a:custGeom>
                  <a:avLst/>
                  <a:gdLst/>
                  <a:ahLst/>
                  <a:rect l="l" t="t" r="r" b="b"/>
                  <a:pathLst>
                    <a:path w="205" h="71">
                      <a:moveTo>
                        <a:pt x="0" y="55"/>
                      </a:moveTo>
                      <a:lnTo>
                        <a:pt x="46" y="71"/>
                      </a:lnTo>
                      <a:lnTo>
                        <a:pt x="156" y="23"/>
                      </a:lnTo>
                      <a:lnTo>
                        <a:pt x="205" y="39"/>
                      </a:lnTo>
                      <a:lnTo>
                        <a:pt x="178" y="0"/>
                      </a:lnTo>
                      <a:lnTo>
                        <a:pt x="50" y="0"/>
                      </a:lnTo>
                      <a:lnTo>
                        <a:pt x="103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641760" y="2407680"/>
                  <a:ext cx="125280" cy="70200"/>
                </a:xfrm>
                <a:custGeom>
                  <a:avLst/>
                  <a:gdLst/>
                  <a:ahLst/>
                  <a:rect l="l" t="t" r="r" b="b"/>
                  <a:pathLst>
                    <a:path w="205" h="71">
                      <a:moveTo>
                        <a:pt x="0" y="55"/>
                      </a:moveTo>
                      <a:lnTo>
                        <a:pt x="46" y="71"/>
                      </a:lnTo>
                      <a:lnTo>
                        <a:pt x="156" y="23"/>
                      </a:lnTo>
                      <a:lnTo>
                        <a:pt x="205" y="39"/>
                      </a:lnTo>
                      <a:lnTo>
                        <a:pt x="178" y="0"/>
                      </a:lnTo>
                      <a:lnTo>
                        <a:pt x="50" y="0"/>
                      </a:lnTo>
                      <a:lnTo>
                        <a:pt x="103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505320" y="2489760"/>
                  <a:ext cx="125280" cy="74160"/>
                </a:xfrm>
                <a:custGeom>
                  <a:avLst/>
                  <a:gdLst/>
                  <a:ahLst/>
                  <a:rect l="l" t="t" r="r" b="b"/>
                  <a:pathLst>
                    <a:path w="205" h="75">
                      <a:moveTo>
                        <a:pt x="205" y="16"/>
                      </a:moveTo>
                      <a:lnTo>
                        <a:pt x="159" y="0"/>
                      </a:lnTo>
                      <a:lnTo>
                        <a:pt x="53" y="47"/>
                      </a:lnTo>
                      <a:lnTo>
                        <a:pt x="0" y="31"/>
                      </a:lnTo>
                      <a:lnTo>
                        <a:pt x="27" y="75"/>
                      </a:lnTo>
                      <a:lnTo>
                        <a:pt x="159" y="75"/>
                      </a:lnTo>
                      <a:lnTo>
                        <a:pt x="102" y="59"/>
                      </a:lnTo>
                      <a:lnTo>
                        <a:pt x="20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505320" y="2489760"/>
                  <a:ext cx="125280" cy="74160"/>
                </a:xfrm>
                <a:custGeom>
                  <a:avLst/>
                  <a:gdLst/>
                  <a:ahLst/>
                  <a:rect l="l" t="t" r="r" b="b"/>
                  <a:pathLst>
                    <a:path w="205" h="75">
                      <a:moveTo>
                        <a:pt x="205" y="16"/>
                      </a:moveTo>
                      <a:lnTo>
                        <a:pt x="159" y="0"/>
                      </a:lnTo>
                      <a:lnTo>
                        <a:pt x="53" y="47"/>
                      </a:lnTo>
                      <a:lnTo>
                        <a:pt x="0" y="31"/>
                      </a:lnTo>
                      <a:lnTo>
                        <a:pt x="27" y="75"/>
                      </a:lnTo>
                      <a:lnTo>
                        <a:pt x="159" y="75"/>
                      </a:lnTo>
                      <a:lnTo>
                        <a:pt x="102" y="59"/>
                      </a:lnTo>
                      <a:lnTo>
                        <a:pt x="20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12520" y="2403720"/>
                  <a:ext cx="12456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7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12520" y="2403720"/>
                  <a:ext cx="12456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7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637440" y="249768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6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637440" y="249768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6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" name=""/>
            <p:cNvGrpSpPr/>
            <p:nvPr/>
          </p:nvGrpSpPr>
          <p:grpSpPr>
            <a:xfrm>
              <a:off x="3537360" y="2604240"/>
              <a:ext cx="190440" cy="127080"/>
              <a:chOff x="3537360" y="2604240"/>
              <a:chExt cx="190440" cy="127080"/>
            </a:xfrm>
          </p:grpSpPr>
          <p:sp>
            <p:nvSpPr>
              <p:cNvPr id="157" name=""/>
              <p:cNvSpPr/>
              <p:nvPr/>
            </p:nvSpPr>
            <p:spPr>
              <a:xfrm>
                <a:off x="3537360" y="2604240"/>
                <a:ext cx="188640" cy="12312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46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7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7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7" y="99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6" y="106"/>
                    </a:lnTo>
                    <a:lnTo>
                      <a:pt x="46" y="122"/>
                    </a:lnTo>
                    <a:lnTo>
                      <a:pt x="0" y="99"/>
                    </a:lnTo>
                    <a:lnTo>
                      <a:pt x="46" y="71"/>
                    </a:lnTo>
                    <a:lnTo>
                      <a:pt x="46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6" y="31"/>
                    </a:lnTo>
                    <a:lnTo>
                      <a:pt x="46" y="47"/>
                    </a:lnTo>
                    <a:lnTo>
                      <a:pt x="0" y="23"/>
                    </a:lnTo>
                    <a:lnTo>
                      <a:pt x="46" y="0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537360" y="2604240"/>
                <a:ext cx="188640" cy="12312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46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7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7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7" y="99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6" y="106"/>
                    </a:lnTo>
                    <a:lnTo>
                      <a:pt x="46" y="122"/>
                    </a:lnTo>
                    <a:lnTo>
                      <a:pt x="0" y="99"/>
                    </a:lnTo>
                    <a:lnTo>
                      <a:pt x="46" y="71"/>
                    </a:lnTo>
                    <a:lnTo>
                      <a:pt x="46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6" y="31"/>
                    </a:lnTo>
                    <a:lnTo>
                      <a:pt x="46" y="47"/>
                    </a:lnTo>
                    <a:lnTo>
                      <a:pt x="0" y="23"/>
                    </a:lnTo>
                    <a:lnTo>
                      <a:pt x="46" y="0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39520" y="2608200"/>
                <a:ext cx="188280" cy="123120"/>
              </a:xfrm>
              <a:custGeom>
                <a:avLst/>
                <a:gdLst/>
                <a:ahLst/>
                <a:rect l="l" t="t" r="r" b="b"/>
                <a:pathLst>
                  <a:path w="306" h="122">
                    <a:moveTo>
                      <a:pt x="45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6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6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6" y="98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5" y="106"/>
                    </a:lnTo>
                    <a:lnTo>
                      <a:pt x="45" y="122"/>
                    </a:lnTo>
                    <a:lnTo>
                      <a:pt x="0" y="98"/>
                    </a:lnTo>
                    <a:lnTo>
                      <a:pt x="45" y="71"/>
                    </a:lnTo>
                    <a:lnTo>
                      <a:pt x="45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5" y="31"/>
                    </a:lnTo>
                    <a:lnTo>
                      <a:pt x="45" y="47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39520" y="2608200"/>
                <a:ext cx="188280" cy="123120"/>
              </a:xfrm>
              <a:custGeom>
                <a:avLst/>
                <a:gdLst/>
                <a:ahLst/>
                <a:rect l="l" t="t" r="r" b="b"/>
                <a:pathLst>
                  <a:path w="306" h="122">
                    <a:moveTo>
                      <a:pt x="45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6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6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6" y="98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5" y="106"/>
                    </a:lnTo>
                    <a:lnTo>
                      <a:pt x="45" y="122"/>
                    </a:lnTo>
                    <a:lnTo>
                      <a:pt x="0" y="98"/>
                    </a:lnTo>
                    <a:lnTo>
                      <a:pt x="45" y="71"/>
                    </a:lnTo>
                    <a:lnTo>
                      <a:pt x="45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5" y="31"/>
                    </a:lnTo>
                    <a:lnTo>
                      <a:pt x="45" y="47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4035600" y="2173320"/>
            <a:ext cx="0" cy="1000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09960" y="533412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Firewall/VPN Route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DFL-500/DFL-1000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71520" y="4167360"/>
            <a:ext cx="252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I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絡遺羹"/>
              </a:rPr>
              <a:t>ntrusion Detection Syste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DFL-2100/2400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35280" y="215280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Cabl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43040" y="1876320"/>
            <a:ext cx="1284480" cy="129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019920" y="3833640"/>
            <a:ext cx="1143000" cy="694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252560" y="4156200"/>
            <a:ext cx="17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新細明體"/>
              </a:rPr>
              <a:t>IDS Policy Server</a:t>
            </a:r>
            <a:r>
              <a:rPr b="0" i="1" lang="en-US" sz="14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8" name="0263491" descr=""/>
          <p:cNvPicPr/>
          <p:nvPr/>
        </p:nvPicPr>
        <p:blipFill>
          <a:blip r:embed="rId4"/>
          <a:stretch/>
        </p:blipFill>
        <p:spPr>
          <a:xfrm>
            <a:off x="3209760" y="3173400"/>
            <a:ext cx="1295640" cy="433440"/>
          </a:xfrm>
          <a:prstGeom prst="rect">
            <a:avLst/>
          </a:prstGeom>
          <a:ln w="0">
            <a:noFill/>
          </a:ln>
        </p:spPr>
      </p:pic>
      <p:pic>
        <p:nvPicPr>
          <p:cNvPr id="169" name="DFL-2100%20new%20housing" descr=""/>
          <p:cNvPicPr/>
          <p:nvPr/>
        </p:nvPicPr>
        <p:blipFill>
          <a:blip r:embed="rId5"/>
          <a:stretch/>
        </p:blipFill>
        <p:spPr>
          <a:xfrm>
            <a:off x="3759120" y="4003560"/>
            <a:ext cx="1596960" cy="701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4199040" y="5030640"/>
            <a:ext cx="1752480" cy="703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35440" y="614520"/>
            <a:ext cx="184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7720" y="457200"/>
            <a:ext cx="559728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Current Solution 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for Enterprise Security Network 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71520" y="313992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WAN Load-Balancer</a:t>
            </a:r>
            <a:r>
              <a:rPr b="0" i="1" lang="en-US" sz="1400" spc="-1" strike="noStrike">
                <a:solidFill>
                  <a:srgbClr val="ff6600"/>
                </a:solidFill>
                <a:latin typeface="Arial"/>
                <a:ea typeface="新細明體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DLB-1200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2026800"/>
            <a:ext cx="5070600" cy="4683240"/>
          </a:xfrm>
          <a:prstGeom prst="irregularSeal2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All–in–On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DFL-3105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Provide a total security solu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Cloud"/>
          <p:cNvSpPr/>
          <p:nvPr/>
        </p:nvSpPr>
        <p:spPr>
          <a:xfrm>
            <a:off x="1628640" y="1617840"/>
            <a:ext cx="914400" cy="561960"/>
          </a:xfrm>
          <a:prstGeom prst="pie">
            <a:avLst/>
          </a:prstGeom>
          <a:solidFill>
            <a:srgbClr val="cc66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ISP A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463920" y="2725560"/>
            <a:ext cx="0" cy="5302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13000" y="2543040"/>
            <a:ext cx="96048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965840" y="1341360"/>
            <a:ext cx="3776400" cy="2394000"/>
            <a:chOff x="4965840" y="1341360"/>
            <a:chExt cx="3776400" cy="2394000"/>
          </a:xfrm>
        </p:grpSpPr>
        <p:graphicFrame>
          <p:nvGraphicFramePr>
            <p:cNvPr id="179" name=""/>
            <p:cNvGraphicFramePr/>
            <p:nvPr/>
          </p:nvGraphicFramePr>
          <p:xfrm>
            <a:off x="4965840" y="1341360"/>
            <a:ext cx="3776400" cy="2394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65840" y="1341360"/>
                      <a:ext cx="3776400" cy="239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7327800" y="3398760"/>
              <a:ext cx="9900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894280" y="2824200"/>
            <a:ext cx="457200" cy="7272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1398600" y="1644480"/>
            <a:ext cx="914400" cy="562320"/>
          </a:xfrm>
          <a:prstGeom prst="pie">
            <a:avLst/>
          </a:prstGeom>
          <a:solidFill>
            <a:srgbClr val="cc66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ISP A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1398600" y="2330280"/>
            <a:ext cx="914400" cy="562320"/>
          </a:xfrm>
          <a:prstGeom prst="pie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ISP B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5600" y="17161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ADSL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587760" y="1854360"/>
            <a:ext cx="380880" cy="380880"/>
            <a:chOff x="3587760" y="1854360"/>
            <a:chExt cx="380880" cy="380880"/>
          </a:xfrm>
        </p:grpSpPr>
        <p:sp>
          <p:nvSpPr>
            <p:cNvPr id="187" name=""/>
            <p:cNvSpPr/>
            <p:nvPr/>
          </p:nvSpPr>
          <p:spPr>
            <a:xfrm>
              <a:off x="3588480" y="2014200"/>
              <a:ext cx="380160" cy="221040"/>
            </a:xfrm>
            <a:prstGeom prst="ellipse">
              <a:avLst/>
            </a:prstGeom>
            <a:solidFill>
              <a:srgbClr val="008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7760" y="1968120"/>
              <a:ext cx="380160" cy="1573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87760" y="1968120"/>
              <a:ext cx="380160" cy="157320"/>
            </a:xfrm>
            <a:prstGeom prst="rect">
              <a:avLst/>
            </a:prstGeom>
            <a:solidFill>
              <a:srgbClr val="008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87760" y="1854360"/>
              <a:ext cx="380160" cy="221040"/>
            </a:xfrm>
            <a:prstGeom prst="ellipse">
              <a:avLst/>
            </a:prstGeom>
            <a:gradFill rotWithShape="0">
              <a:gsLst>
                <a:gs pos="0">
                  <a:srgbClr val="9ac7e2"/>
                </a:gs>
                <a:gs pos="100000">
                  <a:srgbClr val="6e8e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646440" y="1882800"/>
              <a:ext cx="263520" cy="167760"/>
              <a:chOff x="3646440" y="1882800"/>
              <a:chExt cx="263520" cy="1677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3646440" y="1882800"/>
                <a:ext cx="261360" cy="164160"/>
                <a:chOff x="3646440" y="1882800"/>
                <a:chExt cx="261360" cy="164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782880" y="188640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55"/>
                      </a:moveTo>
                      <a:lnTo>
                        <a:pt x="45" y="71"/>
                      </a:lnTo>
                      <a:lnTo>
                        <a:pt x="155" y="23"/>
                      </a:lnTo>
                      <a:lnTo>
                        <a:pt x="204" y="39"/>
                      </a:lnTo>
                      <a:lnTo>
                        <a:pt x="177" y="0"/>
                      </a:lnTo>
                      <a:lnTo>
                        <a:pt x="49" y="0"/>
                      </a:lnTo>
                      <a:lnTo>
                        <a:pt x="102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782880" y="188640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55"/>
                      </a:moveTo>
                      <a:lnTo>
                        <a:pt x="45" y="71"/>
                      </a:lnTo>
                      <a:lnTo>
                        <a:pt x="155" y="23"/>
                      </a:lnTo>
                      <a:lnTo>
                        <a:pt x="204" y="39"/>
                      </a:lnTo>
                      <a:lnTo>
                        <a:pt x="177" y="0"/>
                      </a:lnTo>
                      <a:lnTo>
                        <a:pt x="49" y="0"/>
                      </a:lnTo>
                      <a:lnTo>
                        <a:pt x="102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646440" y="1968840"/>
                  <a:ext cx="1245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75">
                      <a:moveTo>
                        <a:pt x="204" y="16"/>
                      </a:moveTo>
                      <a:lnTo>
                        <a:pt x="158" y="0"/>
                      </a:lnTo>
                      <a:lnTo>
                        <a:pt x="52" y="47"/>
                      </a:lnTo>
                      <a:lnTo>
                        <a:pt x="0" y="31"/>
                      </a:lnTo>
                      <a:lnTo>
                        <a:pt x="26" y="75"/>
                      </a:lnTo>
                      <a:lnTo>
                        <a:pt x="158" y="75"/>
                      </a:lnTo>
                      <a:lnTo>
                        <a:pt x="102" y="59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646440" y="1968840"/>
                  <a:ext cx="1245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75">
                      <a:moveTo>
                        <a:pt x="204" y="16"/>
                      </a:moveTo>
                      <a:lnTo>
                        <a:pt x="158" y="0"/>
                      </a:lnTo>
                      <a:lnTo>
                        <a:pt x="52" y="47"/>
                      </a:lnTo>
                      <a:lnTo>
                        <a:pt x="0" y="31"/>
                      </a:lnTo>
                      <a:lnTo>
                        <a:pt x="26" y="75"/>
                      </a:lnTo>
                      <a:lnTo>
                        <a:pt x="158" y="75"/>
                      </a:lnTo>
                      <a:lnTo>
                        <a:pt x="102" y="59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652920" y="188280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8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652920" y="188280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8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777840" y="1976760"/>
                  <a:ext cx="12456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7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777840" y="1976760"/>
                  <a:ext cx="12456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7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648240" y="1886400"/>
                <a:ext cx="261720" cy="164160"/>
                <a:chOff x="3648240" y="1886400"/>
                <a:chExt cx="261720" cy="164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784680" y="1890360"/>
                  <a:ext cx="125280" cy="70200"/>
                </a:xfrm>
                <a:custGeom>
                  <a:avLst/>
                  <a:gdLst/>
                  <a:ahLst/>
                  <a:rect l="l" t="t" r="r" b="b"/>
                  <a:pathLst>
                    <a:path w="205" h="71">
                      <a:moveTo>
                        <a:pt x="0" y="55"/>
                      </a:moveTo>
                      <a:lnTo>
                        <a:pt x="46" y="71"/>
                      </a:lnTo>
                      <a:lnTo>
                        <a:pt x="156" y="23"/>
                      </a:lnTo>
                      <a:lnTo>
                        <a:pt x="205" y="39"/>
                      </a:lnTo>
                      <a:lnTo>
                        <a:pt x="178" y="0"/>
                      </a:lnTo>
                      <a:lnTo>
                        <a:pt x="50" y="0"/>
                      </a:lnTo>
                      <a:lnTo>
                        <a:pt x="103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84680" y="1890360"/>
                  <a:ext cx="125280" cy="70200"/>
                </a:xfrm>
                <a:custGeom>
                  <a:avLst/>
                  <a:gdLst/>
                  <a:ahLst/>
                  <a:rect l="l" t="t" r="r" b="b"/>
                  <a:pathLst>
                    <a:path w="205" h="71">
                      <a:moveTo>
                        <a:pt x="0" y="55"/>
                      </a:moveTo>
                      <a:lnTo>
                        <a:pt x="46" y="71"/>
                      </a:lnTo>
                      <a:lnTo>
                        <a:pt x="156" y="23"/>
                      </a:lnTo>
                      <a:lnTo>
                        <a:pt x="205" y="39"/>
                      </a:lnTo>
                      <a:lnTo>
                        <a:pt x="178" y="0"/>
                      </a:lnTo>
                      <a:lnTo>
                        <a:pt x="50" y="0"/>
                      </a:lnTo>
                      <a:lnTo>
                        <a:pt x="103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648240" y="1972440"/>
                  <a:ext cx="125280" cy="74160"/>
                </a:xfrm>
                <a:custGeom>
                  <a:avLst/>
                  <a:gdLst/>
                  <a:ahLst/>
                  <a:rect l="l" t="t" r="r" b="b"/>
                  <a:pathLst>
                    <a:path w="205" h="75">
                      <a:moveTo>
                        <a:pt x="205" y="16"/>
                      </a:moveTo>
                      <a:lnTo>
                        <a:pt x="159" y="0"/>
                      </a:lnTo>
                      <a:lnTo>
                        <a:pt x="53" y="47"/>
                      </a:lnTo>
                      <a:lnTo>
                        <a:pt x="0" y="31"/>
                      </a:lnTo>
                      <a:lnTo>
                        <a:pt x="27" y="75"/>
                      </a:lnTo>
                      <a:lnTo>
                        <a:pt x="159" y="75"/>
                      </a:lnTo>
                      <a:lnTo>
                        <a:pt x="102" y="59"/>
                      </a:lnTo>
                      <a:lnTo>
                        <a:pt x="20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648240" y="1972440"/>
                  <a:ext cx="125280" cy="74160"/>
                </a:xfrm>
                <a:custGeom>
                  <a:avLst/>
                  <a:gdLst/>
                  <a:ahLst/>
                  <a:rect l="l" t="t" r="r" b="b"/>
                  <a:pathLst>
                    <a:path w="205" h="75">
                      <a:moveTo>
                        <a:pt x="205" y="16"/>
                      </a:moveTo>
                      <a:lnTo>
                        <a:pt x="159" y="0"/>
                      </a:lnTo>
                      <a:lnTo>
                        <a:pt x="53" y="47"/>
                      </a:lnTo>
                      <a:lnTo>
                        <a:pt x="0" y="31"/>
                      </a:lnTo>
                      <a:lnTo>
                        <a:pt x="27" y="75"/>
                      </a:lnTo>
                      <a:lnTo>
                        <a:pt x="159" y="75"/>
                      </a:lnTo>
                      <a:lnTo>
                        <a:pt x="102" y="59"/>
                      </a:lnTo>
                      <a:lnTo>
                        <a:pt x="20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655440" y="1886400"/>
                  <a:ext cx="12456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7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655440" y="1886400"/>
                  <a:ext cx="12456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7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80360" y="198036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6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80360" y="198036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6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0" name=""/>
            <p:cNvGrpSpPr/>
            <p:nvPr/>
          </p:nvGrpSpPr>
          <p:grpSpPr>
            <a:xfrm>
              <a:off x="3680280" y="2086920"/>
              <a:ext cx="190440" cy="127080"/>
              <a:chOff x="3680280" y="2086920"/>
              <a:chExt cx="190440" cy="127080"/>
            </a:xfrm>
          </p:grpSpPr>
          <p:sp>
            <p:nvSpPr>
              <p:cNvPr id="211" name=""/>
              <p:cNvSpPr/>
              <p:nvPr/>
            </p:nvSpPr>
            <p:spPr>
              <a:xfrm>
                <a:off x="3680280" y="2086920"/>
                <a:ext cx="188640" cy="12312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46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7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7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7" y="99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6" y="106"/>
                    </a:lnTo>
                    <a:lnTo>
                      <a:pt x="46" y="122"/>
                    </a:lnTo>
                    <a:lnTo>
                      <a:pt x="0" y="99"/>
                    </a:lnTo>
                    <a:lnTo>
                      <a:pt x="46" y="71"/>
                    </a:lnTo>
                    <a:lnTo>
                      <a:pt x="46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6" y="31"/>
                    </a:lnTo>
                    <a:lnTo>
                      <a:pt x="46" y="47"/>
                    </a:lnTo>
                    <a:lnTo>
                      <a:pt x="0" y="23"/>
                    </a:lnTo>
                    <a:lnTo>
                      <a:pt x="46" y="0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80280" y="2086920"/>
                <a:ext cx="188640" cy="12312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46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7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7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7" y="99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6" y="106"/>
                    </a:lnTo>
                    <a:lnTo>
                      <a:pt x="46" y="122"/>
                    </a:lnTo>
                    <a:lnTo>
                      <a:pt x="0" y="99"/>
                    </a:lnTo>
                    <a:lnTo>
                      <a:pt x="46" y="71"/>
                    </a:lnTo>
                    <a:lnTo>
                      <a:pt x="46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6" y="31"/>
                    </a:lnTo>
                    <a:lnTo>
                      <a:pt x="46" y="47"/>
                    </a:lnTo>
                    <a:lnTo>
                      <a:pt x="0" y="23"/>
                    </a:lnTo>
                    <a:lnTo>
                      <a:pt x="46" y="0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682440" y="2090880"/>
                <a:ext cx="188280" cy="123120"/>
              </a:xfrm>
              <a:custGeom>
                <a:avLst/>
                <a:gdLst/>
                <a:ahLst/>
                <a:rect l="l" t="t" r="r" b="b"/>
                <a:pathLst>
                  <a:path w="306" h="122">
                    <a:moveTo>
                      <a:pt x="45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6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6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6" y="98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5" y="106"/>
                    </a:lnTo>
                    <a:lnTo>
                      <a:pt x="45" y="122"/>
                    </a:lnTo>
                    <a:lnTo>
                      <a:pt x="0" y="98"/>
                    </a:lnTo>
                    <a:lnTo>
                      <a:pt x="45" y="71"/>
                    </a:lnTo>
                    <a:lnTo>
                      <a:pt x="45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5" y="31"/>
                    </a:lnTo>
                    <a:lnTo>
                      <a:pt x="45" y="47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82440" y="2090880"/>
                <a:ext cx="188280" cy="123120"/>
              </a:xfrm>
              <a:custGeom>
                <a:avLst/>
                <a:gdLst/>
                <a:ahLst/>
                <a:rect l="l" t="t" r="r" b="b"/>
                <a:pathLst>
                  <a:path w="306" h="122">
                    <a:moveTo>
                      <a:pt x="45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6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6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6" y="98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5" y="106"/>
                    </a:lnTo>
                    <a:lnTo>
                      <a:pt x="45" y="122"/>
                    </a:lnTo>
                    <a:lnTo>
                      <a:pt x="0" y="98"/>
                    </a:lnTo>
                    <a:lnTo>
                      <a:pt x="45" y="71"/>
                    </a:lnTo>
                    <a:lnTo>
                      <a:pt x="45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5" y="31"/>
                    </a:lnTo>
                    <a:lnTo>
                      <a:pt x="45" y="47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3214800" y="2454120"/>
            <a:ext cx="380880" cy="380880"/>
            <a:chOff x="3214800" y="2454120"/>
            <a:chExt cx="380880" cy="380880"/>
          </a:xfrm>
        </p:grpSpPr>
        <p:sp>
          <p:nvSpPr>
            <p:cNvPr id="216" name=""/>
            <p:cNvSpPr/>
            <p:nvPr/>
          </p:nvSpPr>
          <p:spPr>
            <a:xfrm>
              <a:off x="3215520" y="2613960"/>
              <a:ext cx="380160" cy="221040"/>
            </a:xfrm>
            <a:prstGeom prst="ellipse">
              <a:avLst/>
            </a:prstGeom>
            <a:solidFill>
              <a:srgbClr val="008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14800" y="2568240"/>
              <a:ext cx="380160" cy="1573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14800" y="2568240"/>
              <a:ext cx="380160" cy="157320"/>
            </a:xfrm>
            <a:prstGeom prst="rect">
              <a:avLst/>
            </a:prstGeom>
            <a:solidFill>
              <a:srgbClr val="008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14800" y="2454120"/>
              <a:ext cx="380160" cy="221400"/>
            </a:xfrm>
            <a:prstGeom prst="ellipse">
              <a:avLst/>
            </a:prstGeom>
            <a:gradFill rotWithShape="0">
              <a:gsLst>
                <a:gs pos="0">
                  <a:srgbClr val="9ac7e2"/>
                </a:gs>
                <a:gs pos="100000">
                  <a:srgbClr val="6e8e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273480" y="2482560"/>
              <a:ext cx="263520" cy="167760"/>
              <a:chOff x="3273480" y="2482560"/>
              <a:chExt cx="263520" cy="16776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3273480" y="2482560"/>
                <a:ext cx="261360" cy="164160"/>
                <a:chOff x="3273480" y="2482560"/>
                <a:chExt cx="261360" cy="1641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409920" y="248616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55"/>
                      </a:moveTo>
                      <a:lnTo>
                        <a:pt x="45" y="71"/>
                      </a:lnTo>
                      <a:lnTo>
                        <a:pt x="155" y="23"/>
                      </a:lnTo>
                      <a:lnTo>
                        <a:pt x="204" y="39"/>
                      </a:lnTo>
                      <a:lnTo>
                        <a:pt x="177" y="0"/>
                      </a:lnTo>
                      <a:lnTo>
                        <a:pt x="49" y="0"/>
                      </a:lnTo>
                      <a:lnTo>
                        <a:pt x="102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409920" y="248616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55"/>
                      </a:moveTo>
                      <a:lnTo>
                        <a:pt x="45" y="71"/>
                      </a:lnTo>
                      <a:lnTo>
                        <a:pt x="155" y="23"/>
                      </a:lnTo>
                      <a:lnTo>
                        <a:pt x="204" y="39"/>
                      </a:lnTo>
                      <a:lnTo>
                        <a:pt x="177" y="0"/>
                      </a:lnTo>
                      <a:lnTo>
                        <a:pt x="49" y="0"/>
                      </a:lnTo>
                      <a:lnTo>
                        <a:pt x="102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73480" y="2568600"/>
                  <a:ext cx="1245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75">
                      <a:moveTo>
                        <a:pt x="204" y="16"/>
                      </a:moveTo>
                      <a:lnTo>
                        <a:pt x="158" y="0"/>
                      </a:lnTo>
                      <a:lnTo>
                        <a:pt x="52" y="47"/>
                      </a:lnTo>
                      <a:lnTo>
                        <a:pt x="0" y="31"/>
                      </a:lnTo>
                      <a:lnTo>
                        <a:pt x="26" y="75"/>
                      </a:lnTo>
                      <a:lnTo>
                        <a:pt x="158" y="75"/>
                      </a:lnTo>
                      <a:lnTo>
                        <a:pt x="102" y="59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273480" y="2568600"/>
                  <a:ext cx="1245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75">
                      <a:moveTo>
                        <a:pt x="204" y="16"/>
                      </a:moveTo>
                      <a:lnTo>
                        <a:pt x="158" y="0"/>
                      </a:lnTo>
                      <a:lnTo>
                        <a:pt x="52" y="47"/>
                      </a:lnTo>
                      <a:lnTo>
                        <a:pt x="0" y="31"/>
                      </a:lnTo>
                      <a:lnTo>
                        <a:pt x="26" y="75"/>
                      </a:lnTo>
                      <a:lnTo>
                        <a:pt x="158" y="75"/>
                      </a:lnTo>
                      <a:lnTo>
                        <a:pt x="102" y="59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279960" y="248256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8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279960" y="248256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8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404880" y="2576520"/>
                  <a:ext cx="12456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7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404880" y="2576520"/>
                  <a:ext cx="12456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7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275280" y="2486160"/>
                <a:ext cx="261720" cy="164160"/>
                <a:chOff x="3275280" y="2486160"/>
                <a:chExt cx="261720" cy="1641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3411720" y="2490120"/>
                  <a:ext cx="125280" cy="70200"/>
                </a:xfrm>
                <a:custGeom>
                  <a:avLst/>
                  <a:gdLst/>
                  <a:ahLst/>
                  <a:rect l="l" t="t" r="r" b="b"/>
                  <a:pathLst>
                    <a:path w="205" h="71">
                      <a:moveTo>
                        <a:pt x="0" y="55"/>
                      </a:moveTo>
                      <a:lnTo>
                        <a:pt x="46" y="71"/>
                      </a:lnTo>
                      <a:lnTo>
                        <a:pt x="156" y="23"/>
                      </a:lnTo>
                      <a:lnTo>
                        <a:pt x="205" y="39"/>
                      </a:lnTo>
                      <a:lnTo>
                        <a:pt x="178" y="0"/>
                      </a:lnTo>
                      <a:lnTo>
                        <a:pt x="50" y="0"/>
                      </a:lnTo>
                      <a:lnTo>
                        <a:pt x="103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411720" y="2490120"/>
                  <a:ext cx="125280" cy="70200"/>
                </a:xfrm>
                <a:custGeom>
                  <a:avLst/>
                  <a:gdLst/>
                  <a:ahLst/>
                  <a:rect l="l" t="t" r="r" b="b"/>
                  <a:pathLst>
                    <a:path w="205" h="71">
                      <a:moveTo>
                        <a:pt x="0" y="55"/>
                      </a:moveTo>
                      <a:lnTo>
                        <a:pt x="46" y="71"/>
                      </a:lnTo>
                      <a:lnTo>
                        <a:pt x="156" y="23"/>
                      </a:lnTo>
                      <a:lnTo>
                        <a:pt x="205" y="39"/>
                      </a:lnTo>
                      <a:lnTo>
                        <a:pt x="178" y="0"/>
                      </a:lnTo>
                      <a:lnTo>
                        <a:pt x="50" y="0"/>
                      </a:lnTo>
                      <a:lnTo>
                        <a:pt x="103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75280" y="2572200"/>
                  <a:ext cx="125280" cy="74160"/>
                </a:xfrm>
                <a:custGeom>
                  <a:avLst/>
                  <a:gdLst/>
                  <a:ahLst/>
                  <a:rect l="l" t="t" r="r" b="b"/>
                  <a:pathLst>
                    <a:path w="205" h="75">
                      <a:moveTo>
                        <a:pt x="205" y="16"/>
                      </a:moveTo>
                      <a:lnTo>
                        <a:pt x="159" y="0"/>
                      </a:lnTo>
                      <a:lnTo>
                        <a:pt x="53" y="47"/>
                      </a:lnTo>
                      <a:lnTo>
                        <a:pt x="0" y="31"/>
                      </a:lnTo>
                      <a:lnTo>
                        <a:pt x="27" y="75"/>
                      </a:lnTo>
                      <a:lnTo>
                        <a:pt x="159" y="75"/>
                      </a:lnTo>
                      <a:lnTo>
                        <a:pt x="102" y="59"/>
                      </a:lnTo>
                      <a:lnTo>
                        <a:pt x="20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275280" y="2572200"/>
                  <a:ext cx="125280" cy="74160"/>
                </a:xfrm>
                <a:custGeom>
                  <a:avLst/>
                  <a:gdLst/>
                  <a:ahLst/>
                  <a:rect l="l" t="t" r="r" b="b"/>
                  <a:pathLst>
                    <a:path w="205" h="75">
                      <a:moveTo>
                        <a:pt x="205" y="16"/>
                      </a:moveTo>
                      <a:lnTo>
                        <a:pt x="159" y="0"/>
                      </a:lnTo>
                      <a:lnTo>
                        <a:pt x="53" y="47"/>
                      </a:lnTo>
                      <a:lnTo>
                        <a:pt x="0" y="31"/>
                      </a:lnTo>
                      <a:lnTo>
                        <a:pt x="27" y="75"/>
                      </a:lnTo>
                      <a:lnTo>
                        <a:pt x="159" y="75"/>
                      </a:lnTo>
                      <a:lnTo>
                        <a:pt x="102" y="59"/>
                      </a:lnTo>
                      <a:lnTo>
                        <a:pt x="20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282480" y="2486160"/>
                  <a:ext cx="12456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7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282480" y="2486160"/>
                  <a:ext cx="12456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7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407400" y="258012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6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407400" y="258012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6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9" name=""/>
            <p:cNvGrpSpPr/>
            <p:nvPr/>
          </p:nvGrpSpPr>
          <p:grpSpPr>
            <a:xfrm>
              <a:off x="3307320" y="2687040"/>
              <a:ext cx="190440" cy="127440"/>
              <a:chOff x="3307320" y="2687040"/>
              <a:chExt cx="190440" cy="127440"/>
            </a:xfrm>
          </p:grpSpPr>
          <p:sp>
            <p:nvSpPr>
              <p:cNvPr id="240" name=""/>
              <p:cNvSpPr/>
              <p:nvPr/>
            </p:nvSpPr>
            <p:spPr>
              <a:xfrm>
                <a:off x="3307320" y="2687040"/>
                <a:ext cx="188640" cy="12348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46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7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7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7" y="99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6" y="106"/>
                    </a:lnTo>
                    <a:lnTo>
                      <a:pt x="46" y="122"/>
                    </a:lnTo>
                    <a:lnTo>
                      <a:pt x="0" y="99"/>
                    </a:lnTo>
                    <a:lnTo>
                      <a:pt x="46" y="71"/>
                    </a:lnTo>
                    <a:lnTo>
                      <a:pt x="46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6" y="31"/>
                    </a:lnTo>
                    <a:lnTo>
                      <a:pt x="46" y="47"/>
                    </a:lnTo>
                    <a:lnTo>
                      <a:pt x="0" y="23"/>
                    </a:lnTo>
                    <a:lnTo>
                      <a:pt x="46" y="0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307320" y="2687040"/>
                <a:ext cx="188640" cy="12348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46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7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7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7" y="99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6" y="106"/>
                    </a:lnTo>
                    <a:lnTo>
                      <a:pt x="46" y="122"/>
                    </a:lnTo>
                    <a:lnTo>
                      <a:pt x="0" y="99"/>
                    </a:lnTo>
                    <a:lnTo>
                      <a:pt x="46" y="71"/>
                    </a:lnTo>
                    <a:lnTo>
                      <a:pt x="46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6" y="31"/>
                    </a:lnTo>
                    <a:lnTo>
                      <a:pt x="46" y="47"/>
                    </a:lnTo>
                    <a:lnTo>
                      <a:pt x="0" y="23"/>
                    </a:lnTo>
                    <a:lnTo>
                      <a:pt x="46" y="0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309480" y="2691000"/>
                <a:ext cx="188280" cy="123480"/>
              </a:xfrm>
              <a:custGeom>
                <a:avLst/>
                <a:gdLst/>
                <a:ahLst/>
                <a:rect l="l" t="t" r="r" b="b"/>
                <a:pathLst>
                  <a:path w="306" h="122">
                    <a:moveTo>
                      <a:pt x="45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6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6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6" y="98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5" y="106"/>
                    </a:lnTo>
                    <a:lnTo>
                      <a:pt x="45" y="122"/>
                    </a:lnTo>
                    <a:lnTo>
                      <a:pt x="0" y="98"/>
                    </a:lnTo>
                    <a:lnTo>
                      <a:pt x="45" y="71"/>
                    </a:lnTo>
                    <a:lnTo>
                      <a:pt x="45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5" y="31"/>
                    </a:lnTo>
                    <a:lnTo>
                      <a:pt x="45" y="47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309480" y="2691000"/>
                <a:ext cx="188280" cy="123480"/>
              </a:xfrm>
              <a:custGeom>
                <a:avLst/>
                <a:gdLst/>
                <a:ahLst/>
                <a:rect l="l" t="t" r="r" b="b"/>
                <a:pathLst>
                  <a:path w="306" h="122">
                    <a:moveTo>
                      <a:pt x="45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6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6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6" y="98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5" y="106"/>
                    </a:lnTo>
                    <a:lnTo>
                      <a:pt x="45" y="122"/>
                    </a:lnTo>
                    <a:lnTo>
                      <a:pt x="0" y="98"/>
                    </a:lnTo>
                    <a:lnTo>
                      <a:pt x="45" y="71"/>
                    </a:lnTo>
                    <a:lnTo>
                      <a:pt x="45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5" y="31"/>
                    </a:lnTo>
                    <a:lnTo>
                      <a:pt x="45" y="47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>
            <a:off x="3805200" y="2255760"/>
            <a:ext cx="0" cy="1000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53960" y="3924360"/>
            <a:ext cx="40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Enterprise Firewall/VPN Rout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DFL-3105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04880" y="227808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Cabl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13000" y="1959120"/>
            <a:ext cx="1284120" cy="126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5529240" y="3092400"/>
            <a:ext cx="1371600" cy="8319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98680" y="3373560"/>
            <a:ext cx="17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新細明體"/>
              </a:rPr>
              <a:t>IDS Policy Server</a:t>
            </a:r>
            <a:r>
              <a:rPr b="0" i="1" lang="en-US" sz="14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35440" y="614520"/>
            <a:ext cx="184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66960" y="457200"/>
            <a:ext cx="522000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DFL-3105 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for Enterprise Security Network 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52" name="des-3105-3" descr=""/>
          <p:cNvPicPr/>
          <p:nvPr/>
        </p:nvPicPr>
        <p:blipFill>
          <a:blip r:embed="rId4"/>
          <a:stretch/>
        </p:blipFill>
        <p:spPr>
          <a:xfrm>
            <a:off x="2590920" y="3178080"/>
            <a:ext cx="2111400" cy="746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565520" y="3551400"/>
            <a:ext cx="13287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28640" y="4565520"/>
            <a:ext cx="417204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High Performance Firewall/VPN Route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Load balance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Intrusion detection syste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Bandwidth Managemen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Anti-virus protection (release 3)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High Availability (release 3)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Competitive price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0800" y="48625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854680" y="566640"/>
            <a:ext cx="3106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DFL-3105 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Times New Roman"/>
              </a:rPr>
              <a:t>Outlook</a:t>
            </a:r>
            <a:r>
              <a:rPr b="1" i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57" name="dfl-3105-f" descr=""/>
          <p:cNvPicPr/>
          <p:nvPr/>
        </p:nvPicPr>
        <p:blipFill>
          <a:blip r:embed="rId1"/>
          <a:stretch/>
        </p:blipFill>
        <p:spPr>
          <a:xfrm>
            <a:off x="1143000" y="1857240"/>
            <a:ext cx="7467480" cy="966960"/>
          </a:xfrm>
          <a:prstGeom prst="rect">
            <a:avLst/>
          </a:prstGeom>
          <a:ln w="0">
            <a:noFill/>
          </a:ln>
        </p:spPr>
      </p:pic>
      <p:pic>
        <p:nvPicPr>
          <p:cNvPr id="258" name="dfl-3105-b" descr=""/>
          <p:cNvPicPr/>
          <p:nvPr/>
        </p:nvPicPr>
        <p:blipFill>
          <a:blip r:embed="rId2"/>
          <a:stretch/>
        </p:blipFill>
        <p:spPr>
          <a:xfrm>
            <a:off x="1143000" y="4592520"/>
            <a:ext cx="7467480" cy="9669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594400" y="2981160"/>
            <a:ext cx="33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0000"/>
                </a:solidFill>
                <a:latin typeface="Arial"/>
                <a:ea typeface="Arial"/>
              </a:rPr>
              <a:t>5 10/100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Base-TX Fast Ethernet Ports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6200000">
            <a:off x="6844320" y="2037240"/>
            <a:ext cx="447840" cy="1560600"/>
          </a:xfrm>
          <a:custGeom>
            <a:avLst/>
            <a:gdLst>
              <a:gd name="textAreaLeft" fmla="*/ 286200 w 447840"/>
              <a:gd name="textAreaRight" fmla="*/ 448200 w 447840"/>
              <a:gd name="textAreaTop" fmla="*/ 40680 h 1560600"/>
              <a:gd name="textAreaBottom" fmla="*/ 1519920 h 15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42"/>
                </a:lnTo>
                <a:cubicBezTo>
                  <a:pt x="10800" y="10042"/>
                  <a:pt x="5400" y="10942"/>
                  <a:pt x="0" y="10942"/>
                </a:cubicBezTo>
                <a:cubicBezTo>
                  <a:pt x="5400" y="10942"/>
                  <a:pt x="10800" y="11842"/>
                  <a:pt x="10800" y="127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16240" y="3255840"/>
            <a:ext cx="1369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Port 1: WAN1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Port 2: WAN2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Port 3: DMZ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Port 4: LAN1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Port 5: LAN2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2593800"/>
            <a:ext cx="0" cy="4478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93600" y="2981160"/>
            <a:ext cx="174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Console port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Diagnostic RS-232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DCE,9600,n,8,1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0560" y="5278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30760" y="5559480"/>
            <a:ext cx="23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ower supply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ff"/>
                </a:solidFill>
                <a:latin typeface="Arial"/>
                <a:ea typeface="細明體"/>
              </a:rPr>
              <a:t>110-220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細明體"/>
              </a:rPr>
              <a:t>VAC switching power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Posi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Competito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Advanta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Appl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Product Specif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505320" y="4568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Contents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477120" y="306360"/>
            <a:ext cx="2438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Competitors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80880" y="1039680"/>
          <a:ext cx="8534520" cy="5819760"/>
        </p:xfrm>
        <a:graphic>
          <a:graphicData uri="http://schemas.openxmlformats.org/drawingml/2006/table">
            <a:tbl>
              <a:tblPr/>
              <a:tblGrid>
                <a:gridCol w="2133720"/>
                <a:gridCol w="1066680"/>
                <a:gridCol w="1067040"/>
                <a:gridCol w="1066680"/>
                <a:gridCol w="1066680"/>
                <a:gridCol w="1067040"/>
                <a:gridCol w="10666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D-Link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DFL-3105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NetScreen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NS-204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Fortinet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Fortigate400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Cisco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PIX525R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SonicWall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GX2500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Nokia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IP440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U Standalone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U Standalone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U Standalone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U Chassis 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 Slots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U Standalone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U Chassis 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 Slots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5 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ports 10/100Base-TX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4 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ports 10/100Base-TX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4 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ports 10/100Base-TX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6 ports 10/100Base-TX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 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ports 10/100Base-TX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4 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ports 10/100Base-TX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Concurrent Sessio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cc"/>
                          </a:solidFill>
                          <a:latin typeface="Arial Black"/>
                          <a:ea typeface="新細明體"/>
                        </a:rPr>
                        <a:t>300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28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28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80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50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50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New session / per second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cc"/>
                          </a:solidFill>
                          <a:latin typeface="Arial Black"/>
                          <a:ea typeface="新細明體"/>
                        </a:rPr>
                        <a:t>18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3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3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7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Firewall Throughput (bps)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200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 / 400M (target)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400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00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30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00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85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-DES Throughput (bps)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00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00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00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55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92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00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Policies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4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5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Schedules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56 / </a:t>
                      </a:r>
                      <a:r>
                        <a:rPr b="1" lang="zh-TW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500 </a:t>
                      </a: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(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Release3)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56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56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56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56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56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VPN Tunnel Number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000 / 2000 (target)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5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Stateful Packet Inspection Firewall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Virtual Private Network 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Content Filtering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Intrusion Detection Syste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Bandwidth Management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Load Balance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 Black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High Availabilit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 (Release 3)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Anti-Virus, Detection &amp; Removal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 Black"/>
                          <a:ea typeface="新細明體"/>
                        </a:rPr>
                        <a:t>Y (Release 3)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Packet Filtering in VPN tunnel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 Black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Content Filtering in VPN tunnel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 Black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Session Bandwidth Control in VPN tunnel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 Black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List Price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 Black"/>
                          <a:ea typeface="新細明體"/>
                        </a:rPr>
                        <a:t>N/A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9,995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7,995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8,999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,448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,685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Posi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Competito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Advanta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Appl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Product Specif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3505320" y="4568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Contents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06:35:10Z</dcterms:created>
  <dc:creator>01674</dc:creator>
  <dc:description/>
  <dc:language>en-US</dc:language>
  <cp:lastModifiedBy>04750</cp:lastModifiedBy>
  <dcterms:modified xsi:type="dcterms:W3CDTF">2003-05-06T09:22:13Z</dcterms:modified>
  <cp:revision>211</cp:revision>
  <dc:subject/>
  <dc:title>PowerPoint 簡報</dc:title>
</cp:coreProperties>
</file>