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76360" y="53316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76360" y="53316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2560" cy="1266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33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524"/>
              </a:spcBef>
              <a:buClr>
                <a:srgbClr val="0033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524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524"/>
              </a:spcBef>
              <a:buClr>
                <a:srgbClr val="00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524"/>
              </a:spcBef>
              <a:buClr>
                <a:srgbClr val="00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137440" y="6392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343400" y="6629400"/>
            <a:ext cx="48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D-Link Systems, Inc. – Proprietary &amp; Confidential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352680" y="64008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8120" y="1491840"/>
            <a:ext cx="54100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0208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343400" y="6583320"/>
            <a:ext cx="480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c0c0"/>
                </a:solidFill>
                <a:latin typeface="Arial"/>
              </a:rPr>
              <a:t>D-Link Systems, Inc. – Proprietary &amp; Confidential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25"/>
              </a:spcBef>
              <a:buClr>
                <a:srgbClr val="0033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33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4.jpe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28800" y="220968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Internet Surveillance Camera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89a"/>
                </a:solidFill>
                <a:latin typeface="Arial"/>
              </a:rPr>
              <a:t>DCS-5300G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5715000" cy="717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581280" y="3278160"/>
            <a:ext cx="30481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8080"/>
                </a:solidFill>
                <a:latin typeface="Arial"/>
              </a:rPr>
              <a:t>DCS-5300G</a:t>
            </a:r>
            <a:endParaRPr b="0" lang="en-US" sz="3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5149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3300"/>
                </a:solidFill>
                <a:latin typeface="Arial"/>
              </a:rPr>
              <a:t>10/100Mbps Fast Ethernet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3300"/>
                </a:solidFill>
                <a:latin typeface="Arial"/>
              </a:rPr>
              <a:t>802.11G Wireless 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33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00"/>
                </a:solidFill>
                <a:latin typeface="Arial"/>
              </a:rPr>
              <a:t>WEP (64 and 128 bit) </a:t>
            </a:r>
            <a:endParaRPr b="0" lang="en-US" sz="17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3300"/>
                </a:solidFill>
                <a:latin typeface="Arial"/>
              </a:rPr>
              <a:t>CCD Sensor with Glass Lens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3300"/>
                </a:solidFill>
                <a:latin typeface="Arial"/>
              </a:rPr>
              <a:t>Low-light Capability of 1.0Lux@F2.0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3300"/>
                </a:solidFill>
                <a:latin typeface="Arial"/>
              </a:rPr>
              <a:t>Pan, Tilt and 4X Digital Zoom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3300"/>
                </a:solidFill>
                <a:latin typeface="Arial"/>
              </a:rPr>
              <a:t>H.263 Video Compression 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33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00"/>
                </a:solidFill>
                <a:latin typeface="Arial"/>
              </a:rPr>
              <a:t>MPEG-4 Short Header Mode</a:t>
            </a:r>
            <a:endParaRPr b="0" lang="en-US" sz="17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i="1" lang="en-US" sz="1900" spc="-1" strike="noStrike">
                <a:solidFill>
                  <a:srgbClr val="003300"/>
                </a:solidFill>
                <a:latin typeface="Arial"/>
              </a:rPr>
              <a:t>IP Surveillance </a:t>
            </a:r>
            <a:r>
              <a:rPr b="0" lang="en-US" sz="1900" spc="-1" strike="noStrike">
                <a:solidFill>
                  <a:srgbClr val="003300"/>
                </a:solidFill>
                <a:latin typeface="Arial"/>
              </a:rPr>
              <a:t>Software for Multi-Camera 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33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00"/>
                </a:solidFill>
                <a:latin typeface="Arial"/>
              </a:rPr>
              <a:t>16 Cameras Monitoring and Management</a:t>
            </a:r>
            <a:endParaRPr b="0" lang="en-US" sz="17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3300"/>
                </a:solidFill>
                <a:latin typeface="Arial"/>
              </a:rPr>
              <a:t>Record Streaming Video To Hard Drive               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3300"/>
                </a:solidFill>
                <a:latin typeface="Arial"/>
              </a:rPr>
              <a:t>Web-Based Remote Access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3300"/>
                </a:solidFill>
                <a:latin typeface="Arial"/>
              </a:rPr>
              <a:t>Up To 30 Frames-Per-Second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003300"/>
                </a:solidFill>
                <a:latin typeface="Arial"/>
              </a:rPr>
              <a:t>Price/Performance Breakthrough</a:t>
            </a: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2"/>
          <a:stretch/>
        </p:blipFill>
        <p:spPr>
          <a:xfrm>
            <a:off x="4952880" y="1143000"/>
            <a:ext cx="3810240" cy="479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3"/>
          <a:stretch/>
        </p:blipFill>
        <p:spPr>
          <a:xfrm>
            <a:off x="5257800" y="2000160"/>
            <a:ext cx="358128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22:52:58Z</dcterms:created>
  <dc:creator>mmorgan</dc:creator>
  <dc:description/>
  <dc:language>en-US</dc:language>
  <cp:lastModifiedBy>mmorgan</cp:lastModifiedBy>
  <dcterms:modified xsi:type="dcterms:W3CDTF">2004-07-27T22:53:52Z</dcterms:modified>
  <cp:revision>1</cp:revision>
  <dc:subject/>
  <dc:title>Slide 1</dc:title>
</cp:coreProperties>
</file>