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37.png" ContentType="image/png"/>
  <Override PartName="/ppt/media/image41.png" ContentType="image/png"/>
  <Override PartName="/ppt/media/image30.png" ContentType="image/png"/>
  <Override PartName="/ppt/media/image29.jpeg" ContentType="image/jpeg"/>
  <Override PartName="/ppt/media/image42.png" ContentType="image/png"/>
  <Override PartName="/ppt/media/image45.png" ContentType="image/png"/>
  <Override PartName="/ppt/media/image6.jpeg" ContentType="image/jpeg"/>
  <Override PartName="/ppt/media/image10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50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9.png" ContentType="image/png"/>
  <Override PartName="/ppt/media/image9.png" ContentType="image/png"/>
  <Override PartName="/ppt/media/image48.png" ContentType="image/png"/>
  <Override PartName="/ppt/media/image11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38.png" ContentType="image/png"/>
  <Override PartName="/ppt/media/image8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DejaVu Serif Condensed"/>
                <a:ea typeface="DejaVu Sans Condensed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6B5CC-5F82-4071-A8E6-5A3D74818621}" type="slidenum">
              <a:rPr b="0" lang="ru-RU" sz="1400" spc="-1" strike="noStrike">
                <a:solidFill>
                  <a:srgbClr val="000000"/>
                </a:solidFill>
                <a:latin typeface="DejaVu Serif Condensed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5D56C-EFF4-4B8B-BF11-A2A05A602EE5}" type="slidenum">
              <a:rPr b="0" lang="ru-RU" sz="1400" spc="-1" strike="noStrike">
                <a:solidFill>
                  <a:srgbClr val="000000"/>
                </a:solidFill>
                <a:latin typeface="DejaVu Serif Condensed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4657-321D-49F5-8AEE-AEADA68F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F6DB-A74D-4BDA-B501-B285CAEF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45ED-9922-44D1-B77D-78C6B706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FD3A-6A20-47AA-9809-38D111ED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0DEE-C049-473B-B59D-ABC7C30C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51FC-8741-41AC-9A17-C4241370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3B3B-FB39-44D4-8420-A61AEE0C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4603-3150-4242-9BC0-6CAC3B78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F3B1-87DC-4F49-B788-799F67FB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40000" y="178920"/>
            <a:ext cx="665784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FEA6-A8B1-445E-B1CD-55D797C6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2EEC-D025-46C0-A3E9-E6F5F2A7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E011-5898-4CD7-91BB-58FABEC6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C2E8-EFC3-4092-99D3-CE744DC3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6D13-8BFD-4C0F-B916-8CA6A441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79B1-F335-433A-8BD8-2375E1F0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FE39-6EA4-4AE9-9489-036591E0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FE00-78AC-4A55-9D94-5000D267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E07D-23FF-40E6-8660-CB367C95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9F57-BABC-45AC-A6BC-A21D9AE5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C916-7682-4A5D-8622-AF81FE6E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40000" y="178920"/>
            <a:ext cx="665784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3AF6-F180-4086-8BCC-B33B2585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CB69-A3F7-4974-A493-FE97C03E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6E7A-2659-4B32-963B-5A17B1E4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FE2A-C610-47B1-BA82-B7085B84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-41400" y="-60480"/>
            <a:ext cx="9039240" cy="885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  <a:p>
            <a:pPr lvl="1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  <a:p>
            <a:pPr lvl="2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  <a:p>
            <a:pPr lvl="3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  <a:p>
            <a:pPr lvl="4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  <a:p>
            <a:pPr lvl="5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  <a:p>
            <a:pPr lvl="6"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DejaVu Serif Condensed"/>
                <a:ea typeface="DejaVu Sans Condensed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F89F53-2C0A-44B2-8421-332F14C1477E}" type="slidenum">
              <a:rPr b="0" lang="ru-RU" sz="1400" spc="-1" strike="noStrike">
                <a:solidFill>
                  <a:srgbClr val="000000"/>
                </a:solidFill>
                <a:latin typeface="DejaVu Serif Condensed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 Condense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 Condense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DejaVu Serif Condensed"/>
                <a:ea typeface="DejaVu Sans Condensed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FB7D92-49C6-4FD8-8484-D9C8AD91A59B}" type="slidenum">
              <a:rPr b="0" lang="ru-RU" sz="1400" spc="-1" strike="noStrike">
                <a:solidFill>
                  <a:srgbClr val="000000"/>
                </a:solidFill>
                <a:latin typeface="DejaVu Serif Condensed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2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29.jpe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29.jpe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7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7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6.jpeg"/><Relationship Id="rId6" Type="http://schemas.openxmlformats.org/officeDocument/2006/relationships/image" Target="../media/image38.png"/><Relationship Id="rId7" Type="http://schemas.openxmlformats.org/officeDocument/2006/relationships/image" Target="../media/image48.png"/><Relationship Id="rId8" Type="http://schemas.openxmlformats.org/officeDocument/2006/relationships/image" Target="../media/image45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7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37.png"/><Relationship Id="rId6" Type="http://schemas.openxmlformats.org/officeDocument/2006/relationships/image" Target="../media/image51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547280" y="4508280"/>
            <a:ext cx="5626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ctr">
            <a:noAutofit/>
          </a:bodyPr>
          <a:p>
            <a:pPr marL="343080" indent="-343080" algn="ctr">
              <a:lnSpc>
                <a:spcPct val="98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20</a:t>
            </a:r>
            <a:r>
              <a:rPr b="0" lang="ru-RU" sz="30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11</a:t>
            </a:r>
            <a:r>
              <a:rPr b="0" lang="en-US" sz="30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D-Link Switch Training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0" y="1341360"/>
            <a:ext cx="9144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920" bIns="0" anchor="ctr">
            <a:noAutofit/>
          </a:bodyPr>
          <a:p>
            <a:pPr marL="343080" indent="-343080" algn="ctr">
              <a:lnSpc>
                <a:spcPct val="98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Организация </a:t>
            </a:r>
            <a:r>
              <a:rPr b="1" lang="en-US" sz="4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IPTV </a:t>
            </a:r>
            <a:r>
              <a:rPr b="1" lang="ru-RU" sz="4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в </a:t>
            </a:r>
            <a:r>
              <a:rPr b="1" lang="en-US" sz="4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MAN </a:t>
            </a:r>
            <a:r>
              <a:rPr b="1" lang="ru-RU" sz="4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сетях</a:t>
            </a:r>
            <a:endParaRPr b="0" lang="en-US" sz="44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28720" y="5651640"/>
            <a:ext cx="5938920" cy="10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219320" y="1676520"/>
            <a:ext cx="67374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для передачи 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трафика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99ccff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IGMP Fast Leave 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lter unregistered group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 Port Multicast Stream Control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Multicast VLAN (D-Link ISM VLAN)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Access Authentication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130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</a:rPr>
              <a:t>IGMP Fast Leave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228600" y="1295280"/>
            <a:ext cx="87631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гласно реализации стандарта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v2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жет покинуть группу, отослав сообщение «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ave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» Когда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querier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лучает сообщение об отключении от группы, то он рассылает специальный запрос всем клиентам. Если в течени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кунд нет ответ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о этот клиент удаляется из группы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о в данном случае существует задержка при удалении из группы во время выполнения этих операций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лагодаря функции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GMP Fast Leave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 коммутатора может быть удален из группы немедленно при получении сообщения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v2 Leave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.е. конечное устройство (ПК ил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B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ыстро отключается от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ссии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меньшая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м самым количество ненужного трафика в сети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имущества данной функции в том, что при внедрении услуг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on Demand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ы подписанные на услугу, например,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TV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гут переключаться между каналами достаточно быстро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 привычном режиме и без задержек. Кроме того, при использовании функци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Fast Leave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лоса пропускания выделяется более эффективно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IGMP Snooping Fast Leav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3439800" y="3276720"/>
            <a:ext cx="13024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1047960" y="1344600"/>
            <a:ext cx="3078000" cy="3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</a:rPr>
              <a:t>Отключение от группы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72" name="Line 4"/>
          <p:cNvSpPr/>
          <p:nvPr/>
        </p:nvSpPr>
        <p:spPr>
          <a:xfrm flipV="1">
            <a:off x="1547640" y="3716280"/>
            <a:ext cx="43200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2540160" y="3710160"/>
            <a:ext cx="309240" cy="95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74" name="Line 6"/>
          <p:cNvSpPr/>
          <p:nvPr/>
        </p:nvSpPr>
        <p:spPr>
          <a:xfrm>
            <a:off x="2230560" y="2644920"/>
            <a:ext cx="0" cy="712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75" name="Line 7"/>
          <p:cNvSpPr/>
          <p:nvPr/>
        </p:nvSpPr>
        <p:spPr>
          <a:xfrm flipV="1">
            <a:off x="1547640" y="3949560"/>
            <a:ext cx="204840" cy="48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368640" y="4065480"/>
            <a:ext cx="11912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ave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ключение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3426480" y="2170080"/>
            <a:ext cx="116388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278" name="Group 10"/>
          <p:cNvGrpSpPr/>
          <p:nvPr/>
        </p:nvGrpSpPr>
        <p:grpSpPr>
          <a:xfrm>
            <a:off x="1143000" y="2762280"/>
            <a:ext cx="1009800" cy="451080"/>
            <a:chOff x="1143000" y="2762280"/>
            <a:chExt cx="1009800" cy="451080"/>
          </a:xfrm>
        </p:grpSpPr>
        <p:sp>
          <p:nvSpPr>
            <p:cNvPr id="279" name="Line 11"/>
            <p:cNvSpPr/>
            <p:nvPr/>
          </p:nvSpPr>
          <p:spPr>
            <a:xfrm>
              <a:off x="2152800" y="2762280"/>
              <a:ext cx="0" cy="43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280" name="Rectangle 12"/>
            <p:cNvSpPr/>
            <p:nvPr/>
          </p:nvSpPr>
          <p:spPr>
            <a:xfrm>
              <a:off x="1143000" y="2762280"/>
              <a:ext cx="100980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Remove -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удаление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grpSp>
        <p:nvGrpSpPr>
          <p:cNvPr id="281" name="Group 13"/>
          <p:cNvGrpSpPr/>
          <p:nvPr/>
        </p:nvGrpSpPr>
        <p:grpSpPr>
          <a:xfrm>
            <a:off x="2308320" y="2760840"/>
            <a:ext cx="1717560" cy="475920"/>
            <a:chOff x="2308320" y="2760840"/>
            <a:chExt cx="1717560" cy="475920"/>
          </a:xfrm>
        </p:grpSpPr>
        <p:sp>
          <p:nvSpPr>
            <p:cNvPr id="282" name="Line 14"/>
            <p:cNvSpPr/>
            <p:nvPr/>
          </p:nvSpPr>
          <p:spPr>
            <a:xfrm flipV="1">
              <a:off x="2308320" y="276228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283" name="Rectangle 15"/>
            <p:cNvSpPr/>
            <p:nvPr/>
          </p:nvSpPr>
          <p:spPr>
            <a:xfrm>
              <a:off x="2354760" y="2760840"/>
              <a:ext cx="167112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Leave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–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отключение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284" name="Line 16"/>
          <p:cNvSpPr/>
          <p:nvPr/>
        </p:nvSpPr>
        <p:spPr>
          <a:xfrm>
            <a:off x="1300320" y="3594240"/>
            <a:ext cx="15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85" name="Rectangle 17"/>
          <p:cNvSpPr/>
          <p:nvPr/>
        </p:nvSpPr>
        <p:spPr>
          <a:xfrm>
            <a:off x="1763640" y="4664160"/>
            <a:ext cx="4734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86" name="Rectangle 18"/>
          <p:cNvSpPr/>
          <p:nvPr/>
        </p:nvSpPr>
        <p:spPr>
          <a:xfrm>
            <a:off x="3081240" y="4664160"/>
            <a:ext cx="4734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287" name="Picture 23" descr="des-3828"/>
          <p:cNvPicPr/>
          <p:nvPr/>
        </p:nvPicPr>
        <p:blipFill>
          <a:blip r:embed="rId1"/>
          <a:stretch/>
        </p:blipFill>
        <p:spPr>
          <a:xfrm>
            <a:off x="685800" y="2117880"/>
            <a:ext cx="2451240" cy="549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24"/>
          <p:cNvSpPr/>
          <p:nvPr/>
        </p:nvSpPr>
        <p:spPr>
          <a:xfrm>
            <a:off x="4876920" y="1371600"/>
            <a:ext cx="401616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Для приложений </a:t>
            </a:r>
            <a:r>
              <a:rPr b="0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on-line </a:t>
            </a:r>
            <a:r>
              <a:rPr b="0" lang="ru-RU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вещания, например </a:t>
            </a:r>
            <a:r>
              <a:rPr b="0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PTV </a:t>
            </a:r>
            <a:r>
              <a:rPr b="0" lang="ru-RU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или радио, необходимо немедленное отключение клиента от группы, когда система получает сообщение </a:t>
            </a:r>
            <a:r>
              <a:rPr b="0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GMP leave. 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Эта опция как правило реализуется на уровне коммутатора уровня доступа </a:t>
            </a:r>
            <a:r>
              <a:rPr b="0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L2</a:t>
            </a:r>
            <a:r>
              <a:rPr b="0" lang="ru-RU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, а не сервера </a:t>
            </a:r>
            <a:r>
              <a:rPr b="0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L3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Вот почему важно, чтобы коммутатор поддерживал функцию </a:t>
            </a:r>
            <a:r>
              <a:rPr b="0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GM Snooping Fast Leave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289" name="Picture 14" descr="C:\Users\06075\Desktop\Icons for Topology\Computer 02.jpg"/>
          <p:cNvPicPr/>
          <p:nvPr/>
        </p:nvPicPr>
        <p:blipFill>
          <a:blip r:embed="rId2"/>
          <a:stretch/>
        </p:blipFill>
        <p:spPr>
          <a:xfrm>
            <a:off x="1187280" y="4653000"/>
            <a:ext cx="640080" cy="5396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2484360" y="4653000"/>
            <a:ext cx="638280" cy="539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4" descr="DGS-3100-48"/>
          <p:cNvPicPr/>
          <p:nvPr/>
        </p:nvPicPr>
        <p:blipFill>
          <a:blip r:embed="rId4"/>
          <a:srcRect l="0" t="28276" r="0" b="28355"/>
          <a:stretch/>
        </p:blipFill>
        <p:spPr>
          <a:xfrm>
            <a:off x="1042920" y="3141720"/>
            <a:ext cx="22417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84000" y="212760"/>
            <a:ext cx="665820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работы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IGMP Snooping 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без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Fast Leav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3" name="Line 94"/>
          <p:cNvSpPr/>
          <p:nvPr/>
        </p:nvSpPr>
        <p:spPr>
          <a:xfrm>
            <a:off x="4514760" y="2492280"/>
            <a:ext cx="0" cy="108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94" name="Rectangle 95"/>
          <p:cNvSpPr/>
          <p:nvPr/>
        </p:nvSpPr>
        <p:spPr>
          <a:xfrm>
            <a:off x="4852800" y="2214720"/>
            <a:ext cx="11851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95" name="Line 102"/>
          <p:cNvSpPr/>
          <p:nvPr/>
        </p:nvSpPr>
        <p:spPr>
          <a:xfrm flipV="1">
            <a:off x="4822920" y="3788640"/>
            <a:ext cx="2880" cy="79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96" name="Line 103"/>
          <p:cNvSpPr/>
          <p:nvPr/>
        </p:nvSpPr>
        <p:spPr>
          <a:xfrm>
            <a:off x="4363920" y="2790720"/>
            <a:ext cx="0" cy="48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97" name="Rectangle 105"/>
          <p:cNvSpPr/>
          <p:nvPr/>
        </p:nvSpPr>
        <p:spPr>
          <a:xfrm>
            <a:off x="4802040" y="3141720"/>
            <a:ext cx="12826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3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98" name="Rectangle 114"/>
          <p:cNvSpPr/>
          <p:nvPr/>
        </p:nvSpPr>
        <p:spPr>
          <a:xfrm>
            <a:off x="5148360" y="4365720"/>
            <a:ext cx="128088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коммутатор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99" name="Line 116"/>
          <p:cNvSpPr/>
          <p:nvPr/>
        </p:nvSpPr>
        <p:spPr>
          <a:xfrm flipV="1">
            <a:off x="4875120" y="4868640"/>
            <a:ext cx="0" cy="86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00" name="Rectangle 122"/>
          <p:cNvSpPr/>
          <p:nvPr/>
        </p:nvSpPr>
        <p:spPr>
          <a:xfrm>
            <a:off x="6243480" y="1844640"/>
            <a:ext cx="251964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имптом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меньшение пропускной способности  порта, так ка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 продолжает получать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 до истечения таймер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y Interval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сле отсылк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ave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бщения на коммутатор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01" name="Line 145"/>
          <p:cNvSpPr/>
          <p:nvPr/>
        </p:nvSpPr>
        <p:spPr>
          <a:xfrm flipV="1">
            <a:off x="4010040" y="5013360"/>
            <a:ext cx="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02" name="Line 154"/>
          <p:cNvSpPr/>
          <p:nvPr/>
        </p:nvSpPr>
        <p:spPr>
          <a:xfrm>
            <a:off x="3878280" y="5176800"/>
            <a:ext cx="0" cy="3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303" name="Picture 15" descr="C:\Users\06075\Desktop\Icons for Topology\Computer 01.jpg"/>
          <p:cNvPicPr/>
          <p:nvPr/>
        </p:nvPicPr>
        <p:blipFill>
          <a:blip r:embed="rId1"/>
          <a:stretch/>
        </p:blipFill>
        <p:spPr>
          <a:xfrm>
            <a:off x="4140360" y="1886040"/>
            <a:ext cx="603000" cy="8222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4" descr="C:\Users\06075\Desktop\Icons for Topology\Computer 02.jpg"/>
          <p:cNvPicPr/>
          <p:nvPr/>
        </p:nvPicPr>
        <p:blipFill>
          <a:blip r:embed="rId2"/>
          <a:stretch/>
        </p:blipFill>
        <p:spPr>
          <a:xfrm>
            <a:off x="3730680" y="5643720"/>
            <a:ext cx="571320" cy="4824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4659480" y="5661000"/>
            <a:ext cx="571320" cy="482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7" descr="DGS-3100-48"/>
          <p:cNvPicPr/>
          <p:nvPr/>
        </p:nvPicPr>
        <p:blipFill>
          <a:blip r:embed="rId4"/>
          <a:srcRect l="0" t="28269" r="0" b="28355"/>
          <a:stretch/>
        </p:blipFill>
        <p:spPr>
          <a:xfrm>
            <a:off x="3498840" y="3295800"/>
            <a:ext cx="2095560" cy="907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8" descr="DGS-1024D"/>
          <p:cNvPicPr/>
          <p:nvPr/>
        </p:nvPicPr>
        <p:blipFill>
          <a:blip r:embed="rId5"/>
          <a:srcRect l="0" t="24333" r="0" b="24413"/>
          <a:stretch/>
        </p:blipFill>
        <p:spPr>
          <a:xfrm>
            <a:off x="3651120" y="4365720"/>
            <a:ext cx="1808280" cy="927000"/>
          </a:xfrm>
          <a:prstGeom prst="rect">
            <a:avLst/>
          </a:prstGeom>
          <a:ln w="0">
            <a:noFill/>
          </a:ln>
        </p:spPr>
      </p:pic>
      <p:grpSp>
        <p:nvGrpSpPr>
          <p:cNvPr id="308" name="群組 44"/>
          <p:cNvGrpSpPr/>
          <p:nvPr/>
        </p:nvGrpSpPr>
        <p:grpSpPr>
          <a:xfrm>
            <a:off x="5827680" y="4869000"/>
            <a:ext cx="2847960" cy="1165320"/>
            <a:chOff x="5827680" y="4869000"/>
            <a:chExt cx="2847960" cy="1165320"/>
          </a:xfrm>
        </p:grpSpPr>
        <p:sp>
          <p:nvSpPr>
            <p:cNvPr id="309" name="Rectangle 150"/>
            <p:cNvSpPr/>
            <p:nvPr/>
          </p:nvSpPr>
          <p:spPr>
            <a:xfrm>
              <a:off x="6314040" y="4869000"/>
              <a:ext cx="236160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0070c0"/>
                  </a:solidFill>
                  <a:latin typeface="DejaVu Sans Condensed"/>
                  <a:ea typeface="Arial"/>
                </a:rPr>
                <a:t>Пользователи отсылают</a:t>
              </a:r>
              <a:r>
                <a:rPr b="0" lang="en-US" sz="1200" spc="-1" strike="noStrike">
                  <a:solidFill>
                    <a:srgbClr val="0070c0"/>
                  </a:solidFill>
                  <a:latin typeface="DejaVu Sans Condensed"/>
                  <a:ea typeface="新細明體"/>
                </a:rPr>
                <a:t> Leave </a:t>
              </a:r>
              <a:r>
                <a:rPr b="0" lang="ru-RU" sz="1200" spc="-1" strike="noStrike">
                  <a:solidFill>
                    <a:srgbClr val="0070c0"/>
                  </a:solidFill>
                  <a:latin typeface="DejaVu Sans Condensed"/>
                  <a:ea typeface="Arial"/>
                </a:rPr>
                <a:t>сообщение для подписки  на другой </a:t>
              </a:r>
              <a:r>
                <a:rPr b="0" lang="en-US" sz="1200" spc="-1" strike="noStrike">
                  <a:solidFill>
                    <a:srgbClr val="0070c0"/>
                  </a:solidFill>
                  <a:latin typeface="DejaVu Sans Condensed"/>
                  <a:ea typeface="新細明體"/>
                </a:rPr>
                <a:t>Multicast </a:t>
              </a:r>
              <a:r>
                <a:rPr b="0" lang="ru-RU" sz="1200" spc="-1" strike="noStrike">
                  <a:solidFill>
                    <a:srgbClr val="0070c0"/>
                  </a:solidFill>
                  <a:latin typeface="DejaVu Sans Condensed"/>
                  <a:ea typeface="Arial"/>
                </a:rPr>
                <a:t> канал или полной остановки </a:t>
              </a:r>
              <a:r>
                <a:rPr b="0" lang="en-US" sz="1200" spc="-1" strike="noStrike">
                  <a:solidFill>
                    <a:srgbClr val="0070c0"/>
                  </a:solidFill>
                  <a:latin typeface="DejaVu Sans Condensed"/>
                  <a:ea typeface="新細明體"/>
                </a:rPr>
                <a:t> Multicast </a:t>
              </a:r>
              <a:r>
                <a:rPr b="0" lang="ru-RU" sz="1200" spc="-1" strike="noStrike">
                  <a:solidFill>
                    <a:srgbClr val="0070c0"/>
                  </a:solidFill>
                  <a:latin typeface="DejaVu Sans Condensed"/>
                  <a:ea typeface="Arial"/>
                </a:rPr>
                <a:t>трафика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310" name="Oval 50"/>
            <p:cNvSpPr/>
            <p:nvPr/>
          </p:nvSpPr>
          <p:spPr>
            <a:xfrm>
              <a:off x="5827680" y="5100840"/>
              <a:ext cx="429480" cy="398880"/>
            </a:xfrm>
            <a:prstGeom prst="ellipse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grpSp>
        <p:nvGrpSpPr>
          <p:cNvPr id="311" name="群組 63"/>
          <p:cNvGrpSpPr/>
          <p:nvPr/>
        </p:nvGrpSpPr>
        <p:grpSpPr>
          <a:xfrm>
            <a:off x="5867280" y="3716280"/>
            <a:ext cx="3457800" cy="986760"/>
            <a:chOff x="5867280" y="3716280"/>
            <a:chExt cx="3457800" cy="986760"/>
          </a:xfrm>
        </p:grpSpPr>
        <p:sp>
          <p:nvSpPr>
            <p:cNvPr id="312" name="Rectangle 112"/>
            <p:cNvSpPr/>
            <p:nvPr/>
          </p:nvSpPr>
          <p:spPr>
            <a:xfrm>
              <a:off x="6345000" y="3716280"/>
              <a:ext cx="2980080" cy="98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Коммутатор </a:t>
              </a:r>
              <a:r>
                <a:rPr b="0" lang="en-US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ru-RU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перехватывает сообщение и рассылает </a:t>
              </a:r>
              <a:r>
                <a:rPr b="0" lang="en-US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query </a:t>
              </a:r>
              <a:r>
                <a:rPr b="0" lang="ru-RU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сообщения для проверки принадлежности других пользователей к группе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313" name="Oval 51"/>
            <p:cNvSpPr/>
            <p:nvPr/>
          </p:nvSpPr>
          <p:spPr>
            <a:xfrm>
              <a:off x="5867280" y="3761640"/>
              <a:ext cx="426960" cy="416880"/>
            </a:xfrm>
            <a:prstGeom prst="ellipse">
              <a:avLst/>
            </a:prstGeom>
            <a:noFill/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314" name="Rectangle 11"/>
          <p:cNvSpPr/>
          <p:nvPr/>
        </p:nvSpPr>
        <p:spPr>
          <a:xfrm>
            <a:off x="5235480" y="5805360"/>
            <a:ext cx="4795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15" name="Rectangle 12"/>
          <p:cNvSpPr/>
          <p:nvPr/>
        </p:nvSpPr>
        <p:spPr>
          <a:xfrm>
            <a:off x="3564360" y="6093000"/>
            <a:ext cx="828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16" name="Rectangle 13"/>
          <p:cNvSpPr/>
          <p:nvPr/>
        </p:nvSpPr>
        <p:spPr>
          <a:xfrm>
            <a:off x="4500720" y="6093000"/>
            <a:ext cx="828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17" name="Rectangle 16"/>
          <p:cNvSpPr/>
          <p:nvPr/>
        </p:nvSpPr>
        <p:spPr>
          <a:xfrm>
            <a:off x="3289320" y="5805360"/>
            <a:ext cx="4734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18" name="文字方塊 30"/>
          <p:cNvSpPr/>
          <p:nvPr/>
        </p:nvSpPr>
        <p:spPr>
          <a:xfrm>
            <a:off x="1653480" y="5867280"/>
            <a:ext cx="18604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GMP report / query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Multicast : 2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39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19" name="Line 103"/>
          <p:cNvSpPr/>
          <p:nvPr/>
        </p:nvSpPr>
        <p:spPr>
          <a:xfrm>
            <a:off x="4654440" y="3962520"/>
            <a:ext cx="0" cy="48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8000" y="3946680"/>
          <a:ext cx="3429000" cy="487080"/>
        </p:xfrm>
        <a:graphic>
          <a:graphicData uri="http://schemas.openxmlformats.org/drawingml/2006/table">
            <a:tbl>
              <a:tblPr/>
              <a:tblGrid>
                <a:gridCol w="880920"/>
                <a:gridCol w="1176480"/>
                <a:gridCol w="13716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ort N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Multicast Gro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Multicast M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70c0"/>
                          </a:solidFill>
                          <a:latin typeface="Arial"/>
                          <a:ea typeface="新細明體"/>
                        </a:rPr>
                        <a:t>239.10.1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70c0"/>
                          </a:solidFill>
                          <a:latin typeface="Arial"/>
                          <a:ea typeface="新細明體"/>
                        </a:rPr>
                        <a:t>01005e0a0a0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文字方塊 76"/>
          <p:cNvSpPr/>
          <p:nvPr/>
        </p:nvSpPr>
        <p:spPr>
          <a:xfrm>
            <a:off x="3947760" y="5105520"/>
            <a:ext cx="26748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22" name="文字方塊 77"/>
          <p:cNvSpPr/>
          <p:nvPr/>
        </p:nvSpPr>
        <p:spPr>
          <a:xfrm>
            <a:off x="4825800" y="4952880"/>
            <a:ext cx="3546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23" name="文字方塊 78"/>
          <p:cNvSpPr/>
          <p:nvPr/>
        </p:nvSpPr>
        <p:spPr>
          <a:xfrm>
            <a:off x="100440" y="3670200"/>
            <a:ext cx="16315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FDB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24" name="文字方塊 79"/>
          <p:cNvSpPr/>
          <p:nvPr/>
        </p:nvSpPr>
        <p:spPr>
          <a:xfrm>
            <a:off x="4827240" y="4191120"/>
            <a:ext cx="3546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25" name="Line 154"/>
          <p:cNvSpPr/>
          <p:nvPr/>
        </p:nvSpPr>
        <p:spPr>
          <a:xfrm>
            <a:off x="4724280" y="5176800"/>
            <a:ext cx="0" cy="3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26" name="Line 148"/>
          <p:cNvSpPr/>
          <p:nvPr/>
        </p:nvSpPr>
        <p:spPr>
          <a:xfrm flipV="1">
            <a:off x="5029200" y="517680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27" name="文字方塊 30"/>
          <p:cNvSpPr/>
          <p:nvPr/>
        </p:nvSpPr>
        <p:spPr>
          <a:xfrm>
            <a:off x="5691960" y="5867280"/>
            <a:ext cx="18604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GMP report / query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Multicast : 2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39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28" name="Line 154"/>
          <p:cNvSpPr/>
          <p:nvPr/>
        </p:nvSpPr>
        <p:spPr>
          <a:xfrm>
            <a:off x="5181480" y="5176800"/>
            <a:ext cx="0" cy="395280"/>
          </a:xfrm>
          <a:prstGeom prst="line">
            <a:avLst/>
          </a:prstGeom>
          <a:ln w="936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29" name="Line 154"/>
          <p:cNvSpPr/>
          <p:nvPr/>
        </p:nvSpPr>
        <p:spPr>
          <a:xfrm>
            <a:off x="5334120" y="5176800"/>
            <a:ext cx="0" cy="395280"/>
          </a:xfrm>
          <a:prstGeom prst="line">
            <a:avLst/>
          </a:prstGeom>
          <a:ln w="936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30" name="Line 154"/>
          <p:cNvSpPr/>
          <p:nvPr/>
        </p:nvSpPr>
        <p:spPr>
          <a:xfrm>
            <a:off x="5486400" y="5176800"/>
            <a:ext cx="0" cy="395280"/>
          </a:xfrm>
          <a:prstGeom prst="line">
            <a:avLst/>
          </a:prstGeom>
          <a:ln w="936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331" name="群組 63"/>
          <p:cNvGrpSpPr/>
          <p:nvPr/>
        </p:nvGrpSpPr>
        <p:grpSpPr>
          <a:xfrm>
            <a:off x="250920" y="4724280"/>
            <a:ext cx="2917800" cy="1165320"/>
            <a:chOff x="250920" y="4724280"/>
            <a:chExt cx="2917800" cy="1165320"/>
          </a:xfrm>
        </p:grpSpPr>
        <p:sp>
          <p:nvSpPr>
            <p:cNvPr id="332" name="Rectangle 112"/>
            <p:cNvSpPr/>
            <p:nvPr/>
          </p:nvSpPr>
          <p:spPr>
            <a:xfrm>
              <a:off x="654120" y="4724280"/>
              <a:ext cx="251460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После трёх </a:t>
              </a:r>
              <a:r>
                <a:rPr b="0" lang="en-US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query</a:t>
              </a:r>
              <a:r>
                <a:rPr b="0" lang="ru-RU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 сообщений</a:t>
              </a:r>
              <a:r>
                <a:rPr b="0" lang="en-US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, </a:t>
              </a:r>
              <a:r>
                <a:rPr b="0" lang="ru-RU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коммутатор  убеждается, что нет других пользователей, подписанных на эту группу, и останавливает  вещание </a:t>
              </a:r>
              <a:r>
                <a:rPr b="0" lang="en-US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Multicast </a:t>
              </a:r>
              <a:r>
                <a:rPr b="0" lang="ru-RU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 потока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333" name="Oval 51"/>
            <p:cNvSpPr/>
            <p:nvPr/>
          </p:nvSpPr>
          <p:spPr>
            <a:xfrm>
              <a:off x="250920" y="4763520"/>
              <a:ext cx="360360" cy="361080"/>
            </a:xfrm>
            <a:prstGeom prst="ellipse">
              <a:avLst/>
            </a:prstGeom>
            <a:noFill/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334" name="矩形 62"/>
          <p:cNvSpPr/>
          <p:nvPr/>
        </p:nvSpPr>
        <p:spPr>
          <a:xfrm>
            <a:off x="121680" y="4191120"/>
            <a:ext cx="605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,10,25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35" name="矩形 63"/>
          <p:cNvSpPr/>
          <p:nvPr/>
        </p:nvSpPr>
        <p:spPr>
          <a:xfrm>
            <a:off x="122040" y="4191120"/>
            <a:ext cx="4291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,25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84000" y="212760"/>
            <a:ext cx="665820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работы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IGMP Snooping 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с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Fast Leav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7" name="Line 94"/>
          <p:cNvSpPr/>
          <p:nvPr/>
        </p:nvSpPr>
        <p:spPr>
          <a:xfrm>
            <a:off x="4514760" y="2492280"/>
            <a:ext cx="0" cy="108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38" name="Rectangle 95"/>
          <p:cNvSpPr/>
          <p:nvPr/>
        </p:nvSpPr>
        <p:spPr>
          <a:xfrm>
            <a:off x="4852800" y="2214720"/>
            <a:ext cx="11851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39" name="Line 102"/>
          <p:cNvSpPr/>
          <p:nvPr/>
        </p:nvSpPr>
        <p:spPr>
          <a:xfrm flipV="1">
            <a:off x="4822920" y="3788640"/>
            <a:ext cx="2880" cy="79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40" name="Line 103"/>
          <p:cNvSpPr/>
          <p:nvPr/>
        </p:nvSpPr>
        <p:spPr>
          <a:xfrm>
            <a:off x="4363920" y="2790720"/>
            <a:ext cx="0" cy="48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41" name="Rectangle 105"/>
          <p:cNvSpPr/>
          <p:nvPr/>
        </p:nvSpPr>
        <p:spPr>
          <a:xfrm>
            <a:off x="4802040" y="3141720"/>
            <a:ext cx="120996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3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42" name="Line 116"/>
          <p:cNvSpPr/>
          <p:nvPr/>
        </p:nvSpPr>
        <p:spPr>
          <a:xfrm flipV="1">
            <a:off x="4875120" y="4868640"/>
            <a:ext cx="0" cy="86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43" name="Line 145"/>
          <p:cNvSpPr/>
          <p:nvPr/>
        </p:nvSpPr>
        <p:spPr>
          <a:xfrm flipV="1">
            <a:off x="4010040" y="5013360"/>
            <a:ext cx="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44" name="Line 154"/>
          <p:cNvSpPr/>
          <p:nvPr/>
        </p:nvSpPr>
        <p:spPr>
          <a:xfrm>
            <a:off x="3878280" y="5176800"/>
            <a:ext cx="0" cy="3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345" name="Picture 15" descr="C:\Users\06075\Desktop\Icons for Topology\Computer 01.jpg"/>
          <p:cNvPicPr/>
          <p:nvPr/>
        </p:nvPicPr>
        <p:blipFill>
          <a:blip r:embed="rId1"/>
          <a:stretch/>
        </p:blipFill>
        <p:spPr>
          <a:xfrm>
            <a:off x="4140360" y="1886040"/>
            <a:ext cx="603000" cy="8222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4" descr="C:\Users\06075\Desktop\Icons for Topology\Computer 02.jpg"/>
          <p:cNvPicPr/>
          <p:nvPr/>
        </p:nvPicPr>
        <p:blipFill>
          <a:blip r:embed="rId2"/>
          <a:stretch/>
        </p:blipFill>
        <p:spPr>
          <a:xfrm>
            <a:off x="3730680" y="5643720"/>
            <a:ext cx="571320" cy="482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4659480" y="5661000"/>
            <a:ext cx="571320" cy="4827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7" descr="DGS-3100-48"/>
          <p:cNvPicPr/>
          <p:nvPr/>
        </p:nvPicPr>
        <p:blipFill>
          <a:blip r:embed="rId4"/>
          <a:srcRect l="0" t="28269" r="0" b="28355"/>
          <a:stretch/>
        </p:blipFill>
        <p:spPr>
          <a:xfrm>
            <a:off x="3498840" y="3295800"/>
            <a:ext cx="2095560" cy="907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8" descr="DGS-1024D"/>
          <p:cNvPicPr/>
          <p:nvPr/>
        </p:nvPicPr>
        <p:blipFill>
          <a:blip r:embed="rId5"/>
          <a:srcRect l="0" t="24333" r="0" b="24413"/>
          <a:stretch/>
        </p:blipFill>
        <p:spPr>
          <a:xfrm>
            <a:off x="3651120" y="4365720"/>
            <a:ext cx="1808280" cy="927000"/>
          </a:xfrm>
          <a:prstGeom prst="rect">
            <a:avLst/>
          </a:prstGeom>
          <a:ln w="0">
            <a:noFill/>
          </a:ln>
        </p:spPr>
      </p:pic>
      <p:grpSp>
        <p:nvGrpSpPr>
          <p:cNvPr id="350" name="群組 44"/>
          <p:cNvGrpSpPr/>
          <p:nvPr/>
        </p:nvGrpSpPr>
        <p:grpSpPr>
          <a:xfrm>
            <a:off x="5724360" y="4581360"/>
            <a:ext cx="2951280" cy="986760"/>
            <a:chOff x="5724360" y="4581360"/>
            <a:chExt cx="2951280" cy="986760"/>
          </a:xfrm>
        </p:grpSpPr>
        <p:sp>
          <p:nvSpPr>
            <p:cNvPr id="351" name="Rectangle 150"/>
            <p:cNvSpPr/>
            <p:nvPr/>
          </p:nvSpPr>
          <p:spPr>
            <a:xfrm>
              <a:off x="6228360" y="4581360"/>
              <a:ext cx="2447280" cy="98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0070c0"/>
                  </a:solidFill>
                  <a:latin typeface="DejaVu Sans Condensed"/>
                  <a:ea typeface="Arial"/>
                </a:rPr>
                <a:t>Пользователи отсылают</a:t>
              </a:r>
              <a:r>
                <a:rPr b="0" lang="en-US" sz="1200" spc="-1" strike="noStrike">
                  <a:solidFill>
                    <a:srgbClr val="0070c0"/>
                  </a:solidFill>
                  <a:latin typeface="DejaVu Sans Condensed"/>
                  <a:ea typeface="新細明體"/>
                </a:rPr>
                <a:t> Leave </a:t>
              </a:r>
              <a:r>
                <a:rPr b="0" lang="ru-RU" sz="1200" spc="-1" strike="noStrike">
                  <a:solidFill>
                    <a:srgbClr val="0070c0"/>
                  </a:solidFill>
                  <a:latin typeface="DejaVu Sans Condensed"/>
                  <a:ea typeface="Arial"/>
                </a:rPr>
                <a:t>сообщение для подписки  на другой </a:t>
              </a:r>
              <a:r>
                <a:rPr b="0" lang="en-US" sz="1200" spc="-1" strike="noStrike">
                  <a:solidFill>
                    <a:srgbClr val="0070c0"/>
                  </a:solidFill>
                  <a:latin typeface="DejaVu Sans Condensed"/>
                  <a:ea typeface="新細明體"/>
                </a:rPr>
                <a:t>Multicast </a:t>
              </a:r>
              <a:r>
                <a:rPr b="0" lang="ru-RU" sz="1200" spc="-1" strike="noStrike">
                  <a:solidFill>
                    <a:srgbClr val="0070c0"/>
                  </a:solidFill>
                  <a:latin typeface="DejaVu Sans Condensed"/>
                  <a:ea typeface="Arial"/>
                </a:rPr>
                <a:t> канал или полной остановки </a:t>
              </a:r>
              <a:r>
                <a:rPr b="0" lang="en-US" sz="1200" spc="-1" strike="noStrike">
                  <a:solidFill>
                    <a:srgbClr val="0070c0"/>
                  </a:solidFill>
                  <a:latin typeface="DejaVu Sans Condensed"/>
                  <a:ea typeface="新細明體"/>
                </a:rPr>
                <a:t> Multicast </a:t>
              </a:r>
              <a:r>
                <a:rPr b="0" lang="ru-RU" sz="1200" spc="-1" strike="noStrike">
                  <a:solidFill>
                    <a:srgbClr val="0070c0"/>
                  </a:solidFill>
                  <a:latin typeface="DejaVu Sans Condensed"/>
                  <a:ea typeface="Arial"/>
                </a:rPr>
                <a:t>трафика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352" name="Oval 50"/>
            <p:cNvSpPr/>
            <p:nvPr/>
          </p:nvSpPr>
          <p:spPr>
            <a:xfrm>
              <a:off x="5724360" y="4810680"/>
              <a:ext cx="444960" cy="394200"/>
            </a:xfrm>
            <a:prstGeom prst="ellipse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DejaVu Sans Condensed"/>
                  <a:ea typeface="新細明體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grpSp>
        <p:nvGrpSpPr>
          <p:cNvPr id="353" name="群組 63"/>
          <p:cNvGrpSpPr/>
          <p:nvPr/>
        </p:nvGrpSpPr>
        <p:grpSpPr>
          <a:xfrm>
            <a:off x="5724360" y="3716280"/>
            <a:ext cx="3419640" cy="808200"/>
            <a:chOff x="5724360" y="3716280"/>
            <a:chExt cx="3419640" cy="808200"/>
          </a:xfrm>
        </p:grpSpPr>
        <p:sp>
          <p:nvSpPr>
            <p:cNvPr id="354" name="Rectangle 112"/>
            <p:cNvSpPr/>
            <p:nvPr/>
          </p:nvSpPr>
          <p:spPr>
            <a:xfrm>
              <a:off x="6196680" y="3716280"/>
              <a:ext cx="2947320" cy="8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Коммутатор </a:t>
              </a:r>
              <a:r>
                <a:rPr b="0" lang="en-US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ru-RU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перехватывает сообщение и останавливает  продвижение </a:t>
              </a:r>
              <a:r>
                <a:rPr b="0" lang="en-US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 Multicast </a:t>
              </a:r>
              <a:r>
                <a:rPr b="0" lang="ru-RU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трафика до клиентов</a:t>
              </a:r>
              <a:r>
                <a:rPr b="0" lang="en-US" sz="1200" spc="-1" strike="noStrike">
                  <a:solidFill>
                    <a:srgbClr val="ffc000"/>
                  </a:solidFill>
                  <a:latin typeface="Arial Unicode MS"/>
                  <a:ea typeface="Arial Unicode M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355" name="Oval 51"/>
            <p:cNvSpPr/>
            <p:nvPr/>
          </p:nvSpPr>
          <p:spPr>
            <a:xfrm>
              <a:off x="5724360" y="3765240"/>
              <a:ext cx="422280" cy="450360"/>
            </a:xfrm>
            <a:prstGeom prst="ellipse">
              <a:avLst/>
            </a:prstGeom>
            <a:noFill/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c000"/>
                  </a:solidFill>
                  <a:latin typeface="DejaVu Sans Condensed"/>
                  <a:ea typeface="新細明體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356" name="Rectangle 11"/>
          <p:cNvSpPr/>
          <p:nvPr/>
        </p:nvSpPr>
        <p:spPr>
          <a:xfrm>
            <a:off x="5235480" y="5805360"/>
            <a:ext cx="4795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  <a:ea typeface="Arial"/>
              </a:rPr>
              <a:t>ПК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57" name="Rectangle 12"/>
          <p:cNvSpPr/>
          <p:nvPr/>
        </p:nvSpPr>
        <p:spPr>
          <a:xfrm>
            <a:off x="3564360" y="6093000"/>
            <a:ext cx="828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58" name="Rectangle 13"/>
          <p:cNvSpPr/>
          <p:nvPr/>
        </p:nvSpPr>
        <p:spPr>
          <a:xfrm>
            <a:off x="4500720" y="6093000"/>
            <a:ext cx="828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59" name="Rectangle 16"/>
          <p:cNvSpPr/>
          <p:nvPr/>
        </p:nvSpPr>
        <p:spPr>
          <a:xfrm>
            <a:off x="3293640" y="5805360"/>
            <a:ext cx="4687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  <a:ea typeface="Arial"/>
              </a:rPr>
              <a:t>ПК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60" name="文字方塊 30"/>
          <p:cNvSpPr/>
          <p:nvPr/>
        </p:nvSpPr>
        <p:spPr>
          <a:xfrm>
            <a:off x="1686600" y="5867280"/>
            <a:ext cx="18478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IGMP report / query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Multicast : 2</a:t>
            </a:r>
            <a:r>
              <a:rPr b="0" lang="ru-RU" sz="1200" spc="-1" strike="noStrike">
                <a:solidFill>
                  <a:srgbClr val="0070c0"/>
                </a:solidFill>
                <a:latin typeface="DejaVu Sans Condensed"/>
              </a:rPr>
              <a:t>39</a:t>
            </a:r>
            <a:r>
              <a:rPr b="0" lang="en-US" sz="12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DejaVu Sans Condensed"/>
              </a:rPr>
              <a:t>0</a:t>
            </a:r>
            <a:r>
              <a:rPr b="0" lang="en-US" sz="12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DejaVu Sans Condensed"/>
              </a:rPr>
              <a:t>0</a:t>
            </a:r>
            <a:r>
              <a:rPr b="0" lang="en-US" sz="12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DejaVu Sans Condensed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61" name="Line 103"/>
          <p:cNvSpPr/>
          <p:nvPr/>
        </p:nvSpPr>
        <p:spPr>
          <a:xfrm>
            <a:off x="4654440" y="3962520"/>
            <a:ext cx="0" cy="48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228600" y="4086360"/>
          <a:ext cx="3429000" cy="487080"/>
        </p:xfrm>
        <a:graphic>
          <a:graphicData uri="http://schemas.openxmlformats.org/drawingml/2006/table">
            <a:tbl>
              <a:tblPr/>
              <a:tblGrid>
                <a:gridCol w="880920"/>
                <a:gridCol w="1176480"/>
                <a:gridCol w="13716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ort N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ulticast Gro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ulticast MA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70c0"/>
                          </a:solidFill>
                          <a:latin typeface="Arial Unicode MS"/>
                          <a:ea typeface="Arial Unicode MS"/>
                        </a:rPr>
                        <a:t>239.1</a:t>
                      </a:r>
                      <a:r>
                        <a:rPr b="0" lang="ru-RU" sz="1000" spc="-1" strike="noStrike">
                          <a:solidFill>
                            <a:srgbClr val="0070c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r>
                        <a:rPr b="0" lang="en-US" sz="1000" spc="-1" strike="noStrike">
                          <a:solidFill>
                            <a:srgbClr val="0070c0"/>
                          </a:solidFill>
                          <a:latin typeface="Arial Unicode MS"/>
                          <a:ea typeface="Arial Unicode MS"/>
                        </a:rPr>
                        <a:t>.1</a:t>
                      </a:r>
                      <a:r>
                        <a:rPr b="0" lang="ru-RU" sz="1000" spc="-1" strike="noStrike">
                          <a:solidFill>
                            <a:srgbClr val="0070c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r>
                        <a:rPr b="0" lang="en-US" sz="1000" spc="-1" strike="noStrike">
                          <a:solidFill>
                            <a:srgbClr val="0070c0"/>
                          </a:solidFill>
                          <a:latin typeface="Arial Unicode MS"/>
                          <a:ea typeface="Arial Unicode MS"/>
                        </a:rPr>
                        <a:t>.1</a:t>
                      </a:r>
                      <a:r>
                        <a:rPr b="0" lang="ru-RU" sz="1000" spc="-1" strike="noStrike">
                          <a:solidFill>
                            <a:srgbClr val="0070c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70c0"/>
                          </a:solidFill>
                          <a:latin typeface="Arial Unicode MS"/>
                          <a:ea typeface="Arial Unicode MS"/>
                        </a:rPr>
                        <a:t>01005e0a0a0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DejaVu Sans Condense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文字方塊 76"/>
          <p:cNvSpPr/>
          <p:nvPr/>
        </p:nvSpPr>
        <p:spPr>
          <a:xfrm>
            <a:off x="3947760" y="5105520"/>
            <a:ext cx="26748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64" name="文字方塊 77"/>
          <p:cNvSpPr/>
          <p:nvPr/>
        </p:nvSpPr>
        <p:spPr>
          <a:xfrm>
            <a:off x="4825800" y="4952880"/>
            <a:ext cx="3546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65" name="文字方塊 78"/>
          <p:cNvSpPr/>
          <p:nvPr/>
        </p:nvSpPr>
        <p:spPr>
          <a:xfrm>
            <a:off x="221040" y="3809880"/>
            <a:ext cx="16315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FDB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66" name="文字方塊 79"/>
          <p:cNvSpPr/>
          <p:nvPr/>
        </p:nvSpPr>
        <p:spPr>
          <a:xfrm>
            <a:off x="4827240" y="4191120"/>
            <a:ext cx="3546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67" name="Line 154"/>
          <p:cNvSpPr/>
          <p:nvPr/>
        </p:nvSpPr>
        <p:spPr>
          <a:xfrm>
            <a:off x="4724280" y="5176800"/>
            <a:ext cx="0" cy="3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68" name="Line 148"/>
          <p:cNvSpPr/>
          <p:nvPr/>
        </p:nvSpPr>
        <p:spPr>
          <a:xfrm flipV="1">
            <a:off x="5029200" y="517680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69" name="文字方塊 30"/>
          <p:cNvSpPr/>
          <p:nvPr/>
        </p:nvSpPr>
        <p:spPr>
          <a:xfrm>
            <a:off x="5626800" y="5877000"/>
            <a:ext cx="18478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IGMP report / query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Multicast : 2</a:t>
            </a:r>
            <a:r>
              <a:rPr b="0" lang="ru-RU" sz="1200" spc="-1" strike="noStrike">
                <a:solidFill>
                  <a:srgbClr val="0070c0"/>
                </a:solidFill>
                <a:latin typeface="DejaVu Sans Condensed"/>
              </a:rPr>
              <a:t>39</a:t>
            </a:r>
            <a:r>
              <a:rPr b="0" lang="en-US" sz="12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DejaVu Sans Condensed"/>
              </a:rPr>
              <a:t>0</a:t>
            </a:r>
            <a:r>
              <a:rPr b="0" lang="en-US" sz="12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DejaVu Sans Condensed"/>
              </a:rPr>
              <a:t>0</a:t>
            </a:r>
            <a:r>
              <a:rPr b="0" lang="en-US" sz="12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.1</a:t>
            </a:r>
            <a:r>
              <a:rPr b="0" lang="ru-RU" sz="1200" spc="-1" strike="noStrike">
                <a:solidFill>
                  <a:srgbClr val="0070c0"/>
                </a:solidFill>
                <a:latin typeface="DejaVu Sans Condensed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70" name="矩形 62"/>
          <p:cNvSpPr/>
          <p:nvPr/>
        </p:nvSpPr>
        <p:spPr>
          <a:xfrm>
            <a:off x="242280" y="4330800"/>
            <a:ext cx="605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,10,25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71" name="矩形 63"/>
          <p:cNvSpPr/>
          <p:nvPr/>
        </p:nvSpPr>
        <p:spPr>
          <a:xfrm>
            <a:off x="246600" y="4330800"/>
            <a:ext cx="4323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2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DejaVu Sans Condensed"/>
                <a:ea typeface="新細明體"/>
              </a:rPr>
              <a:t>1,25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72" name="Rectangle 105"/>
          <p:cNvSpPr/>
          <p:nvPr/>
        </p:nvSpPr>
        <p:spPr>
          <a:xfrm>
            <a:off x="2570040" y="4821120"/>
            <a:ext cx="120996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оцесс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IGMP Snooping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Fast leave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74" name="Picture 11" descr=""/>
          <p:cNvPicPr/>
          <p:nvPr/>
        </p:nvPicPr>
        <p:blipFill>
          <a:blip r:embed="rId1"/>
          <a:stretch/>
        </p:blipFill>
        <p:spPr>
          <a:xfrm>
            <a:off x="442800" y="1557360"/>
            <a:ext cx="8305920" cy="22860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3"/>
          <p:cNvSpPr/>
          <p:nvPr/>
        </p:nvSpPr>
        <p:spPr>
          <a:xfrm>
            <a:off x="395280" y="2657520"/>
            <a:ext cx="6959520" cy="26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376" name="Picture 14" descr=""/>
          <p:cNvPicPr/>
          <p:nvPr/>
        </p:nvPicPr>
        <p:blipFill>
          <a:blip r:embed="rId2"/>
          <a:stretch/>
        </p:blipFill>
        <p:spPr>
          <a:xfrm>
            <a:off x="425520" y="4019400"/>
            <a:ext cx="8323200" cy="236232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15"/>
          <p:cNvSpPr/>
          <p:nvPr/>
        </p:nvSpPr>
        <p:spPr>
          <a:xfrm>
            <a:off x="395280" y="4724280"/>
            <a:ext cx="7010280" cy="144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78" name="AutoShape 37"/>
          <p:cNvSpPr/>
          <p:nvPr/>
        </p:nvSpPr>
        <p:spPr>
          <a:xfrm flipH="1">
            <a:off x="253440" y="4005360"/>
            <a:ext cx="3886200" cy="576000"/>
          </a:xfrm>
          <a:prstGeom prst="wedgeRoundRectCallout">
            <a:avLst>
              <a:gd name="adj1" fmla="val -44527"/>
              <a:gd name="adj2" fmla="val 143402"/>
              <a:gd name="adj3" fmla="val 16667"/>
            </a:avLst>
          </a:prstGeom>
          <a:solidFill>
            <a:srgbClr val="ffffff"/>
          </a:solidFill>
          <a:ln w="255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выключенным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GMP Fast Leave ,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 будет продолжать получать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 до истечении  таймера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y Interval.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79" name="AutoShape 17"/>
          <p:cNvSpPr/>
          <p:nvPr/>
        </p:nvSpPr>
        <p:spPr>
          <a:xfrm flipV="1">
            <a:off x="4267080" y="5028480"/>
            <a:ext cx="228600" cy="166680"/>
          </a:xfrm>
          <a:prstGeom prst="triangle">
            <a:avLst>
              <a:gd name="adj" fmla="val 5119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80" name="AutoShape 37"/>
          <p:cNvSpPr/>
          <p:nvPr/>
        </p:nvSpPr>
        <p:spPr>
          <a:xfrm flipH="1">
            <a:off x="1808280" y="1773360"/>
            <a:ext cx="3124080" cy="576000"/>
          </a:xfrm>
          <a:prstGeom prst="wedgeRoundRectCallout">
            <a:avLst>
              <a:gd name="adj1" fmla="val 712"/>
              <a:gd name="adj2" fmla="val 132291"/>
              <a:gd name="adj3" fmla="val 16667"/>
            </a:avLst>
          </a:prstGeom>
          <a:solidFill>
            <a:srgbClr val="ffffff"/>
          </a:solidFill>
          <a:ln w="255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включённым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GMP Fast Leave ,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ещание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удет остановлено немедленно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5" descr="DES-3200-26_front.jpg"/>
          <p:cNvPicPr/>
          <p:nvPr/>
        </p:nvPicPr>
        <p:blipFill>
          <a:blip r:embed="rId1"/>
          <a:stretch/>
        </p:blipFill>
        <p:spPr>
          <a:xfrm>
            <a:off x="1763640" y="1484280"/>
            <a:ext cx="5656320" cy="2736720"/>
          </a:xfrm>
          <a:prstGeom prst="rect">
            <a:avLst/>
          </a:prstGeom>
          <a:ln w="0">
            <a:noFill/>
          </a:ln>
        </p:spPr>
      </p:pic>
      <p:sp>
        <p:nvSpPr>
          <p:cNvPr id="382" name="Line 35"/>
          <p:cNvSpPr/>
          <p:nvPr/>
        </p:nvSpPr>
        <p:spPr>
          <a:xfrm flipH="1">
            <a:off x="6588000" y="1557360"/>
            <a:ext cx="1440000" cy="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IGMP Snooping 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(пример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84" name="Picture 8" descr="D:\Tools\Dlink\D-Link Icon Library\Switch\1_Switch.png"/>
          <p:cNvPicPr/>
          <p:nvPr/>
        </p:nvPicPr>
        <p:blipFill>
          <a:blip r:embed="rId2"/>
          <a:srcRect l="0" t="10887" r="0" b="14756"/>
          <a:stretch/>
        </p:blipFill>
        <p:spPr>
          <a:xfrm>
            <a:off x="5508720" y="981000"/>
            <a:ext cx="1245960" cy="927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D:\Tools\Dlink\D-Link Icon Library\Security\Generic Server.png"/>
          <p:cNvPicPr/>
          <p:nvPr/>
        </p:nvPicPr>
        <p:blipFill>
          <a:blip r:embed="rId3"/>
          <a:srcRect l="17451" t="8632" r="19819" b="810"/>
          <a:stretch/>
        </p:blipFill>
        <p:spPr>
          <a:xfrm>
            <a:off x="7596360" y="981000"/>
            <a:ext cx="726840" cy="10479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D:\Tools\Dlink\D-Link Icon Library\PC\Desktop 2.png"/>
          <p:cNvPicPr/>
          <p:nvPr/>
        </p:nvPicPr>
        <p:blipFill>
          <a:blip r:embed="rId4"/>
          <a:srcRect l="0" t="8478" r="0" b="12870"/>
          <a:stretch/>
        </p:blipFill>
        <p:spPr>
          <a:xfrm>
            <a:off x="2843280" y="4005360"/>
            <a:ext cx="1179360" cy="927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D:\Tools\Dlink\D-Link Icon Library\PC\Desktop 2.png"/>
          <p:cNvPicPr/>
          <p:nvPr/>
        </p:nvPicPr>
        <p:blipFill>
          <a:blip r:embed="rId5"/>
          <a:srcRect l="0" t="8478" r="0" b="12870"/>
          <a:stretch/>
        </p:blipFill>
        <p:spPr>
          <a:xfrm>
            <a:off x="4284720" y="4005360"/>
            <a:ext cx="1179360" cy="9270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3"/>
          <p:cNvSpPr/>
          <p:nvPr/>
        </p:nvSpPr>
        <p:spPr>
          <a:xfrm>
            <a:off x="684360" y="5445000"/>
            <a:ext cx="7920000" cy="16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ча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олько клиент, присоединившийся к группе, получает многоадресные пакеты, и эти пакеты не передаются на другие порты, к которым подсоединены клиенты, не запросившие этот трафик. 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3133800" y="4883040"/>
            <a:ext cx="5238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4574520" y="4883040"/>
            <a:ext cx="5252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6092640" y="4883040"/>
            <a:ext cx="52236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92" name="Line 35"/>
          <p:cNvSpPr/>
          <p:nvPr/>
        </p:nvSpPr>
        <p:spPr>
          <a:xfrm>
            <a:off x="6156360" y="1844640"/>
            <a:ext cx="0" cy="135108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93" name="Line 35"/>
          <p:cNvSpPr/>
          <p:nvPr/>
        </p:nvSpPr>
        <p:spPr>
          <a:xfrm>
            <a:off x="4932360" y="3357720"/>
            <a:ext cx="0" cy="99036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94" name="Line 35"/>
          <p:cNvSpPr/>
          <p:nvPr/>
        </p:nvSpPr>
        <p:spPr>
          <a:xfrm>
            <a:off x="5508720" y="3357720"/>
            <a:ext cx="934920" cy="100800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95" name="Line 35"/>
          <p:cNvSpPr/>
          <p:nvPr/>
        </p:nvSpPr>
        <p:spPr>
          <a:xfrm flipH="1">
            <a:off x="3492000" y="3213000"/>
            <a:ext cx="863640" cy="107964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396" name="Picture 4" descr="D:\Tools\Dlink\D-Link Icon Library\PC\Desktop 2.png"/>
          <p:cNvPicPr/>
          <p:nvPr/>
        </p:nvPicPr>
        <p:blipFill>
          <a:blip r:embed="rId6"/>
          <a:srcRect l="0" t="8478" r="0" b="12870"/>
          <a:stretch/>
        </p:blipFill>
        <p:spPr>
          <a:xfrm>
            <a:off x="5769000" y="4005360"/>
            <a:ext cx="1179360" cy="92700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5"/>
          <p:cNvSpPr/>
          <p:nvPr/>
        </p:nvSpPr>
        <p:spPr>
          <a:xfrm>
            <a:off x="5727960" y="779400"/>
            <a:ext cx="822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er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7434000" y="692280"/>
            <a:ext cx="956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2237400" y="2044800"/>
            <a:ext cx="1235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S-3200-28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IGMP Snooping 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(пример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684360" y="765000"/>
            <a:ext cx="7632720" cy="56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нфигурация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S-3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0-28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ключить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GMP snooping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глобально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buClr>
                <a:srgbClr val="000000"/>
              </a:buClr>
              <a:buFont typeface="Arial Unicode MS"/>
              <a:buAutoNum type="arabicPeriod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ключить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GMP snooping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ском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е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VLAN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ient_vlan).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buClr>
                <a:srgbClr val="000000"/>
              </a:buClr>
              <a:buFont typeface="Arial Unicode MS"/>
              <a:buAutoNum type="arabicPeriod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_name client_vlan state enable fast_leave enable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buClr>
                <a:srgbClr val="000000"/>
              </a:buClr>
              <a:buFont typeface="Arial Unicode MS"/>
              <a:buAutoNum type="arabicPeriod" startAt="3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ключить фильтрацию незарегистрированных групп (дополнительно), для того чтобы клиенты, которым не нужен групповой трафик не получали широковещательные пакеты.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buClr>
                <a:srgbClr val="000000"/>
              </a:buClr>
              <a:buFont typeface="Arial Unicode MS"/>
              <a:buAutoNum type="arabicPeriod" startAt="3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</a:t>
            </a:r>
            <a:r>
              <a:rPr b="0" i="1" lang="en-US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multicast port_filtering_mode all filter_unregistered_groups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       </a:t>
            </a:r>
            <a:r>
              <a:rPr b="0" i="1" lang="en-US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ave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ст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соединяется к групп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просмотра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ovie1).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рупповы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 вещани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vie1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направляются только на порт П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,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, соответственно, не передаются на другие порты, на которых клиенты не запросили их (не присоединились к группе)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соединяется ко второй группе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просмотра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ovie2),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рупповые пакеты перенаправляются только на порт П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,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не передаются на другие порты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marL="457200" indent="-457200"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1219320" y="1676520"/>
            <a:ext cx="6737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для передачи 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трафика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99ccff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Fast Leave 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Filter unregistered group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 Port Multicast Stream Control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Multicast VLAN (D-Link ISM VLAN)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Access Authentication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130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Функция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Filter Unregistered Grou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611280" y="1447920"/>
            <a:ext cx="799308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базовой реализации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,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наличии в сети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тока и отсутствии клиентов, присоединившихся к данной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руппе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т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ток будет транслироваться по умолчанию на все порты коммутатора. 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решениях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P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ля сервиса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TV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ая ситуация </a:t>
            </a:r>
            <a:r>
              <a:rPr b="0" lang="ru-RU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недопустима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лагодаря установке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"</a:t>
            </a:r>
            <a:r>
              <a:rPr b="0" lang="en-US" sz="2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multicast port_filtering_mod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"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значение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"</a:t>
            </a:r>
            <a:r>
              <a:rPr b="0" lang="en-US" sz="2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filtering_unregistered_group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, Multicast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ток не будет транслироваться на порты коммутатора, если нет ни одного подписчика.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2"/>
          <p:cNvSpPr/>
          <p:nvPr/>
        </p:nvSpPr>
        <p:spPr>
          <a:xfrm>
            <a:off x="1116000" y="2249640"/>
            <a:ext cx="7848720" cy="345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90000"/>
              </a:lnSpc>
              <a:spcBef>
                <a:spcPts val="2276"/>
              </a:spcBef>
              <a:buClr>
                <a:srgbClr val="33a3a3"/>
              </a:buClr>
              <a:buFont typeface="Wingdings" charset="2"/>
              <a:buChar char=""/>
              <a:tabLst>
                <a:tab algn="l" pos="287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</a:t>
            </a:r>
            <a:r>
              <a:rPr b="0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Multicast </a:t>
            </a:r>
            <a:r>
              <a:rPr b="0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для сетей</a:t>
            </a:r>
            <a:r>
              <a:rPr b="0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MAN</a:t>
            </a:r>
            <a:endParaRPr b="0" lang="en-US" sz="2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568440" indent="-285840">
              <a:lnSpc>
                <a:spcPct val="98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568440" indent="-285840">
              <a:lnSpc>
                <a:spcPct val="98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568440" indent="-285840">
              <a:lnSpc>
                <a:spcPct val="98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Fast Leave 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568440" indent="-285840">
              <a:lnSpc>
                <a:spcPct val="98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lter unregistered group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568440" indent="-285840">
              <a:lnSpc>
                <a:spcPct val="98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 Port Multicast Stream Control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568440" indent="-285840">
              <a:lnSpc>
                <a:spcPct val="98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Multicast VLAN (D-Link ISM VLAN)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568440" indent="-285840">
              <a:lnSpc>
                <a:spcPct val="98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568440" indent="-285840">
              <a:lnSpc>
                <a:spcPct val="98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Access Authentication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568440" indent="-285840">
              <a:lnSpc>
                <a:spcPct val="98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287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1219320" y="1676520"/>
            <a:ext cx="6737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для передачи 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трафика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99ccff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Fast Leave 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lter unregistered group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Per Port Multicast Stream Control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Multicast VLAN (D-Link ISM VLAN)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Access Authentication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130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D:\Tools\Dlink\D-Link Icon Library\PC\Desktop 2.png"/>
          <p:cNvPicPr/>
          <p:nvPr/>
        </p:nvPicPr>
        <p:blipFill>
          <a:blip r:embed="rId1"/>
          <a:srcRect l="0" t="8465" r="0" b="12844"/>
          <a:stretch/>
        </p:blipFill>
        <p:spPr>
          <a:xfrm>
            <a:off x="7439040" y="4076640"/>
            <a:ext cx="733320" cy="57636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23" descr="DES-3200-26_front.jpg"/>
          <p:cNvPicPr/>
          <p:nvPr/>
        </p:nvPicPr>
        <p:blipFill>
          <a:blip r:embed="rId2"/>
          <a:stretch/>
        </p:blipFill>
        <p:spPr>
          <a:xfrm>
            <a:off x="5999040" y="2600280"/>
            <a:ext cx="2605320" cy="126036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er Port Multicast Stream Control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1" name="Line 5"/>
          <p:cNvSpPr/>
          <p:nvPr/>
        </p:nvSpPr>
        <p:spPr>
          <a:xfrm flipV="1">
            <a:off x="6948360" y="3396960"/>
            <a:ext cx="0" cy="67932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7259760" y="2276640"/>
            <a:ext cx="0" cy="72360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5345280" y="4660920"/>
            <a:ext cx="239508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Может подключаться только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к каналам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1 ~ 235.1.1.2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7504920" y="1598760"/>
            <a:ext cx="1352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15" name="Line 9"/>
          <p:cNvSpPr/>
          <p:nvPr/>
        </p:nvSpPr>
        <p:spPr>
          <a:xfrm>
            <a:off x="7178760" y="2276640"/>
            <a:ext cx="0" cy="480960"/>
          </a:xfrm>
          <a:prstGeom prst="line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16" name="Line 10"/>
          <p:cNvSpPr/>
          <p:nvPr/>
        </p:nvSpPr>
        <p:spPr>
          <a:xfrm flipV="1">
            <a:off x="7834320" y="3374640"/>
            <a:ext cx="0" cy="67932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17" name="Line 11"/>
          <p:cNvSpPr/>
          <p:nvPr/>
        </p:nvSpPr>
        <p:spPr>
          <a:xfrm>
            <a:off x="6875640" y="3602160"/>
            <a:ext cx="0" cy="480960"/>
          </a:xfrm>
          <a:prstGeom prst="line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18" name="Line 12"/>
          <p:cNvSpPr/>
          <p:nvPr/>
        </p:nvSpPr>
        <p:spPr>
          <a:xfrm>
            <a:off x="7682040" y="3592440"/>
            <a:ext cx="0" cy="480960"/>
          </a:xfrm>
          <a:prstGeom prst="line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19" name="Text Box 16"/>
          <p:cNvSpPr/>
          <p:nvPr/>
        </p:nvSpPr>
        <p:spPr>
          <a:xfrm>
            <a:off x="7472880" y="1847880"/>
            <a:ext cx="137412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Список каналов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1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2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3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30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20" name="Rectangle 17"/>
          <p:cNvSpPr/>
          <p:nvPr/>
        </p:nvSpPr>
        <p:spPr>
          <a:xfrm>
            <a:off x="7500960" y="4653000"/>
            <a:ext cx="139212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Может смотреть все каналы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152280" y="1413000"/>
            <a:ext cx="6019920" cy="54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.к. сервисы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ановятся все более популярны,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обходимо быть уверенным, что услугу получают только те пользователи, которые ее оплатили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р: каналы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~20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есплатны, а каналы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1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30 являются платными. Поэтому, должен быть какой-то механизм контроля доступа, чтобы при получени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join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роса на каналы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1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30 от пользователей, которые не платят за услугу, такие сообщения коммутатором отбрасывались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дставляет функцию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Limited Multicast Addresses per Port</a:t>
            </a:r>
            <a:r>
              <a:rPr b="0" lang="ru-RU" sz="1800" spc="-1" strike="noStrike">
                <a:solidFill>
                  <a:srgbClr val="2e0cda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решения этой задачи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гут использовать данную функцию в качестве настроек по умолчанию и контроля за портами подписчиков, чтобы предотвратить несанкционированный неоплаченный доступ к услуге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422" name="Picture 5" descr="D:\Tools\Dlink\D-Link Icon Library\Security\Generic Server.png"/>
          <p:cNvPicPr/>
          <p:nvPr/>
        </p:nvPicPr>
        <p:blipFill>
          <a:blip r:embed="rId3"/>
          <a:srcRect l="17441" t="8661" r="19843" b="827"/>
          <a:stretch/>
        </p:blipFill>
        <p:spPr>
          <a:xfrm>
            <a:off x="6950160" y="1521000"/>
            <a:ext cx="574560" cy="828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D:\Tools\Dlink\D-Link Icon Library\PC\Desktop 2.png"/>
          <p:cNvPicPr/>
          <p:nvPr/>
        </p:nvPicPr>
        <p:blipFill>
          <a:blip r:embed="rId4"/>
          <a:srcRect l="0" t="8465" r="0" b="12844"/>
          <a:stretch/>
        </p:blipFill>
        <p:spPr>
          <a:xfrm>
            <a:off x="6372360" y="4076640"/>
            <a:ext cx="73332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er Port Multicast Stream Control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25" name="Picture 4" descr="D:\Tools\Dlink\D-Link Icon Library\PC\Desktop 2.png"/>
          <p:cNvPicPr/>
          <p:nvPr/>
        </p:nvPicPr>
        <p:blipFill>
          <a:blip r:embed="rId1"/>
          <a:srcRect l="0" t="8465" r="0" b="12844"/>
          <a:stretch/>
        </p:blipFill>
        <p:spPr>
          <a:xfrm>
            <a:off x="7439040" y="4076640"/>
            <a:ext cx="733320" cy="57636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3" descr="DES-3200-26_front.jpg"/>
          <p:cNvPicPr/>
          <p:nvPr/>
        </p:nvPicPr>
        <p:blipFill>
          <a:blip r:embed="rId2"/>
          <a:stretch/>
        </p:blipFill>
        <p:spPr>
          <a:xfrm>
            <a:off x="5999040" y="2600280"/>
            <a:ext cx="2605320" cy="1260360"/>
          </a:xfrm>
          <a:prstGeom prst="rect">
            <a:avLst/>
          </a:prstGeom>
          <a:ln w="0">
            <a:noFill/>
          </a:ln>
        </p:spPr>
      </p:pic>
      <p:sp>
        <p:nvSpPr>
          <p:cNvPr id="427" name="Line 5"/>
          <p:cNvSpPr/>
          <p:nvPr/>
        </p:nvSpPr>
        <p:spPr>
          <a:xfrm flipV="1">
            <a:off x="6948360" y="3396960"/>
            <a:ext cx="0" cy="67932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28" name="Line 6"/>
          <p:cNvSpPr/>
          <p:nvPr/>
        </p:nvSpPr>
        <p:spPr>
          <a:xfrm>
            <a:off x="7259760" y="2276640"/>
            <a:ext cx="0" cy="72360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7504920" y="1598760"/>
            <a:ext cx="1352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30" name="Line 9"/>
          <p:cNvSpPr/>
          <p:nvPr/>
        </p:nvSpPr>
        <p:spPr>
          <a:xfrm>
            <a:off x="7178760" y="2276640"/>
            <a:ext cx="0" cy="480960"/>
          </a:xfrm>
          <a:prstGeom prst="line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31" name="Line 10"/>
          <p:cNvSpPr/>
          <p:nvPr/>
        </p:nvSpPr>
        <p:spPr>
          <a:xfrm flipV="1">
            <a:off x="7834320" y="3374640"/>
            <a:ext cx="0" cy="67932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6875640" y="3602160"/>
            <a:ext cx="0" cy="480960"/>
          </a:xfrm>
          <a:prstGeom prst="line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7682040" y="3592440"/>
            <a:ext cx="0" cy="480960"/>
          </a:xfrm>
          <a:prstGeom prst="line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34" name="Rectangle 17"/>
          <p:cNvSpPr/>
          <p:nvPr/>
        </p:nvSpPr>
        <p:spPr>
          <a:xfrm>
            <a:off x="7500960" y="4653000"/>
            <a:ext cx="139212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Может смотреть все каналы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435" name="Picture 5" descr="D:\Tools\Dlink\D-Link Icon Library\Security\Generic Server.png"/>
          <p:cNvPicPr/>
          <p:nvPr/>
        </p:nvPicPr>
        <p:blipFill>
          <a:blip r:embed="rId3"/>
          <a:srcRect l="17441" t="8661" r="19843" b="827"/>
          <a:stretch/>
        </p:blipFill>
        <p:spPr>
          <a:xfrm>
            <a:off x="6950160" y="1521000"/>
            <a:ext cx="574560" cy="8283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D:\Tools\Dlink\D-Link Icon Library\PC\Desktop 2.png"/>
          <p:cNvPicPr/>
          <p:nvPr/>
        </p:nvPicPr>
        <p:blipFill>
          <a:blip r:embed="rId4"/>
          <a:srcRect l="0" t="8465" r="0" b="12844"/>
          <a:stretch/>
        </p:blipFill>
        <p:spPr>
          <a:xfrm>
            <a:off x="6372360" y="4076640"/>
            <a:ext cx="733320" cy="57636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3"/>
          <p:cNvSpPr/>
          <p:nvPr/>
        </p:nvSpPr>
        <p:spPr>
          <a:xfrm>
            <a:off x="609480" y="2057400"/>
            <a:ext cx="487692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ункция </a:t>
            </a:r>
            <a:r>
              <a:rPr b="0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Limited IP Multicast Range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зволяет указать каки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ort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 к каким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группам запрещены на данном порту коммутатора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.е. данная функция ограничивает кол-во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Report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ов, и кол-во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групп на порту коммутатора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7472880" y="1847880"/>
            <a:ext cx="137412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Список каналов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1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2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3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30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5345280" y="4660920"/>
            <a:ext cx="239508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Может подключаться только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к каналам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1 ~ 235.1.1.2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ек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Limited Multicast Addresses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41" name="Picture 4" descr="D:\Tools\Dlink\D-Link Icon Library\PC\Desktop 2.png"/>
          <p:cNvPicPr/>
          <p:nvPr/>
        </p:nvPicPr>
        <p:blipFill>
          <a:blip r:embed="rId1"/>
          <a:srcRect l="0" t="8465" r="0" b="12844"/>
          <a:stretch/>
        </p:blipFill>
        <p:spPr>
          <a:xfrm>
            <a:off x="7439040" y="4076640"/>
            <a:ext cx="733320" cy="576360"/>
          </a:xfrm>
          <a:prstGeom prst="rect">
            <a:avLst/>
          </a:prstGeom>
          <a:ln w="0">
            <a:noFill/>
          </a:ln>
        </p:spPr>
      </p:pic>
      <p:pic>
        <p:nvPicPr>
          <p:cNvPr id="442" name="Рисунок 3" descr="DES-3200-26_front.jpg"/>
          <p:cNvPicPr/>
          <p:nvPr/>
        </p:nvPicPr>
        <p:blipFill>
          <a:blip r:embed="rId2"/>
          <a:stretch/>
        </p:blipFill>
        <p:spPr>
          <a:xfrm>
            <a:off x="5999040" y="2600280"/>
            <a:ext cx="2605320" cy="1260360"/>
          </a:xfrm>
          <a:prstGeom prst="rect">
            <a:avLst/>
          </a:prstGeom>
          <a:ln w="0">
            <a:noFill/>
          </a:ln>
        </p:spPr>
      </p:pic>
      <p:sp>
        <p:nvSpPr>
          <p:cNvPr id="443" name="Line 5"/>
          <p:cNvSpPr/>
          <p:nvPr/>
        </p:nvSpPr>
        <p:spPr>
          <a:xfrm flipV="1">
            <a:off x="6948360" y="3396960"/>
            <a:ext cx="0" cy="67932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44" name="Line 6"/>
          <p:cNvSpPr/>
          <p:nvPr/>
        </p:nvSpPr>
        <p:spPr>
          <a:xfrm>
            <a:off x="7259760" y="2276640"/>
            <a:ext cx="0" cy="72360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7504920" y="1598760"/>
            <a:ext cx="1352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46" name="Line 9"/>
          <p:cNvSpPr/>
          <p:nvPr/>
        </p:nvSpPr>
        <p:spPr>
          <a:xfrm>
            <a:off x="7178760" y="2276640"/>
            <a:ext cx="0" cy="480960"/>
          </a:xfrm>
          <a:prstGeom prst="line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47" name="Line 10"/>
          <p:cNvSpPr/>
          <p:nvPr/>
        </p:nvSpPr>
        <p:spPr>
          <a:xfrm flipV="1">
            <a:off x="7834320" y="3374640"/>
            <a:ext cx="0" cy="67932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48" name="Line 11"/>
          <p:cNvSpPr/>
          <p:nvPr/>
        </p:nvSpPr>
        <p:spPr>
          <a:xfrm>
            <a:off x="6875640" y="3602160"/>
            <a:ext cx="0" cy="480960"/>
          </a:xfrm>
          <a:prstGeom prst="line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49" name="Line 12"/>
          <p:cNvSpPr/>
          <p:nvPr/>
        </p:nvSpPr>
        <p:spPr>
          <a:xfrm>
            <a:off x="7682040" y="3592440"/>
            <a:ext cx="0" cy="480960"/>
          </a:xfrm>
          <a:prstGeom prst="line">
            <a:avLst/>
          </a:prstGeom>
          <a:ln w="936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50" name="Rectangle 17"/>
          <p:cNvSpPr/>
          <p:nvPr/>
        </p:nvSpPr>
        <p:spPr>
          <a:xfrm>
            <a:off x="7500960" y="4653000"/>
            <a:ext cx="139212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Может смотреть все каналы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451" name="Picture 5" descr="D:\Tools\Dlink\D-Link Icon Library\Security\Generic Server.png"/>
          <p:cNvPicPr/>
          <p:nvPr/>
        </p:nvPicPr>
        <p:blipFill>
          <a:blip r:embed="rId3"/>
          <a:srcRect l="17441" t="8661" r="19843" b="827"/>
          <a:stretch/>
        </p:blipFill>
        <p:spPr>
          <a:xfrm>
            <a:off x="6950160" y="1521000"/>
            <a:ext cx="574560" cy="8283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" descr="D:\Tools\Dlink\D-Link Icon Library\PC\Desktop 2.png"/>
          <p:cNvPicPr/>
          <p:nvPr/>
        </p:nvPicPr>
        <p:blipFill>
          <a:blip r:embed="rId4"/>
          <a:srcRect l="0" t="8465" r="0" b="12844"/>
          <a:stretch/>
        </p:blipFill>
        <p:spPr>
          <a:xfrm>
            <a:off x="6372360" y="4076640"/>
            <a:ext cx="733320" cy="57636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8"/>
          <p:cNvSpPr/>
          <p:nvPr/>
        </p:nvSpPr>
        <p:spPr>
          <a:xfrm>
            <a:off x="71280" y="1773360"/>
            <a:ext cx="5940720" cy="40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а диапазона для бестплатных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TV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налов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mcast_filter_profile profile_id 1 profile_name free_ch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mcast_filter_profile profile_id 1 add 235.1.1.1-235.1.1.20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limited_multicast_addr ports 1-24 add profile_id 1 access permit</a:t>
            </a: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а диапазона платных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TV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налов для клиента, подключенного к 21 порту коммутатора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mcast_filter_profile profile_id 2 profile_name cost_ch2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mcast_filter_profile profile_id 2 add 235.1.1.21-235.1.1.30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limited_multicast_addr ports 21 add profile_id 2 access permit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а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ильтрации на портах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multicast port_filtering_mode all  filter_unregistered_groups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ave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54" name="Text Box 16"/>
          <p:cNvSpPr/>
          <p:nvPr/>
        </p:nvSpPr>
        <p:spPr>
          <a:xfrm>
            <a:off x="7472880" y="1847880"/>
            <a:ext cx="137412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Список каналов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1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2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3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30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5345280" y="4660920"/>
            <a:ext cx="239508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Может подключаться только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к каналам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35.1.1.1 ~ 235.1.1.2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456" name="Rectangle 31"/>
          <p:cNvGrpSpPr/>
          <p:nvPr/>
        </p:nvGrpSpPr>
        <p:grpSpPr>
          <a:xfrm>
            <a:off x="950760" y="5834160"/>
            <a:ext cx="7236000" cy="847800"/>
            <a:chOff x="950760" y="5834160"/>
            <a:chExt cx="7236000" cy="847800"/>
          </a:xfrm>
        </p:grpSpPr>
        <p:pic>
          <p:nvPicPr>
            <p:cNvPr id="457" name="Rectangle 31" descr=""/>
            <p:cNvPicPr/>
            <p:nvPr/>
          </p:nvPicPr>
          <p:blipFill>
            <a:blip r:embed="rId5"/>
            <a:stretch/>
          </p:blipFill>
          <p:spPr>
            <a:xfrm>
              <a:off x="950760" y="5834160"/>
              <a:ext cx="72360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971640" y="5853240"/>
              <a:ext cx="7200720" cy="8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Примечание: Для ограничения кол-ва единовременных просматриваемых каналов на одном порту от 1 до 1024 каналов: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 marL="343080" indent="-343080" algn="ctr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config max_mcast_group ports 1-2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 max_group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 marL="343080" indent="-343080" algn="ctr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1219320" y="1676520"/>
            <a:ext cx="6737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для передачи 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трафика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99ccff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Fast Leave 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lter unregistered group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 Port Multicast Stream Control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IGMP Snooping Multicast VLAN (D-Link ISM VLAN)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Access Authentication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130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ISM VLA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46836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ункция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ISM VLAN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работана для оптимизации нагрузки магистралей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исами, развёрнутыми в клиентских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s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ункция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ISM VLAN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редотвращает перегрузку канала, вызванную многократными копиями идентичных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отоков на магистральных портах при использовании стандартной функци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ункция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-Link ISM VLAN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удет накапливать вс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ulticast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бщения о вступлении в группу на этом коммутатор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от его лица отправлять отчеты опрашивающему устройству (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им образом, для каждого канала только одна копия многоадресного поток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удет передаваться через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plink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те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M VLAN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будет перенаправлять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оток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тветствующим зарегистрированным подписчикам в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ах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ISM VLA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4" name="Line 94"/>
          <p:cNvSpPr/>
          <p:nvPr/>
        </p:nvSpPr>
        <p:spPr>
          <a:xfrm>
            <a:off x="4356000" y="2492280"/>
            <a:ext cx="0" cy="108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65" name="Rectangle 96"/>
          <p:cNvSpPr/>
          <p:nvPr/>
        </p:nvSpPr>
        <p:spPr>
          <a:xfrm>
            <a:off x="2181240" y="2781360"/>
            <a:ext cx="195912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Отправлен многоадресный поток на коммутатор 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3 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66" name="Line 102"/>
          <p:cNvSpPr/>
          <p:nvPr/>
        </p:nvSpPr>
        <p:spPr>
          <a:xfrm flipV="1">
            <a:off x="4664160" y="3788640"/>
            <a:ext cx="2880" cy="79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67" name="Line 103"/>
          <p:cNvSpPr/>
          <p:nvPr/>
        </p:nvSpPr>
        <p:spPr>
          <a:xfrm>
            <a:off x="4205160" y="2790720"/>
            <a:ext cx="0" cy="48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68" name="Rectangle 105"/>
          <p:cNvSpPr/>
          <p:nvPr/>
        </p:nvSpPr>
        <p:spPr>
          <a:xfrm>
            <a:off x="4643280" y="3141720"/>
            <a:ext cx="12240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3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469" name="Group 111"/>
          <p:cNvGrpSpPr/>
          <p:nvPr/>
        </p:nvGrpSpPr>
        <p:grpSpPr>
          <a:xfrm>
            <a:off x="4857840" y="4000320"/>
            <a:ext cx="3276360" cy="987120"/>
            <a:chOff x="4857840" y="4000320"/>
            <a:chExt cx="3276360" cy="987120"/>
          </a:xfrm>
        </p:grpSpPr>
        <p:sp>
          <p:nvSpPr>
            <p:cNvPr id="470" name="Rectangle 112"/>
            <p:cNvSpPr/>
            <p:nvPr/>
          </p:nvSpPr>
          <p:spPr>
            <a:xfrm>
              <a:off x="5619600" y="4000680"/>
              <a:ext cx="2514600" cy="98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Коммутатор 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L2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отправит сообщения о вступлении в группу коммутатору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L3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с тегами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VID 1 &amp; VID 2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соответственно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471" name="Line 113"/>
            <p:cNvSpPr/>
            <p:nvPr/>
          </p:nvSpPr>
          <p:spPr>
            <a:xfrm flipV="1">
              <a:off x="4857840" y="4000320"/>
              <a:ext cx="0" cy="456840"/>
            </a:xfrm>
            <a:prstGeom prst="line">
              <a:avLst/>
            </a:prstGeom>
            <a:ln w="936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472" name="Rectangle 114"/>
          <p:cNvSpPr/>
          <p:nvPr/>
        </p:nvSpPr>
        <p:spPr>
          <a:xfrm>
            <a:off x="2340000" y="4797360"/>
            <a:ext cx="120636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73" name="Line 116"/>
          <p:cNvSpPr/>
          <p:nvPr/>
        </p:nvSpPr>
        <p:spPr>
          <a:xfrm flipV="1">
            <a:off x="4716360" y="4868640"/>
            <a:ext cx="0" cy="86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474" name="Group 117"/>
          <p:cNvGrpSpPr/>
          <p:nvPr/>
        </p:nvGrpSpPr>
        <p:grpSpPr>
          <a:xfrm>
            <a:off x="1214280" y="4003560"/>
            <a:ext cx="3276720" cy="629640"/>
            <a:chOff x="1214280" y="4003560"/>
            <a:chExt cx="3276720" cy="629640"/>
          </a:xfrm>
        </p:grpSpPr>
        <p:grpSp>
          <p:nvGrpSpPr>
            <p:cNvPr id="475" name="Group 118"/>
            <p:cNvGrpSpPr/>
            <p:nvPr/>
          </p:nvGrpSpPr>
          <p:grpSpPr>
            <a:xfrm>
              <a:off x="1214280" y="4003560"/>
              <a:ext cx="3276720" cy="629640"/>
              <a:chOff x="1214280" y="4003560"/>
              <a:chExt cx="3276720" cy="629640"/>
            </a:xfrm>
          </p:grpSpPr>
          <p:sp>
            <p:nvSpPr>
              <p:cNvPr id="476" name="Line 119"/>
              <p:cNvSpPr/>
              <p:nvPr/>
            </p:nvSpPr>
            <p:spPr>
              <a:xfrm>
                <a:off x="4491000" y="4003560"/>
                <a:ext cx="0" cy="480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 Condensed"/>
                </a:endParaRPr>
              </a:p>
            </p:txBody>
          </p:sp>
          <p:sp>
            <p:nvSpPr>
              <p:cNvPr id="477" name="Rectangle 120"/>
              <p:cNvSpPr/>
              <p:nvPr/>
            </p:nvSpPr>
            <p:spPr>
              <a:xfrm>
                <a:off x="1214280" y="4003560"/>
                <a:ext cx="3124440" cy="62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ru-RU" sz="12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Коммутатор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 L3 </a:t>
                </a:r>
                <a:r>
                  <a:rPr b="0" lang="ru-RU" sz="12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скопирует 2 одинаковых 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 </a:t>
                </a:r>
                <a:r>
                  <a:rPr b="0" lang="ru-RU" sz="12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многоадресных потока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 </a:t>
                </a:r>
                <a:r>
                  <a:rPr b="0" lang="ru-RU" sz="12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и отправит их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 VLAN 1 &amp; VLAN 2</a:t>
                </a:r>
                <a:r>
                  <a:rPr b="0" lang="ru-RU" sz="12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.</a:t>
                </a:r>
                <a:r>
                  <a:rPr b="0" lang="en-US" sz="1200" spc="-1" strike="noStrike">
                    <a:solidFill>
                      <a:srgbClr val="ff0000"/>
                    </a:solidFill>
                    <a:latin typeface="Arial Unicode MS"/>
                    <a:ea typeface="Arial Unicode MS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DejaVu Sans Condensed"/>
                </a:endParaRPr>
              </a:p>
            </p:txBody>
          </p:sp>
        </p:grpSp>
        <p:sp>
          <p:nvSpPr>
            <p:cNvPr id="478" name="Line 121"/>
            <p:cNvSpPr/>
            <p:nvPr/>
          </p:nvSpPr>
          <p:spPr>
            <a:xfrm>
              <a:off x="4343400" y="4003560"/>
              <a:ext cx="0" cy="480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479" name="Line 140"/>
          <p:cNvSpPr/>
          <p:nvPr/>
        </p:nvSpPr>
        <p:spPr>
          <a:xfrm flipV="1">
            <a:off x="5010120" y="4000680"/>
            <a:ext cx="0" cy="45720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80" name="Line 145"/>
          <p:cNvSpPr/>
          <p:nvPr/>
        </p:nvSpPr>
        <p:spPr>
          <a:xfrm flipV="1">
            <a:off x="3851280" y="5013360"/>
            <a:ext cx="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81" name="Line 148"/>
          <p:cNvSpPr/>
          <p:nvPr/>
        </p:nvSpPr>
        <p:spPr>
          <a:xfrm flipV="1">
            <a:off x="4008600" y="517680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82" name="Line 149"/>
          <p:cNvSpPr/>
          <p:nvPr/>
        </p:nvSpPr>
        <p:spPr>
          <a:xfrm flipV="1">
            <a:off x="4871880" y="521496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83" name="Rectangle 150"/>
          <p:cNvSpPr/>
          <p:nvPr/>
        </p:nvSpPr>
        <p:spPr>
          <a:xfrm>
            <a:off x="5772240" y="5091120"/>
            <a:ext cx="211284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Пользователи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VLAN 1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и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VLAN 2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пытаются присоединиться к одной многоадресной группе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или переключиться на один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TV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-канал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84" name="Line 154"/>
          <p:cNvSpPr/>
          <p:nvPr/>
        </p:nvSpPr>
        <p:spPr>
          <a:xfrm>
            <a:off x="3719520" y="5176800"/>
            <a:ext cx="0" cy="3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85" name="Line 155"/>
          <p:cNvSpPr/>
          <p:nvPr/>
        </p:nvSpPr>
        <p:spPr>
          <a:xfrm>
            <a:off x="4584600" y="5214960"/>
            <a:ext cx="0" cy="3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86" name="Text Box 156"/>
          <p:cNvSpPr/>
          <p:nvPr/>
        </p:nvSpPr>
        <p:spPr>
          <a:xfrm>
            <a:off x="684360" y="1197000"/>
            <a:ext cx="4248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оведение в сети без </a:t>
            </a:r>
            <a:r>
              <a:rPr b="1" lang="en-US" sz="16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ISM VLAN 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487" name="Picture 15" descr="C:\Users\06075\Desktop\Icons for Topology\Computer 01.jpg"/>
          <p:cNvPicPr/>
          <p:nvPr/>
        </p:nvPicPr>
        <p:blipFill>
          <a:blip r:embed="rId1"/>
          <a:stretch/>
        </p:blipFill>
        <p:spPr>
          <a:xfrm>
            <a:off x="3995640" y="1857240"/>
            <a:ext cx="603360" cy="8226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4" descr="C:\Users\06075\Desktop\Icons for Topology\Computer 02.jpg"/>
          <p:cNvPicPr/>
          <p:nvPr/>
        </p:nvPicPr>
        <p:blipFill>
          <a:blip r:embed="rId2"/>
          <a:stretch/>
        </p:blipFill>
        <p:spPr>
          <a:xfrm>
            <a:off x="3571920" y="5643720"/>
            <a:ext cx="571320" cy="4824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4500720" y="5661000"/>
            <a:ext cx="571320" cy="4827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7" descr="DGS-3100-48"/>
          <p:cNvPicPr/>
          <p:nvPr/>
        </p:nvPicPr>
        <p:blipFill>
          <a:blip r:embed="rId4"/>
          <a:srcRect l="0" t="28269" r="0" b="28355"/>
          <a:stretch/>
        </p:blipFill>
        <p:spPr>
          <a:xfrm>
            <a:off x="3340080" y="3295800"/>
            <a:ext cx="2095560" cy="9079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8" descr="DGS-1024D"/>
          <p:cNvPicPr/>
          <p:nvPr/>
        </p:nvPicPr>
        <p:blipFill>
          <a:blip r:embed="rId5"/>
          <a:srcRect l="0" t="24333" r="0" b="24413"/>
          <a:stretch/>
        </p:blipFill>
        <p:spPr>
          <a:xfrm>
            <a:off x="3492360" y="4365720"/>
            <a:ext cx="1808280" cy="927000"/>
          </a:xfrm>
          <a:prstGeom prst="rect">
            <a:avLst/>
          </a:prstGeom>
          <a:ln w="0">
            <a:noFill/>
          </a:ln>
        </p:spPr>
      </p:pic>
      <p:sp>
        <p:nvSpPr>
          <p:cNvPr id="492" name="Oval 50"/>
          <p:cNvSpPr/>
          <p:nvPr/>
        </p:nvSpPr>
        <p:spPr>
          <a:xfrm>
            <a:off x="5364000" y="5300640"/>
            <a:ext cx="360360" cy="360360"/>
          </a:xfrm>
          <a:prstGeom prst="ellipse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93" name="Oval 51"/>
          <p:cNvSpPr/>
          <p:nvPr/>
        </p:nvSpPr>
        <p:spPr>
          <a:xfrm>
            <a:off x="5292720" y="4149720"/>
            <a:ext cx="360360" cy="360360"/>
          </a:xfrm>
          <a:prstGeom prst="ellipse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94" name="Oval 52"/>
          <p:cNvSpPr/>
          <p:nvPr/>
        </p:nvSpPr>
        <p:spPr>
          <a:xfrm>
            <a:off x="1822320" y="2813040"/>
            <a:ext cx="36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95" name="Oval 53"/>
          <p:cNvSpPr/>
          <p:nvPr/>
        </p:nvSpPr>
        <p:spPr>
          <a:xfrm>
            <a:off x="826920" y="4005360"/>
            <a:ext cx="36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96" name="Rectangle 11"/>
          <p:cNvSpPr/>
          <p:nvPr/>
        </p:nvSpPr>
        <p:spPr>
          <a:xfrm>
            <a:off x="5076720" y="5805360"/>
            <a:ext cx="4795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97" name="Rectangle 12"/>
          <p:cNvSpPr/>
          <p:nvPr/>
        </p:nvSpPr>
        <p:spPr>
          <a:xfrm>
            <a:off x="3436560" y="6093000"/>
            <a:ext cx="76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 1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98" name="Rectangle 13"/>
          <p:cNvSpPr/>
          <p:nvPr/>
        </p:nvSpPr>
        <p:spPr>
          <a:xfrm>
            <a:off x="4372920" y="6093000"/>
            <a:ext cx="76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 2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499" name="Rectangle 16"/>
          <p:cNvSpPr/>
          <p:nvPr/>
        </p:nvSpPr>
        <p:spPr>
          <a:xfrm>
            <a:off x="3130560" y="5805360"/>
            <a:ext cx="4734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500" name="Rectangle 31"/>
          <p:cNvGrpSpPr/>
          <p:nvPr/>
        </p:nvGrpSpPr>
        <p:grpSpPr>
          <a:xfrm>
            <a:off x="6308640" y="1657440"/>
            <a:ext cx="2165400" cy="2434320"/>
            <a:chOff x="6308640" y="1657440"/>
            <a:chExt cx="2165400" cy="2434320"/>
          </a:xfrm>
        </p:grpSpPr>
        <p:pic>
          <p:nvPicPr>
            <p:cNvPr id="501" name="Rectangle 31" descr=""/>
            <p:cNvPicPr/>
            <p:nvPr/>
          </p:nvPicPr>
          <p:blipFill>
            <a:blip r:embed="rId6"/>
            <a:stretch/>
          </p:blipFill>
          <p:spPr>
            <a:xfrm>
              <a:off x="6308640" y="1657440"/>
              <a:ext cx="216540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6324480" y="1676520"/>
              <a:ext cx="2135160" cy="241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Результатом является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уменьшение пропускной способности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uplink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-канала, особенно если множество пользователей смотрят, например: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 World Cup! 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Uplink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-канал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будет заполнен множеством копий идентичных потоков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503" name="Rectangle 7"/>
          <p:cNvSpPr/>
          <p:nvPr/>
        </p:nvSpPr>
        <p:spPr>
          <a:xfrm>
            <a:off x="4727520" y="2165400"/>
            <a:ext cx="13572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Как функционирует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D-Link ISM VLA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609480" y="1219320"/>
            <a:ext cx="8382240" cy="49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р на следующем слайде показывает как функционирует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-Link ISM VLAN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начала пользователь на коммутатор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2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лжен создать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ISM VLAN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пример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VLAN100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с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ID100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затем сделать порты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~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4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е членам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 порты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портами-источниками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ы-члены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аиваются как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untagged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ы-источники, автоматически настроятся как тегированные (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agged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гда коммутатор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2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лучит сообщения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eport/Leave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 настроенных на не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LAN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н изменит их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отправит сообщени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ort/Leave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у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3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тего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ID 100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им образо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имеет значения одн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LAN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ли все 24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LAN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одключились к одной многоадресной групп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коммутатор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2, ISM VLAN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пользуется для сбора всех сообщений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eport/ Leave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 других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LAN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отправки от их имени сообщения на коммутатор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3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3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удет получать отчет (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ort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для многоадресной группы с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ID 100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им образом он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правит только один многоадресный поток для многоадресной группы на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 100.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ISM VLA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7" name="Line 6"/>
          <p:cNvSpPr/>
          <p:nvPr/>
        </p:nvSpPr>
        <p:spPr>
          <a:xfrm>
            <a:off x="4284720" y="2421000"/>
            <a:ext cx="0" cy="115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4727520" y="2165400"/>
            <a:ext cx="13572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09" name="Rectangle 8"/>
          <p:cNvSpPr/>
          <p:nvPr/>
        </p:nvSpPr>
        <p:spPr>
          <a:xfrm>
            <a:off x="2340000" y="2698920"/>
            <a:ext cx="1889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Отправка многоадресного потока на коммутатор 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3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10" name="Line 9"/>
          <p:cNvSpPr/>
          <p:nvPr/>
        </p:nvSpPr>
        <p:spPr>
          <a:xfrm>
            <a:off x="3978360" y="5230800"/>
            <a:ext cx="0" cy="48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11" name="Line 10"/>
          <p:cNvSpPr/>
          <p:nvPr/>
        </p:nvSpPr>
        <p:spPr>
          <a:xfrm>
            <a:off x="4962600" y="5213520"/>
            <a:ext cx="0" cy="48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5075280" y="5877000"/>
            <a:ext cx="4734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13" name="Rectangle 12"/>
          <p:cNvSpPr/>
          <p:nvPr/>
        </p:nvSpPr>
        <p:spPr>
          <a:xfrm>
            <a:off x="3436560" y="6308640"/>
            <a:ext cx="76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 1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14" name="Rectangle 13"/>
          <p:cNvSpPr/>
          <p:nvPr/>
        </p:nvSpPr>
        <p:spPr>
          <a:xfrm>
            <a:off x="4372920" y="6308640"/>
            <a:ext cx="76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 2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15" name="Line 14"/>
          <p:cNvSpPr/>
          <p:nvPr/>
        </p:nvSpPr>
        <p:spPr>
          <a:xfrm flipH="1">
            <a:off x="4714560" y="3765600"/>
            <a:ext cx="4680" cy="102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16" name="Line 15"/>
          <p:cNvSpPr/>
          <p:nvPr/>
        </p:nvSpPr>
        <p:spPr>
          <a:xfrm>
            <a:off x="4152960" y="2698920"/>
            <a:ext cx="0" cy="48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17" name="Rectangle 16"/>
          <p:cNvSpPr/>
          <p:nvPr/>
        </p:nvSpPr>
        <p:spPr>
          <a:xfrm>
            <a:off x="3130560" y="5877000"/>
            <a:ext cx="4734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18" name="Rectangle 17"/>
          <p:cNvSpPr/>
          <p:nvPr/>
        </p:nvSpPr>
        <p:spPr>
          <a:xfrm>
            <a:off x="4427640" y="3141720"/>
            <a:ext cx="1296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3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519" name="Group 19"/>
          <p:cNvGrpSpPr/>
          <p:nvPr/>
        </p:nvGrpSpPr>
        <p:grpSpPr>
          <a:xfrm>
            <a:off x="3514680" y="5213160"/>
            <a:ext cx="4800600" cy="1420200"/>
            <a:chOff x="3514680" y="5213160"/>
            <a:chExt cx="4800600" cy="1420200"/>
          </a:xfrm>
        </p:grpSpPr>
        <p:sp>
          <p:nvSpPr>
            <p:cNvPr id="520" name="Line 20"/>
            <p:cNvSpPr/>
            <p:nvPr/>
          </p:nvSpPr>
          <p:spPr>
            <a:xfrm flipV="1">
              <a:off x="3514680" y="5213160"/>
              <a:ext cx="0" cy="456840"/>
            </a:xfrm>
            <a:prstGeom prst="line">
              <a:avLst/>
            </a:prstGeom>
            <a:ln w="936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521" name="Line 21"/>
            <p:cNvSpPr/>
            <p:nvPr/>
          </p:nvSpPr>
          <p:spPr>
            <a:xfrm flipV="1">
              <a:off x="4657680" y="5213160"/>
              <a:ext cx="0" cy="456840"/>
            </a:xfrm>
            <a:prstGeom prst="line">
              <a:avLst/>
            </a:prstGeom>
            <a:ln w="936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522" name="Rectangle 22"/>
            <p:cNvSpPr/>
            <p:nvPr/>
          </p:nvSpPr>
          <p:spPr>
            <a:xfrm>
              <a:off x="6334200" y="5289480"/>
              <a:ext cx="198108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Пользователи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VLAN 1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и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VLAN 2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пытаются присоединиться к одной многоадресной группе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или переключиться на один 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TV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-канал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523" name="Line 23"/>
          <p:cNvSpPr/>
          <p:nvPr/>
        </p:nvSpPr>
        <p:spPr>
          <a:xfrm>
            <a:off x="4614840" y="3994200"/>
            <a:ext cx="0" cy="48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24" name="Rectangle 24"/>
          <p:cNvSpPr/>
          <p:nvPr/>
        </p:nvSpPr>
        <p:spPr>
          <a:xfrm>
            <a:off x="539640" y="3857760"/>
            <a:ext cx="312444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Коммутатор 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3 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отправит один многоадресный поток для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ISM VLAN 100. 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Затем коммутатор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L2 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перенаправит его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из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ISM VLAN 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в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VLAN 1 &amp; VLAN 2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525" name="Group 25"/>
          <p:cNvGrpSpPr/>
          <p:nvPr/>
        </p:nvGrpSpPr>
        <p:grpSpPr>
          <a:xfrm>
            <a:off x="4896000" y="3789360"/>
            <a:ext cx="3276360" cy="808200"/>
            <a:chOff x="4896000" y="3789360"/>
            <a:chExt cx="3276360" cy="808200"/>
          </a:xfrm>
        </p:grpSpPr>
        <p:sp>
          <p:nvSpPr>
            <p:cNvPr id="526" name="Rectangle 26"/>
            <p:cNvSpPr/>
            <p:nvPr/>
          </p:nvSpPr>
          <p:spPr>
            <a:xfrm>
              <a:off x="5657760" y="3789360"/>
              <a:ext cx="2514600" cy="8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Коммутатор 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L2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будет отправлять сообщения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Report/ Leave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коммутатору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L3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с меткой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VID 100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527" name="Line 27"/>
            <p:cNvSpPr/>
            <p:nvPr/>
          </p:nvSpPr>
          <p:spPr>
            <a:xfrm flipV="1">
              <a:off x="4896000" y="3994200"/>
              <a:ext cx="0" cy="457200"/>
            </a:xfrm>
            <a:prstGeom prst="line">
              <a:avLst/>
            </a:prstGeom>
            <a:ln w="936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528" name="Rectangle 28"/>
          <p:cNvSpPr/>
          <p:nvPr/>
        </p:nvSpPr>
        <p:spPr>
          <a:xfrm>
            <a:off x="2411280" y="4653000"/>
            <a:ext cx="12798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29" name="Rectangle 29"/>
          <p:cNvSpPr/>
          <p:nvPr/>
        </p:nvSpPr>
        <p:spPr>
          <a:xfrm>
            <a:off x="5940360" y="4603680"/>
            <a:ext cx="266400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ние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M VLAN 100 VID 100,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ленами которой являются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ы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~12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30" name="Line 30"/>
          <p:cNvSpPr/>
          <p:nvPr/>
        </p:nvSpPr>
        <p:spPr>
          <a:xfrm flipV="1">
            <a:off x="3827520" y="49849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31" name="Line 31"/>
          <p:cNvSpPr/>
          <p:nvPr/>
        </p:nvSpPr>
        <p:spPr>
          <a:xfrm flipV="1">
            <a:off x="4809960" y="49849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532" name="Picture 15" descr="C:\Users\06075\Desktop\Icons for Topology\Computer 01.jpg"/>
          <p:cNvPicPr/>
          <p:nvPr/>
        </p:nvPicPr>
        <p:blipFill>
          <a:blip r:embed="rId1"/>
          <a:stretch/>
        </p:blipFill>
        <p:spPr>
          <a:xfrm>
            <a:off x="3924360" y="1825560"/>
            <a:ext cx="603360" cy="8222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4" descr="C:\Users\06075\Desktop\Icons for Topology\Computer 02.jpg"/>
          <p:cNvPicPr/>
          <p:nvPr/>
        </p:nvPicPr>
        <p:blipFill>
          <a:blip r:embed="rId2"/>
          <a:stretch/>
        </p:blipFill>
        <p:spPr>
          <a:xfrm>
            <a:off x="3570120" y="5826240"/>
            <a:ext cx="571680" cy="4824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4498920" y="5826240"/>
            <a:ext cx="571680" cy="4824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8" descr="DGS-3100-48"/>
          <p:cNvPicPr/>
          <p:nvPr/>
        </p:nvPicPr>
        <p:blipFill>
          <a:blip r:embed="rId4"/>
          <a:srcRect l="0" t="28269" r="0" b="28355"/>
          <a:stretch/>
        </p:blipFill>
        <p:spPr>
          <a:xfrm>
            <a:off x="3340080" y="3295800"/>
            <a:ext cx="2095560" cy="9079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49" descr="DGS-1024D"/>
          <p:cNvPicPr/>
          <p:nvPr/>
        </p:nvPicPr>
        <p:blipFill>
          <a:blip r:embed="rId5"/>
          <a:srcRect l="0" t="24333" r="0" b="24413"/>
          <a:stretch/>
        </p:blipFill>
        <p:spPr>
          <a:xfrm>
            <a:off x="3564000" y="4365720"/>
            <a:ext cx="1808280" cy="927000"/>
          </a:xfrm>
          <a:prstGeom prst="rect">
            <a:avLst/>
          </a:prstGeom>
          <a:ln w="0">
            <a:noFill/>
          </a:ln>
        </p:spPr>
      </p:pic>
      <p:sp>
        <p:nvSpPr>
          <p:cNvPr id="537" name="Oval 52"/>
          <p:cNvSpPr/>
          <p:nvPr/>
        </p:nvSpPr>
        <p:spPr>
          <a:xfrm>
            <a:off x="5940360" y="5373720"/>
            <a:ext cx="360360" cy="360360"/>
          </a:xfrm>
          <a:prstGeom prst="ellipse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38" name="Oval 53"/>
          <p:cNvSpPr/>
          <p:nvPr/>
        </p:nvSpPr>
        <p:spPr>
          <a:xfrm>
            <a:off x="5292720" y="4005360"/>
            <a:ext cx="360360" cy="360360"/>
          </a:xfrm>
          <a:prstGeom prst="ellipse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39" name="Oval 54"/>
          <p:cNvSpPr/>
          <p:nvPr/>
        </p:nvSpPr>
        <p:spPr>
          <a:xfrm>
            <a:off x="1979640" y="2708280"/>
            <a:ext cx="36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40" name="Oval 55"/>
          <p:cNvSpPr/>
          <p:nvPr/>
        </p:nvSpPr>
        <p:spPr>
          <a:xfrm>
            <a:off x="179280" y="4076640"/>
            <a:ext cx="36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41" name="Text Box 156"/>
          <p:cNvSpPr/>
          <p:nvPr/>
        </p:nvSpPr>
        <p:spPr>
          <a:xfrm>
            <a:off x="684360" y="1197000"/>
            <a:ext cx="4248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оведение в сети без </a:t>
            </a:r>
            <a:r>
              <a:rPr b="1" lang="en-US" sz="16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ISM VLAN 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542" name="Rectangle 31"/>
          <p:cNvGrpSpPr/>
          <p:nvPr/>
        </p:nvGrpSpPr>
        <p:grpSpPr>
          <a:xfrm>
            <a:off x="6308640" y="1657440"/>
            <a:ext cx="2165400" cy="1362960"/>
            <a:chOff x="6308640" y="1657440"/>
            <a:chExt cx="2165400" cy="1362960"/>
          </a:xfrm>
        </p:grpSpPr>
        <p:pic>
          <p:nvPicPr>
            <p:cNvPr id="543" name="Rectangle 31" descr=""/>
            <p:cNvPicPr/>
            <p:nvPr/>
          </p:nvPicPr>
          <p:blipFill>
            <a:blip r:embed="rId6"/>
            <a:stretch/>
          </p:blipFill>
          <p:spPr>
            <a:xfrm>
              <a:off x="6308640" y="1657440"/>
              <a:ext cx="216540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6324480" y="1676520"/>
              <a:ext cx="213516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D-Link ISM VLAN эффективно сохранит полосу пропускания uplink-канала при развертывании многоадресных приложений в MAN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ISM VLA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6" name="Text Box 12"/>
          <p:cNvSpPr/>
          <p:nvPr/>
        </p:nvSpPr>
        <p:spPr>
          <a:xfrm>
            <a:off x="4191120" y="2514600"/>
            <a:ext cx="26845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P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адрес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PTV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канала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:239.10.10.10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47" name="Rectangle 17"/>
          <p:cNvSpPr/>
          <p:nvPr/>
        </p:nvSpPr>
        <p:spPr>
          <a:xfrm>
            <a:off x="457200" y="5867280"/>
            <a:ext cx="82296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гда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 отсылает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Report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бщение о подписке на канал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L2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заменит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ag 802.1q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ского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ag ISM VLAN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 источника на заданный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replace_source_ip”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 настройках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48" name="Text Box 66"/>
          <p:cNvSpPr/>
          <p:nvPr/>
        </p:nvSpPr>
        <p:spPr>
          <a:xfrm>
            <a:off x="1536840" y="3619440"/>
            <a:ext cx="1218960" cy="541080"/>
          </a:xfrm>
          <a:prstGeom prst="rect">
            <a:avLst/>
          </a:prstGeom>
          <a:noFill/>
          <a:ln w="9360">
            <a:solidFill>
              <a:srgbClr val="92d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ID :101 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92.168.101.5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49" name="Text Box 66"/>
          <p:cNvSpPr/>
          <p:nvPr/>
        </p:nvSpPr>
        <p:spPr>
          <a:xfrm>
            <a:off x="1737720" y="4495680"/>
            <a:ext cx="1287000" cy="58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report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 ID 1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192.168.1.100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50" name="Text Box 31"/>
          <p:cNvSpPr/>
          <p:nvPr/>
        </p:nvSpPr>
        <p:spPr>
          <a:xfrm>
            <a:off x="2712960" y="3645000"/>
            <a:ext cx="6271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rt 26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551" name="Picture 9" descr="E:\Homework\DCS_DCP\GIF ICON\cloud.gif"/>
          <p:cNvPicPr/>
          <p:nvPr/>
        </p:nvPicPr>
        <p:blipFill>
          <a:blip r:embed="rId1"/>
          <a:stretch/>
        </p:blipFill>
        <p:spPr>
          <a:xfrm>
            <a:off x="2590920" y="2286000"/>
            <a:ext cx="1573200" cy="8460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4" descr="C:\Users\06075\Desktop\Icons for Topology\Computer 02.jpg"/>
          <p:cNvPicPr/>
          <p:nvPr/>
        </p:nvPicPr>
        <p:blipFill>
          <a:blip r:embed="rId2"/>
          <a:stretch/>
        </p:blipFill>
        <p:spPr>
          <a:xfrm>
            <a:off x="4114800" y="4419720"/>
            <a:ext cx="520560" cy="439560"/>
          </a:xfrm>
          <a:prstGeom prst="rect">
            <a:avLst/>
          </a:prstGeom>
          <a:ln w="0">
            <a:noFill/>
          </a:ln>
        </p:spPr>
      </p:pic>
      <p:sp>
        <p:nvSpPr>
          <p:cNvPr id="553" name="直線接點 39"/>
          <p:cNvSpPr/>
          <p:nvPr/>
        </p:nvSpPr>
        <p:spPr>
          <a:xfrm flipH="1">
            <a:off x="4038480" y="228528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554" name="Picture 2" descr="E:\Homework\DCS_DCP\GIF ICON\server.gif"/>
          <p:cNvPicPr/>
          <p:nvPr/>
        </p:nvPicPr>
        <p:blipFill>
          <a:blip r:embed="rId3"/>
          <a:stretch/>
        </p:blipFill>
        <p:spPr>
          <a:xfrm>
            <a:off x="4551480" y="1828800"/>
            <a:ext cx="520560" cy="704880"/>
          </a:xfrm>
          <a:prstGeom prst="rect">
            <a:avLst/>
          </a:prstGeom>
          <a:ln w="0">
            <a:noFill/>
          </a:ln>
        </p:spPr>
      </p:pic>
      <p:sp>
        <p:nvSpPr>
          <p:cNvPr id="555" name="直線接點 40"/>
          <p:cNvSpPr/>
          <p:nvPr/>
        </p:nvSpPr>
        <p:spPr>
          <a:xfrm>
            <a:off x="3505320" y="2971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556" name="Picture 6" descr="DGS-3426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276720" y="3124080"/>
            <a:ext cx="1285920" cy="533520"/>
          </a:xfrm>
          <a:prstGeom prst="rect">
            <a:avLst/>
          </a:prstGeom>
          <a:ln w="0">
            <a:noFill/>
          </a:ln>
        </p:spPr>
      </p:pic>
      <p:sp>
        <p:nvSpPr>
          <p:cNvPr id="557" name="直線接點 48"/>
          <p:cNvSpPr/>
          <p:nvPr/>
        </p:nvSpPr>
        <p:spPr>
          <a:xfrm>
            <a:off x="4114800" y="3429000"/>
            <a:ext cx="29196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58" name="直線接點 49"/>
          <p:cNvSpPr/>
          <p:nvPr/>
        </p:nvSpPr>
        <p:spPr>
          <a:xfrm>
            <a:off x="4419720" y="3352680"/>
            <a:ext cx="5331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59" name="直線接點 51"/>
          <p:cNvSpPr/>
          <p:nvPr/>
        </p:nvSpPr>
        <p:spPr>
          <a:xfrm>
            <a:off x="2819520" y="3962520"/>
            <a:ext cx="29196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60" name="直線接點 52"/>
          <p:cNvSpPr/>
          <p:nvPr/>
        </p:nvSpPr>
        <p:spPr>
          <a:xfrm flipV="1">
            <a:off x="2806560" y="3580920"/>
            <a:ext cx="16002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561" name="Picture 2" descr="E:\Homework\DCS_DCP\GIF ICON\DES-3526.gif"/>
          <p:cNvPicPr/>
          <p:nvPr/>
        </p:nvPicPr>
        <p:blipFill>
          <a:blip r:embed="rId5"/>
          <a:stretch/>
        </p:blipFill>
        <p:spPr>
          <a:xfrm>
            <a:off x="2590920" y="3957480"/>
            <a:ext cx="1295280" cy="5382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" descr="E:\Homework\DCS_DCP\GIF ICON\DES-3526.gif"/>
          <p:cNvPicPr/>
          <p:nvPr/>
        </p:nvPicPr>
        <p:blipFill>
          <a:blip r:embed="rId6"/>
          <a:stretch/>
        </p:blipFill>
        <p:spPr>
          <a:xfrm>
            <a:off x="4267080" y="3505320"/>
            <a:ext cx="1295640" cy="538200"/>
          </a:xfrm>
          <a:prstGeom prst="rect">
            <a:avLst/>
          </a:prstGeom>
          <a:ln w="0">
            <a:noFill/>
          </a:ln>
        </p:spPr>
      </p:pic>
      <p:sp>
        <p:nvSpPr>
          <p:cNvPr id="563" name="直線接點 55"/>
          <p:cNvSpPr/>
          <p:nvPr/>
        </p:nvSpPr>
        <p:spPr>
          <a:xfrm>
            <a:off x="3199680" y="434340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564" name="Picture 14" descr="C:\Users\06075\Desktop\Icons for Topology\Computer 02.jpg"/>
          <p:cNvPicPr/>
          <p:nvPr/>
        </p:nvPicPr>
        <p:blipFill>
          <a:blip r:embed="rId7"/>
          <a:stretch/>
        </p:blipFill>
        <p:spPr>
          <a:xfrm>
            <a:off x="3352680" y="4648320"/>
            <a:ext cx="520920" cy="4395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71" descr="j0432625"/>
          <p:cNvPicPr/>
          <p:nvPr/>
        </p:nvPicPr>
        <p:blipFill>
          <a:blip r:embed="rId8"/>
          <a:stretch/>
        </p:blipFill>
        <p:spPr>
          <a:xfrm>
            <a:off x="3166920" y="4788000"/>
            <a:ext cx="389160" cy="349200"/>
          </a:xfrm>
          <a:prstGeom prst="rect">
            <a:avLst/>
          </a:prstGeom>
          <a:ln w="0">
            <a:noFill/>
          </a:ln>
        </p:spPr>
      </p:pic>
      <p:sp>
        <p:nvSpPr>
          <p:cNvPr id="566" name="直線接點 58"/>
          <p:cNvSpPr/>
          <p:nvPr/>
        </p:nvSpPr>
        <p:spPr>
          <a:xfrm>
            <a:off x="3657600" y="41911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567" name="Picture 73" descr="j0432626"/>
          <p:cNvPicPr/>
          <p:nvPr/>
        </p:nvPicPr>
        <p:blipFill>
          <a:blip r:embed="rId9"/>
          <a:stretch/>
        </p:blipFill>
        <p:spPr>
          <a:xfrm>
            <a:off x="3886200" y="4495680"/>
            <a:ext cx="466560" cy="419400"/>
          </a:xfrm>
          <a:prstGeom prst="rect">
            <a:avLst/>
          </a:prstGeom>
          <a:ln w="0">
            <a:noFill/>
          </a:ln>
        </p:spPr>
      </p:pic>
      <p:sp>
        <p:nvSpPr>
          <p:cNvPr id="568" name="矩形 61"/>
          <p:cNvSpPr/>
          <p:nvPr/>
        </p:nvSpPr>
        <p:spPr>
          <a:xfrm>
            <a:off x="1639440" y="4191120"/>
            <a:ext cx="9259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S-3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0-28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69" name="矩形 62"/>
          <p:cNvSpPr/>
          <p:nvPr/>
        </p:nvSpPr>
        <p:spPr>
          <a:xfrm>
            <a:off x="2496600" y="3254400"/>
            <a:ext cx="762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4038480" y="4876920"/>
            <a:ext cx="168588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5257800" y="4419720"/>
            <a:ext cx="16178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72" name="Text Box 66"/>
          <p:cNvSpPr/>
          <p:nvPr/>
        </p:nvSpPr>
        <p:spPr>
          <a:xfrm>
            <a:off x="2555280" y="5386320"/>
            <a:ext cx="13986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2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68.1.10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73" name="Text Box 66"/>
          <p:cNvSpPr/>
          <p:nvPr/>
        </p:nvSpPr>
        <p:spPr>
          <a:xfrm>
            <a:off x="4038120" y="5105520"/>
            <a:ext cx="13982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92.168.1.10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74" name="向下箭號 47"/>
          <p:cNvSpPr/>
          <p:nvPr/>
        </p:nvSpPr>
        <p:spPr>
          <a:xfrm rot="9161400">
            <a:off x="3182400" y="4363560"/>
            <a:ext cx="169920" cy="30024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75" name="向下箭號 47"/>
          <p:cNvSpPr/>
          <p:nvPr/>
        </p:nvSpPr>
        <p:spPr>
          <a:xfrm rot="7449000">
            <a:off x="3791160" y="4173480"/>
            <a:ext cx="180720" cy="317520"/>
          </a:xfrm>
          <a:prstGeom prst="downArrow">
            <a:avLst>
              <a:gd name="adj1" fmla="val 50000"/>
              <a:gd name="adj2" fmla="val 49708"/>
            </a:avLst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76" name="直線接點 59"/>
          <p:cNvSpPr/>
          <p:nvPr/>
        </p:nvSpPr>
        <p:spPr>
          <a:xfrm>
            <a:off x="5181480" y="380988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577" name="群組 61"/>
          <p:cNvGrpSpPr/>
          <p:nvPr/>
        </p:nvGrpSpPr>
        <p:grpSpPr>
          <a:xfrm>
            <a:off x="5334120" y="3962520"/>
            <a:ext cx="749160" cy="484200"/>
            <a:chOff x="5334120" y="3962520"/>
            <a:chExt cx="749160" cy="484200"/>
          </a:xfrm>
        </p:grpSpPr>
        <p:pic>
          <p:nvPicPr>
            <p:cNvPr id="578" name="Picture 14" descr="C:\Users\06075\Desktop\Icons for Topology\Computer 02.jpg"/>
            <p:cNvPicPr/>
            <p:nvPr/>
          </p:nvPicPr>
          <p:blipFill>
            <a:blip r:embed="rId10"/>
            <a:stretch/>
          </p:blipFill>
          <p:spPr>
            <a:xfrm>
              <a:off x="5562720" y="3962520"/>
              <a:ext cx="520560" cy="4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72" descr="j0432622"/>
            <p:cNvPicPr/>
            <p:nvPr/>
          </p:nvPicPr>
          <p:blipFill>
            <a:blip r:embed="rId11"/>
            <a:stretch/>
          </p:blipFill>
          <p:spPr>
            <a:xfrm>
              <a:off x="5334120" y="4038480"/>
              <a:ext cx="453960" cy="40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0" name="Rectangle 5"/>
          <p:cNvSpPr/>
          <p:nvPr/>
        </p:nvSpPr>
        <p:spPr>
          <a:xfrm>
            <a:off x="2556000" y="5172120"/>
            <a:ext cx="168588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1219320" y="1676520"/>
            <a:ext cx="673740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для передачи 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трафика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99ccff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IGMP Snooping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Fast Leave 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lter unregistered group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 Port Multicast Stream Control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Multicast VLAN (D-Link ISM VLAN)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Access Authentication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130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ISM VLA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568440" y="1052640"/>
            <a:ext cx="7924680" cy="295308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  </a:t>
            </a:r>
            <a:r>
              <a:rPr b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L2 switch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р конфигураци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S-3200-28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 multicast_vlan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gmp_snooping multicast_vlan vlan101 10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multicast_vlan vlan101 state enable replace_source_ip 192.168.101.5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multicast_vlan vlan101 add member_port  1-24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multicast_vlan vlan101 add source_port  25-26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_name vlan101 fast_leav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multicast port_filtering_mode all  filter unregistered_groups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av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83" name="Rectangle 5"/>
          <p:cNvSpPr/>
          <p:nvPr/>
        </p:nvSpPr>
        <p:spPr>
          <a:xfrm>
            <a:off x="577800" y="3471840"/>
            <a:ext cx="7162920" cy="187956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1. 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 Включить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IGMP Snooping 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глобально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DejaVu Sans Condensed"/>
              <a:buAutoNum type="arabicPeriod" startAt="2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Включить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ISM VLAN 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глобально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DejaVu Sans Condensed"/>
              <a:buAutoNum type="arabicPeriod" startAt="2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Создать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 ISM VLAN 101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Включить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ISM VLAN 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локально и настроить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“replace_source_ip” 192.168.101.5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, для проксирования клиентских запросов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Настроить  клиентские порты в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ISM VLAN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DejaVu Sans Condensed"/>
              <a:buAutoNum type="arabicPeriod" startAt="4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Настроить порты источники в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ISM VLAN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DejaVu Sans Condensed"/>
              <a:buAutoNum type="arabicPeriod" startAt="4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Включить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Fast Leave 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ISM VLAN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DejaVu Sans Condensed"/>
              <a:buAutoNum type="arabicPeriod" startAt="4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Настроить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фильтрацию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DejaVu Sans Condensed"/>
              <a:buAutoNum type="arabicPeriod" startAt="4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584" name="Rectangle 31"/>
          <p:cNvGrpSpPr/>
          <p:nvPr/>
        </p:nvGrpSpPr>
        <p:grpSpPr>
          <a:xfrm>
            <a:off x="950760" y="5834160"/>
            <a:ext cx="7236000" cy="847800"/>
            <a:chOff x="950760" y="5834160"/>
            <a:chExt cx="7236000" cy="847800"/>
          </a:xfrm>
        </p:grpSpPr>
        <p:pic>
          <p:nvPicPr>
            <p:cNvPr id="585" name="Rectangle 31" descr=""/>
            <p:cNvPicPr/>
            <p:nvPr/>
          </p:nvPicPr>
          <p:blipFill>
            <a:blip r:embed="rId1"/>
            <a:stretch/>
          </p:blipFill>
          <p:spPr>
            <a:xfrm>
              <a:off x="950760" y="5834160"/>
              <a:ext cx="72360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971640" y="5853240"/>
              <a:ext cx="7200720" cy="8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Примечание: Параметр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replace_source_ip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должен быть задан либо в подсети сервера вещания,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либо ближайшего интерфейса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PIM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маршрутизатора. Особенно это актуально при кольце или цепочке коммутаторов. В этом случае параметр на каждом устройстве должен быть уникален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ISM VLA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8" name="Rectangle 3"/>
          <p:cNvSpPr/>
          <p:nvPr/>
        </p:nvSpPr>
        <p:spPr>
          <a:xfrm>
            <a:off x="539640" y="874800"/>
            <a:ext cx="813276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589" name="Прямоугольник 3"/>
          <p:cNvSpPr/>
          <p:nvPr/>
        </p:nvSpPr>
        <p:spPr>
          <a:xfrm>
            <a:off x="468360" y="907920"/>
            <a:ext cx="8207280" cy="469116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lang="en-US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outer / L3 Switch </a:t>
            </a:r>
            <a:r>
              <a:rPr b="1" lang="ru-RU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р настроек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PTV tag 10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PTV add tagged 2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source tag 10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source add untagged 23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интерфейсов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PTV 192.168.101.1/24 IPTV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source 192.168.102.1/24 sourc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PTV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source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 IPTV version 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 state enable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 source version 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 state enable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pi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pim ipif IPTV state enable mode s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pim ipif source state enable mode s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pim static_rp group 239.10.10.0/24 rp 192.168.102.1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av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590" name="Rectangle 31"/>
          <p:cNvGrpSpPr/>
          <p:nvPr/>
        </p:nvGrpSpPr>
        <p:grpSpPr>
          <a:xfrm>
            <a:off x="950760" y="5711760"/>
            <a:ext cx="7236000" cy="1030320"/>
            <a:chOff x="950760" y="5711760"/>
            <a:chExt cx="7236000" cy="1030320"/>
          </a:xfrm>
        </p:grpSpPr>
        <p:pic>
          <p:nvPicPr>
            <p:cNvPr id="591" name="Rectangle 31" descr=""/>
            <p:cNvPicPr/>
            <p:nvPr/>
          </p:nvPicPr>
          <p:blipFill>
            <a:blip r:embed="rId1"/>
            <a:stretch/>
          </p:blipFill>
          <p:spPr>
            <a:xfrm>
              <a:off x="950760" y="5711760"/>
              <a:ext cx="723600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971640" y="5732640"/>
              <a:ext cx="7200720" cy="98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Примечание: Если 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replace_source_ip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 был задан  как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“none”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или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“0.0.0.0”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(зависит от модели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D-Link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коммутатора) или  Вы используете коммутаторы с поддержкой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MVR VLAN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, на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L3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коммутаторе  нужно отключить поддержку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“check_subscriber_source_network”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, для данного примера это делается так: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 marL="343080" indent="-343080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config igmp check_subscriber_source_network ipif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IPTV disable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1219320" y="1676520"/>
            <a:ext cx="6737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для передачи 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трафика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99ccff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Fast Leave 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lter unregistered group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 Port Multicast Stream Control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Multicast VLAN (D-Link ISM VLAN)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PIM-SM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Access Authentication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130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протокол многоадресной рассылки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95280" y="907920"/>
            <a:ext cx="8352000" cy="67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tocol Independent Multicast Sparse Mode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и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DM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tocol Independent Multicast Dense Mode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являются протоколами маршрутизации многоадресных сообщений. Основной их особенностью является то, что при многоадресной маршрутизации они используют маршрутную информацию одноадресных протоколов маршрутизации (например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SPF). Подробнее об этих протоколах читайте RFC 2362 и RFC 3973 соответственно. 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 против PIM-DM: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токол PIM-DM использует механизм лавинной рассылки и отсечения (flood and prune) для построения деревьев многоадресной рассылки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т механизм работает в среде, в которой члены группы плотно распределены по всем сетям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члены группы разбросаны по различным сетям, метод лавинной маршрутизации (flooding) будет использовать большую часть полосы пропускания, что может привести к снижению производительности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шение: протокол PIM-Sparse Mode (PIM-SM).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parse Mode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parse Mode (PIM-SM) был разработан как протокол маршрутизации многоадресной рассылки, который обеспечивает эффективное взаимодействие между членами распределенных групп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тобы исключить возможные проблемы с масштабированием, PIM-SM позволяет ограничивать многоадресный трафик, т.о., что только те маршрутизаторы, которые заинтересованы в получении трафика для определенной группы будут "видеть" его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"Точки Рандеву" (Rendezvous Points, RP) - это корни общих деревьев многоадресной рассылки, которые используются для передачи данных от источников к получателям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подключении к группе каждый приемник использует IGMP для уведомления об этом непосредственно подключенного маршрутизатора, который посылает PIM-сообщение о присоединении к дереву многоадресной рассылки в направлении точки рандеву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точники регистрируются в точке рандеву с целью извещения о своем присутствии в сети и передачи информации членам группы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протокол многоадресной рассылки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Термины применяемые в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8" name="Прямоугольник 3"/>
          <p:cNvSpPr/>
          <p:nvPr/>
        </p:nvSpPr>
        <p:spPr>
          <a:xfrm>
            <a:off x="611280" y="836640"/>
            <a:ext cx="7921440" cy="63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 Neighbor Discover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Neighbor Discover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Поиск соседа)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llo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бщение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иск соседа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– PIMv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ршрутизаторы шлю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ello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бщения с периодичностью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30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секунд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с адресом назначени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All-PIM-Routers” (224.0.0.13)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signated Router (DR)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ulti-access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тей должен быть выбран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Назначенный маршрутизатор)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ункци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IM-S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точник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D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могает отсылать сообщения регистрации н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а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– D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л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oin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бщения н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ndezvous Points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P)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c R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нимо в небольших сетях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atic RP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олжен быть настроен на всех маршрутизаторах  и все маршрутизаторы должны иметь одинаковый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ynamic RP(C-RP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нимо в больших сетях совместно с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-BSR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otstrap Router (BSR)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еханизм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нимо в больших сетях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 метод выбор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з Кандидатов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с текущи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ть проблемы и он не может работать в нормальном режиме, выборы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ужны, чтобы избежать  прерывание предоставления сервиса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бирает анонсы от всех Кандидатов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(C-RPs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сохраняет их в базу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P-set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периодически шлет сообщения </a:t>
            </a:r>
            <a:r>
              <a:rPr b="0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-set ou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сем другим маршрутизаторам в сети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ндидат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 (C-BSR)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сети может быть один или несколько маршрутизаторов, настроенных ка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ндида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(C-BSR)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удет выбран из этих Кандидатов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-BS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наибольшим приоритетом будет выбран в качеств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ибольший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-BS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пользуется для решения конфликтных ситуаций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новый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-BS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с наибольшим приоритетом присоединится к сети, то он инициирует новые выборы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Прямая соединительная линия 37"/>
          <p:cNvSpPr/>
          <p:nvPr/>
        </p:nvSpPr>
        <p:spPr>
          <a:xfrm flipH="1">
            <a:off x="2771280" y="5229360"/>
            <a:ext cx="5050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00" name="Прямая соединительная линия 39"/>
          <p:cNvSpPr/>
          <p:nvPr/>
        </p:nvSpPr>
        <p:spPr>
          <a:xfrm flipH="1">
            <a:off x="3564000" y="5157720"/>
            <a:ext cx="712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01" name="Прямая соединительная линия 41"/>
          <p:cNvSpPr/>
          <p:nvPr/>
        </p:nvSpPr>
        <p:spPr>
          <a:xfrm>
            <a:off x="3923640" y="5084640"/>
            <a:ext cx="647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02" name="Line 6"/>
          <p:cNvSpPr/>
          <p:nvPr/>
        </p:nvSpPr>
        <p:spPr>
          <a:xfrm>
            <a:off x="3308400" y="2852640"/>
            <a:ext cx="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03" name="Line 6"/>
          <p:cNvSpPr/>
          <p:nvPr/>
        </p:nvSpPr>
        <p:spPr>
          <a:xfrm flipH="1">
            <a:off x="3203640" y="2152800"/>
            <a:ext cx="1440" cy="69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1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Stat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05" name="Picture 45" descr="des-3828"/>
          <p:cNvPicPr/>
          <p:nvPr/>
        </p:nvPicPr>
        <p:blipFill>
          <a:blip r:embed="rId1"/>
          <a:stretch/>
        </p:blipFill>
        <p:spPr>
          <a:xfrm>
            <a:off x="1941480" y="2637000"/>
            <a:ext cx="1766880" cy="39528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7"/>
          <p:cNvSpPr/>
          <p:nvPr/>
        </p:nvSpPr>
        <p:spPr>
          <a:xfrm>
            <a:off x="3648240" y="1897200"/>
            <a:ext cx="13554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0.1.1.1/3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07" name="Picture 15" descr="C:\Users\06075\Desktop\Icons for Topology\Computer 01.jpg"/>
          <p:cNvPicPr/>
          <p:nvPr/>
        </p:nvPicPr>
        <p:blipFill>
          <a:blip r:embed="rId2"/>
          <a:stretch/>
        </p:blipFill>
        <p:spPr>
          <a:xfrm>
            <a:off x="2843280" y="1557360"/>
            <a:ext cx="603360" cy="82224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17"/>
          <p:cNvSpPr/>
          <p:nvPr/>
        </p:nvSpPr>
        <p:spPr>
          <a:xfrm>
            <a:off x="3706920" y="2637000"/>
            <a:ext cx="1296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09" name="Rectangle 17"/>
          <p:cNvSpPr/>
          <p:nvPr/>
        </p:nvSpPr>
        <p:spPr>
          <a:xfrm>
            <a:off x="3706920" y="3597120"/>
            <a:ext cx="1296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10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2556000" y="5877000"/>
            <a:ext cx="571320" cy="4824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4" descr="C:\Users\06075\Desktop\Icons for Topology\Computer 02.jpg"/>
          <p:cNvPicPr/>
          <p:nvPr/>
        </p:nvPicPr>
        <p:blipFill>
          <a:blip r:embed="rId4"/>
          <a:stretch/>
        </p:blipFill>
        <p:spPr>
          <a:xfrm>
            <a:off x="3352680" y="5877000"/>
            <a:ext cx="571680" cy="4824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4" descr="C:\Users\06075\Desktop\Icons for Topology\Computer 02.jpg"/>
          <p:cNvPicPr/>
          <p:nvPr/>
        </p:nvPicPr>
        <p:blipFill>
          <a:blip r:embed="rId5"/>
          <a:stretch/>
        </p:blipFill>
        <p:spPr>
          <a:xfrm>
            <a:off x="4361040" y="5877000"/>
            <a:ext cx="571320" cy="48240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12"/>
          <p:cNvSpPr/>
          <p:nvPr/>
        </p:nvSpPr>
        <p:spPr>
          <a:xfrm>
            <a:off x="2397240" y="6405480"/>
            <a:ext cx="828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3189600" y="6405480"/>
            <a:ext cx="828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15" name="Rectangle 12"/>
          <p:cNvSpPr/>
          <p:nvPr/>
        </p:nvSpPr>
        <p:spPr>
          <a:xfrm>
            <a:off x="4185720" y="6381720"/>
            <a:ext cx="8362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16" name="Picture 45" descr="des-3828"/>
          <p:cNvPicPr/>
          <p:nvPr/>
        </p:nvPicPr>
        <p:blipFill>
          <a:blip r:embed="rId6"/>
          <a:stretch/>
        </p:blipFill>
        <p:spPr>
          <a:xfrm>
            <a:off x="1941480" y="3608280"/>
            <a:ext cx="1766880" cy="397080"/>
          </a:xfrm>
          <a:prstGeom prst="rect">
            <a:avLst/>
          </a:prstGeom>
          <a:ln w="0">
            <a:noFill/>
          </a:ln>
        </p:spPr>
      </p:pic>
      <p:sp>
        <p:nvSpPr>
          <p:cNvPr id="617" name="Прямая соединительная линия 25"/>
          <p:cNvSpPr/>
          <p:nvPr/>
        </p:nvSpPr>
        <p:spPr>
          <a:xfrm flipV="1">
            <a:off x="3492360" y="3860280"/>
            <a:ext cx="0" cy="100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18" name="Picture 49" descr="DGS-1024D"/>
          <p:cNvPicPr/>
          <p:nvPr/>
        </p:nvPicPr>
        <p:blipFill>
          <a:blip r:embed="rId7"/>
          <a:srcRect l="0" t="24321" r="0" b="24423"/>
          <a:stretch/>
        </p:blipFill>
        <p:spPr>
          <a:xfrm>
            <a:off x="2808360" y="4653000"/>
            <a:ext cx="1403280" cy="72072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11"/>
          <p:cNvSpPr/>
          <p:nvPr/>
        </p:nvSpPr>
        <p:spPr>
          <a:xfrm>
            <a:off x="4015800" y="5964120"/>
            <a:ext cx="30096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20" name="Rectangle 17"/>
          <p:cNvSpPr/>
          <p:nvPr/>
        </p:nvSpPr>
        <p:spPr>
          <a:xfrm>
            <a:off x="250920" y="2673360"/>
            <a:ext cx="1728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1.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4140360" y="4702320"/>
            <a:ext cx="15112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с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ag 555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622" name="Прямая со стрелкой 47"/>
          <p:cNvCxnSpPr/>
          <p:nvPr/>
        </p:nvCxnSpPr>
        <p:spPr>
          <a:xfrm flipV="1">
            <a:off x="3634200" y="3861720"/>
            <a:ext cx="2520" cy="864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623" name="Rectangle 12"/>
          <p:cNvSpPr/>
          <p:nvPr/>
        </p:nvSpPr>
        <p:spPr>
          <a:xfrm>
            <a:off x="3662280" y="4149720"/>
            <a:ext cx="13377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GMP Join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eav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624" name="Прямая со стрелкой 50"/>
          <p:cNvCxnSpPr/>
          <p:nvPr/>
        </p:nvCxnSpPr>
        <p:spPr>
          <a:xfrm flipH="1">
            <a:off x="3346200" y="3933360"/>
            <a:ext cx="2160" cy="793080"/>
          </a:xfrm>
          <a:prstGeom prst="straightConnector1">
            <a:avLst/>
          </a:prstGeom>
          <a:ln w="12600">
            <a:solidFill>
              <a:srgbClr val="ffc000"/>
            </a:solidFill>
            <a:miter/>
            <a:tailEnd len="med" type="triangle" w="med"/>
          </a:ln>
        </p:spPr>
      </p:cxnSp>
      <p:sp>
        <p:nvSpPr>
          <p:cNvPr id="625" name="Rectangle 12"/>
          <p:cNvSpPr/>
          <p:nvPr/>
        </p:nvSpPr>
        <p:spPr>
          <a:xfrm>
            <a:off x="2260080" y="4149720"/>
            <a:ext cx="10389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IGMP Query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626" name="Прямая со стрелкой 53"/>
          <p:cNvCxnSpPr/>
          <p:nvPr/>
        </p:nvCxnSpPr>
        <p:spPr>
          <a:xfrm flipV="1">
            <a:off x="3490920" y="2925000"/>
            <a:ext cx="2160" cy="648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627" name="Rectangle 12"/>
          <p:cNvSpPr/>
          <p:nvPr/>
        </p:nvSpPr>
        <p:spPr>
          <a:xfrm>
            <a:off x="3485880" y="3141720"/>
            <a:ext cx="12434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 Join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Prun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28" name="Rectangle 17"/>
          <p:cNvSpPr/>
          <p:nvPr/>
        </p:nvSpPr>
        <p:spPr>
          <a:xfrm>
            <a:off x="108000" y="3645000"/>
            <a:ext cx="187164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signated Route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29" name="Rectangle 17"/>
          <p:cNvSpPr/>
          <p:nvPr/>
        </p:nvSpPr>
        <p:spPr>
          <a:xfrm>
            <a:off x="5651640" y="1469880"/>
            <a:ext cx="3313080" cy="42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ме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0.1.1.1/30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 веща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з подсети 239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0.10.0/24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интерфейс коммутатор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аршрутизацию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, который приходит на 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s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1.2)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s</a:t>
            </a:r>
            <a:r>
              <a:rPr b="0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аиваем в качеств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(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ndezvous Points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также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аршрутизацию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 и настраиваем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1.2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е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ах)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ля подключения оконечных клиентов 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-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ссылке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1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Stat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250920" y="1268280"/>
            <a:ext cx="4249800" cy="387396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default delete 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streamers tag 200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streamers add untagged 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ptv-1 tag 300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ptv-1 add tagged 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ptv-1 192.168.10.1/30 iptv-1 state enable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streamers 10.1.1.2/24 streamers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route 192.168.1.0/255.255.255.0 192.168.10.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streamers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ptv-1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ptv-1 state enable mod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streamers state enable mod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tatic_rp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group 239.10.10.0/24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p 10.1.1.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4572000" y="1268280"/>
            <a:ext cx="4392720" cy="405252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default delete 2-24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sm-1 tag 555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sm-1 add untagged 2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ptv-1 tag 300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ptv-1 add tagged 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sm-1 192.168.1.1/24 ism-1 state enable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ptv-1 192.168.10.2/30 iptv-1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route 10.1.1.0/255.255.255.0 192.168.10.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sm-1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ptv-1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ism-1 version 2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sm-1 state enable mod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ptv-1 state enable mod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tatic_rp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group 239.10.10.0/24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p 10.1.1.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633" name="Rectangle 31"/>
          <p:cNvGrpSpPr/>
          <p:nvPr/>
        </p:nvGrpSpPr>
        <p:grpSpPr>
          <a:xfrm>
            <a:off x="1384200" y="6145200"/>
            <a:ext cx="6369120" cy="517680"/>
            <a:chOff x="1384200" y="6145200"/>
            <a:chExt cx="6369120" cy="517680"/>
          </a:xfrm>
        </p:grpSpPr>
        <p:pic>
          <p:nvPicPr>
            <p:cNvPr id="634" name="Rectangle 31" descr=""/>
            <p:cNvPicPr/>
            <p:nvPr/>
          </p:nvPicPr>
          <p:blipFill>
            <a:blip r:embed="rId1"/>
            <a:stretch/>
          </p:blipFill>
          <p:spPr>
            <a:xfrm>
              <a:off x="1384200" y="6145200"/>
              <a:ext cx="63691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1405080" y="6165720"/>
              <a:ext cx="63356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Внимание: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Убедитесь, что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TTL Multicast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пакетов минимум равен кол-ву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op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-ов + 1. 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1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Stat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37" name="Рисунок 2" descr="pim_n1.png"/>
          <p:cNvPicPr/>
          <p:nvPr/>
        </p:nvPicPr>
        <p:blipFill>
          <a:blip r:embed="rId1"/>
          <a:stretch/>
        </p:blipFill>
        <p:spPr>
          <a:xfrm>
            <a:off x="2004840" y="1444680"/>
            <a:ext cx="5015160" cy="2271600"/>
          </a:xfrm>
          <a:prstGeom prst="rect">
            <a:avLst/>
          </a:prstGeom>
          <a:ln w="6480">
            <a:solidFill>
              <a:srgbClr val="0070c0"/>
            </a:solidFill>
            <a:prstDash val="dash"/>
            <a:miter/>
          </a:ln>
        </p:spPr>
      </p:pic>
      <p:sp>
        <p:nvSpPr>
          <p:cNvPr id="638" name="Rectangle 17"/>
          <p:cNvSpPr/>
          <p:nvPr/>
        </p:nvSpPr>
        <p:spPr>
          <a:xfrm>
            <a:off x="1835280" y="1052640"/>
            <a:ext cx="6119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яем, что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идит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седа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2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39" name="Рисунок 4" descr="pim_n2.png"/>
          <p:cNvPicPr/>
          <p:nvPr/>
        </p:nvPicPr>
        <p:blipFill>
          <a:blip r:embed="rId2"/>
          <a:stretch/>
        </p:blipFill>
        <p:spPr>
          <a:xfrm>
            <a:off x="2004840" y="4253040"/>
            <a:ext cx="5015160" cy="2271600"/>
          </a:xfrm>
          <a:prstGeom prst="rect">
            <a:avLst/>
          </a:prstGeom>
          <a:ln w="6480">
            <a:solidFill>
              <a:srgbClr val="0070c0"/>
            </a:solidFill>
            <a:prstDash val="dash"/>
            <a:miter/>
          </a:ln>
        </p:spPr>
      </p:pic>
      <p:sp>
        <p:nvSpPr>
          <p:cNvPr id="640" name="Rectangle 17"/>
          <p:cNvSpPr/>
          <p:nvPr/>
        </p:nvSpPr>
        <p:spPr>
          <a:xfrm>
            <a:off x="1835280" y="3860640"/>
            <a:ext cx="611964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тветственно,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2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идит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седа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1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1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Stat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2" name="Rectangle 17"/>
          <p:cNvSpPr/>
          <p:nvPr/>
        </p:nvSpPr>
        <p:spPr>
          <a:xfrm>
            <a:off x="395280" y="981000"/>
            <a:ext cx="83534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81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 подписался на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TV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руппу 239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0.10.10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проверяем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ipmrote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ршруты для данной группы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:</a:t>
            </a:r>
            <a:endParaRPr b="0" lang="en-US" sz="13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43" name="Рисунок 3" descr="pim_ipm1.png"/>
          <p:cNvPicPr/>
          <p:nvPr/>
        </p:nvPicPr>
        <p:blipFill>
          <a:blip r:embed="rId1"/>
          <a:stretch/>
        </p:blipFill>
        <p:spPr>
          <a:xfrm>
            <a:off x="1870200" y="1341360"/>
            <a:ext cx="6157800" cy="2590920"/>
          </a:xfrm>
          <a:prstGeom prst="rect">
            <a:avLst/>
          </a:prstGeom>
          <a:ln w="6480">
            <a:solidFill>
              <a:srgbClr val="0070c0"/>
            </a:solidFill>
            <a:prstDash val="dash"/>
            <a:miter/>
          </a:ln>
        </p:spPr>
      </p:pic>
      <p:pic>
        <p:nvPicPr>
          <p:cNvPr id="644" name="Рисунок 4" descr="pim_ipm2.png"/>
          <p:cNvPicPr/>
          <p:nvPr/>
        </p:nvPicPr>
        <p:blipFill>
          <a:blip r:embed="rId2"/>
          <a:stretch/>
        </p:blipFill>
        <p:spPr>
          <a:xfrm>
            <a:off x="1878120" y="4076640"/>
            <a:ext cx="6510240" cy="2592360"/>
          </a:xfrm>
          <a:prstGeom prst="rect">
            <a:avLst/>
          </a:prstGeom>
          <a:ln w="6480">
            <a:solidFill>
              <a:srgbClr val="0070c0"/>
            </a:solidFill>
            <a:prstDash val="dash"/>
            <a:miter/>
          </a:ln>
        </p:spPr>
      </p:pic>
      <p:sp>
        <p:nvSpPr>
          <p:cNvPr id="645" name="Rectangle 17"/>
          <p:cNvSpPr/>
          <p:nvPr/>
        </p:nvSpPr>
        <p:spPr>
          <a:xfrm>
            <a:off x="468360" y="1292400"/>
            <a:ext cx="14032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46" name="Rectangle 17"/>
          <p:cNvSpPr/>
          <p:nvPr/>
        </p:nvSpPr>
        <p:spPr>
          <a:xfrm>
            <a:off x="468360" y="4029120"/>
            <a:ext cx="14032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2 :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1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Stat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8" name="Прямоугольник 4"/>
          <p:cNvSpPr/>
          <p:nvPr/>
        </p:nvSpPr>
        <p:spPr>
          <a:xfrm>
            <a:off x="468360" y="1197000"/>
            <a:ext cx="8136000" cy="54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Пояснения к записям в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mroute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таблице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PIM-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информация о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трафик е в состояни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“forwarding”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продвижения)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содержится в 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mroute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таблице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Mroute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таблица состоит из записей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(*,G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(S,G)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(S,G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запись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= (Source, Group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используется для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Source-Tree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PIM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строи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деревья для каждого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источника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Маршрутизаторы пробрасывают пакеты с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избранного  источника до клиента.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например: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.1.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.1/2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39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.1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.1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.10)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Создает запись, получа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(S,G) join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Удаляет запись, получа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(S,G) prune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или интерфейс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по истечении таймаута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(*,G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запись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= (*, Group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используется для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Shared-Tree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Несколько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деревьев могут разделять единственный маршрут в пределах сети.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Корень дерева  -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это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R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и назначенные маршрутизаторы(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DRs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– это листья дерева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. (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например: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*/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.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.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.10)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Шаг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1: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Когда клиент присоединяется 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группе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G,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он использует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IGM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сообщения для информирования назначенного маршрутизатор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D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, к  которому он подключен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Шаг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2: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После этого,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D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отсылает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join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сообщение 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RP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соответствующе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multicast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группе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Шаг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3: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Маршрутизаторы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на протяжении пути от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D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до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R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формируют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RP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дерево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Каждый маршрутизатор в этой ветке создае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(*,G)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запись  в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его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mroute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таблице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. “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”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означает любы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multicast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  источники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Oval 3"/>
          <p:cNvSpPr/>
          <p:nvPr/>
        </p:nvSpPr>
        <p:spPr>
          <a:xfrm>
            <a:off x="228600" y="3200400"/>
            <a:ext cx="4724280" cy="3429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97" name="Line 4"/>
          <p:cNvSpPr/>
          <p:nvPr/>
        </p:nvSpPr>
        <p:spPr>
          <a:xfrm>
            <a:off x="2362320" y="320040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200400" y="4191120"/>
            <a:ext cx="152388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ы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99" name="Line 6"/>
          <p:cNvSpPr/>
          <p:nvPr/>
        </p:nvSpPr>
        <p:spPr>
          <a:xfrm>
            <a:off x="2438280" y="243828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5334120" y="1752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2743200" y="2362320"/>
            <a:ext cx="198108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2" name="Line 9"/>
          <p:cNvSpPr/>
          <p:nvPr/>
        </p:nvSpPr>
        <p:spPr>
          <a:xfrm>
            <a:off x="4800600" y="25146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3" name="Line 10"/>
          <p:cNvSpPr/>
          <p:nvPr/>
        </p:nvSpPr>
        <p:spPr>
          <a:xfrm flipV="1">
            <a:off x="2590920" y="2361960"/>
            <a:ext cx="213336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6172200" y="2133720"/>
            <a:ext cx="304920" cy="121896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5181480" y="3809880"/>
            <a:ext cx="381240" cy="2362320"/>
          </a:xfrm>
          <a:custGeom>
            <a:avLst/>
            <a:gdLst>
              <a:gd name="textAreaLeft" fmla="*/ 0 w 381240"/>
              <a:gd name="textAreaRight" fmla="*/ 137520 w 3812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6" name="Line 14"/>
          <p:cNvSpPr/>
          <p:nvPr/>
        </p:nvSpPr>
        <p:spPr>
          <a:xfrm>
            <a:off x="2666880" y="4191120"/>
            <a:ext cx="15264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7" name="Line 15"/>
          <p:cNvSpPr/>
          <p:nvPr/>
        </p:nvSpPr>
        <p:spPr>
          <a:xfrm>
            <a:off x="3276720" y="49528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2362320" y="49528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09" name="Line 17"/>
          <p:cNvSpPr/>
          <p:nvPr/>
        </p:nvSpPr>
        <p:spPr>
          <a:xfrm flipH="1">
            <a:off x="1218960" y="4191120"/>
            <a:ext cx="53316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715000" y="4648320"/>
            <a:ext cx="274320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ы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 пределах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1447920" y="6019920"/>
            <a:ext cx="20574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дин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LAN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5562720" y="1143000"/>
            <a:ext cx="2098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crosoft 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3505320" y="5257800"/>
            <a:ext cx="28954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грамма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просмотр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TV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icrosoft I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114" name="Picture 26" descr="des-3828"/>
          <p:cNvPicPr/>
          <p:nvPr/>
        </p:nvPicPr>
        <p:blipFill>
          <a:blip r:embed="rId1"/>
          <a:stretch/>
        </p:blipFill>
        <p:spPr>
          <a:xfrm>
            <a:off x="3809880" y="2895480"/>
            <a:ext cx="2121120" cy="476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7" descr="des-3828"/>
          <p:cNvPicPr/>
          <p:nvPr/>
        </p:nvPicPr>
        <p:blipFill>
          <a:blip r:embed="rId2"/>
          <a:stretch/>
        </p:blipFill>
        <p:spPr>
          <a:xfrm>
            <a:off x="1219320" y="2971800"/>
            <a:ext cx="2146320" cy="482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8" descr="des-3828"/>
          <p:cNvPicPr/>
          <p:nvPr/>
        </p:nvPicPr>
        <p:blipFill>
          <a:blip r:embed="rId3"/>
          <a:stretch/>
        </p:blipFill>
        <p:spPr>
          <a:xfrm>
            <a:off x="1219320" y="2111400"/>
            <a:ext cx="2133360" cy="476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9" descr="des-3828"/>
          <p:cNvPicPr/>
          <p:nvPr/>
        </p:nvPicPr>
        <p:blipFill>
          <a:blip r:embed="rId4"/>
          <a:stretch/>
        </p:blipFill>
        <p:spPr>
          <a:xfrm>
            <a:off x="3809880" y="2057400"/>
            <a:ext cx="2146320" cy="4827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spcBef>
                <a:spcPts val="13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На каком уровне работает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IGMP Snooping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19" name="Picture 14" descr="C:\Users\06075\Desktop\Icons for Topology\Computer 02.jpg"/>
          <p:cNvPicPr/>
          <p:nvPr/>
        </p:nvPicPr>
        <p:blipFill>
          <a:blip r:embed="rId5"/>
          <a:stretch/>
        </p:blipFill>
        <p:spPr>
          <a:xfrm>
            <a:off x="974880" y="5516640"/>
            <a:ext cx="428400" cy="361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C:\Users\06075\Desktop\Icons for Topology\Computer 02.jpg"/>
          <p:cNvPicPr/>
          <p:nvPr/>
        </p:nvPicPr>
        <p:blipFill>
          <a:blip r:embed="rId6"/>
          <a:stretch/>
        </p:blipFill>
        <p:spPr>
          <a:xfrm>
            <a:off x="2195640" y="5516640"/>
            <a:ext cx="428400" cy="361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C:\Users\06075\Desktop\Icons for Topology\Computer 02.jpg"/>
          <p:cNvPicPr/>
          <p:nvPr/>
        </p:nvPicPr>
        <p:blipFill>
          <a:blip r:embed="rId7"/>
          <a:stretch/>
        </p:blipFill>
        <p:spPr>
          <a:xfrm>
            <a:off x="3132000" y="5445000"/>
            <a:ext cx="428760" cy="362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C:\Users\06075\Desktop\Icons for Topology\Computer 01.jpg"/>
          <p:cNvPicPr/>
          <p:nvPr/>
        </p:nvPicPr>
        <p:blipFill>
          <a:blip r:embed="rId8"/>
          <a:stretch/>
        </p:blipFill>
        <p:spPr>
          <a:xfrm>
            <a:off x="5003640" y="1125360"/>
            <a:ext cx="497160" cy="677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4" descr="DGS-3100-48"/>
          <p:cNvPicPr/>
          <p:nvPr/>
        </p:nvPicPr>
        <p:blipFill>
          <a:blip r:embed="rId9"/>
          <a:srcRect l="0" t="28276" r="0" b="28355"/>
          <a:stretch/>
        </p:blipFill>
        <p:spPr>
          <a:xfrm>
            <a:off x="1468440" y="3724200"/>
            <a:ext cx="1808280" cy="784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4" descr="DGS-3100-48"/>
          <p:cNvPicPr/>
          <p:nvPr/>
        </p:nvPicPr>
        <p:blipFill>
          <a:blip r:embed="rId10"/>
          <a:srcRect l="0" t="28276" r="0" b="28355"/>
          <a:stretch/>
        </p:blipFill>
        <p:spPr>
          <a:xfrm>
            <a:off x="1979640" y="4508640"/>
            <a:ext cx="1808280" cy="784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3"/>
          <p:cNvSpPr/>
          <p:nvPr/>
        </p:nvSpPr>
        <p:spPr>
          <a:xfrm>
            <a:off x="6553080" y="2082960"/>
            <a:ext cx="2362320" cy="10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Коммутаторы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Протоколы многоадресной маршрутизации 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DVMRP, PIM-DM, PIM-SM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 между 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  <a:ea typeface="新細明體"/>
              </a:rPr>
              <a:t>IP-</a:t>
            </a:r>
            <a:r>
              <a:rPr b="0" lang="ru-RU" sz="1200" spc="-1" strike="noStrike">
                <a:solidFill>
                  <a:srgbClr val="000000"/>
                </a:solidFill>
                <a:latin typeface="DejaVu Sans Condensed"/>
              </a:rPr>
              <a:t>подсетями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1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Stat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50" name="Рисунок 2" descr="igmp.png"/>
          <p:cNvPicPr/>
          <p:nvPr/>
        </p:nvPicPr>
        <p:blipFill>
          <a:blip r:embed="rId1"/>
          <a:stretch/>
        </p:blipFill>
        <p:spPr>
          <a:xfrm>
            <a:off x="511200" y="1413000"/>
            <a:ext cx="7732800" cy="1930320"/>
          </a:xfrm>
          <a:prstGeom prst="rect">
            <a:avLst/>
          </a:prstGeom>
          <a:ln w="6480">
            <a:solidFill>
              <a:srgbClr val="0070c0"/>
            </a:solidFill>
            <a:prstDash val="dash"/>
            <a:miter/>
          </a:ln>
        </p:spPr>
      </p:pic>
      <p:sp>
        <p:nvSpPr>
          <p:cNvPr id="651" name="Rectangle 17"/>
          <p:cNvSpPr/>
          <p:nvPr/>
        </p:nvSpPr>
        <p:spPr>
          <a:xfrm>
            <a:off x="395280" y="981000"/>
            <a:ext cx="835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яем, что группа 239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0.10.10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бавлена в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блицу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52" name="Rectangle 17"/>
          <p:cNvSpPr/>
          <p:nvPr/>
        </p:nvSpPr>
        <p:spPr>
          <a:xfrm>
            <a:off x="395280" y="3429000"/>
            <a:ext cx="8353440" cy="36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ст: 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ы многоадресной рассылки (например: VLC-клиенты), подключенные к коммутаторам доступа с поддержкой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могут подключиться к многоадресной группе 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е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подсет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.1.1.1/30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ерез дв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ршрутизатора: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1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(Работа протокола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ы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,2, .. ,n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дключаются к одной и той же группе из разных клиентских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но только одна копия многоадресной группы передаётся в канале между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DES-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200-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6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28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бота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воды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ратегия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iple Play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одразумевает расширение Интернет-провайдерами спектра предоставляемых услуг [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дача голоса, видео и данных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] по сравнению с традиционными сервисами. Ожидается, что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[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media On Demand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] будет одним из самых востребованных типов услуг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исы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D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ают новые преимущества в традиционных сетях при интенсивном использовании многоадресных рассылок. Всегда актуальным останется процесс оптимизации многоадресной передачи данных в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net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сетях для достижения такого же уровня удобства использования, как и при просмотре обычных телеканалов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мейство коммутаторов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xStack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вечает всем требованиям для использования в сетях многоадресной рассылки уровня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tro Area Network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17"/>
          <p:cNvSpPr/>
          <p:nvPr/>
        </p:nvSpPr>
        <p:spPr>
          <a:xfrm>
            <a:off x="250920" y="907920"/>
            <a:ext cx="4752720" cy="187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92d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54" name="Rectangle 17"/>
          <p:cNvSpPr/>
          <p:nvPr/>
        </p:nvSpPr>
        <p:spPr>
          <a:xfrm>
            <a:off x="250920" y="2925720"/>
            <a:ext cx="4752720" cy="388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2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Stat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6" name="Прямая соединительная линия 37"/>
          <p:cNvSpPr/>
          <p:nvPr/>
        </p:nvSpPr>
        <p:spPr>
          <a:xfrm flipH="1">
            <a:off x="2052720" y="5467320"/>
            <a:ext cx="504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57" name="Прямая соединительная линия 39"/>
          <p:cNvSpPr/>
          <p:nvPr/>
        </p:nvSpPr>
        <p:spPr>
          <a:xfrm flipH="1">
            <a:off x="2844360" y="5396040"/>
            <a:ext cx="71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58" name="Прямая соединительная линия 41"/>
          <p:cNvSpPr/>
          <p:nvPr/>
        </p:nvSpPr>
        <p:spPr>
          <a:xfrm>
            <a:off x="3204360" y="5322960"/>
            <a:ext cx="647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59" name="Line 6"/>
          <p:cNvSpPr/>
          <p:nvPr/>
        </p:nvSpPr>
        <p:spPr>
          <a:xfrm>
            <a:off x="2876400" y="1700280"/>
            <a:ext cx="0" cy="26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60" name="Picture 45" descr="des-3828"/>
          <p:cNvPicPr/>
          <p:nvPr/>
        </p:nvPicPr>
        <p:blipFill>
          <a:blip r:embed="rId1"/>
          <a:stretch/>
        </p:blipFill>
        <p:spPr>
          <a:xfrm>
            <a:off x="1724040" y="3357720"/>
            <a:ext cx="1609560" cy="35856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7"/>
          <p:cNvSpPr/>
          <p:nvPr/>
        </p:nvSpPr>
        <p:spPr>
          <a:xfrm>
            <a:off x="3130560" y="1174680"/>
            <a:ext cx="13557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0.1.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/3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62" name="Picture 15" descr="C:\Users\06075\Desktop\Icons for Topology\Computer 01.jpg"/>
          <p:cNvPicPr/>
          <p:nvPr/>
        </p:nvPicPr>
        <p:blipFill>
          <a:blip r:embed="rId2"/>
          <a:stretch/>
        </p:blipFill>
        <p:spPr>
          <a:xfrm>
            <a:off x="2603520" y="1052640"/>
            <a:ext cx="527040" cy="72072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17"/>
          <p:cNvSpPr/>
          <p:nvPr/>
        </p:nvSpPr>
        <p:spPr>
          <a:xfrm>
            <a:off x="3419640" y="3357720"/>
            <a:ext cx="1296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64" name="Rectangle 17"/>
          <p:cNvSpPr/>
          <p:nvPr/>
        </p:nvSpPr>
        <p:spPr>
          <a:xfrm>
            <a:off x="3417840" y="4317840"/>
            <a:ext cx="1297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65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1836720" y="6114960"/>
            <a:ext cx="425520" cy="36036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4" descr="C:\Users\06075\Desktop\Icons for Topology\Computer 02.jpg"/>
          <p:cNvPicPr/>
          <p:nvPr/>
        </p:nvPicPr>
        <p:blipFill>
          <a:blip r:embed="rId4"/>
          <a:stretch/>
        </p:blipFill>
        <p:spPr>
          <a:xfrm>
            <a:off x="2633760" y="6114960"/>
            <a:ext cx="468360" cy="3970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4" descr="C:\Users\06075\Desktop\Icons for Topology\Computer 02.jpg"/>
          <p:cNvPicPr/>
          <p:nvPr/>
        </p:nvPicPr>
        <p:blipFill>
          <a:blip r:embed="rId5"/>
          <a:stretch/>
        </p:blipFill>
        <p:spPr>
          <a:xfrm>
            <a:off x="3641760" y="6114960"/>
            <a:ext cx="425520" cy="36036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12"/>
          <p:cNvSpPr/>
          <p:nvPr/>
        </p:nvSpPr>
        <p:spPr>
          <a:xfrm>
            <a:off x="1693800" y="6499080"/>
            <a:ext cx="7156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69" name="Rectangle 12"/>
          <p:cNvSpPr/>
          <p:nvPr/>
        </p:nvSpPr>
        <p:spPr>
          <a:xfrm>
            <a:off x="2486160" y="6499080"/>
            <a:ext cx="7156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2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70" name="Rectangle 12"/>
          <p:cNvSpPr/>
          <p:nvPr/>
        </p:nvSpPr>
        <p:spPr>
          <a:xfrm>
            <a:off x="3483360" y="6475320"/>
            <a:ext cx="72180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71" name="Прямая соединительная линия 25"/>
          <p:cNvSpPr/>
          <p:nvPr/>
        </p:nvSpPr>
        <p:spPr>
          <a:xfrm flipV="1">
            <a:off x="3060720" y="4400640"/>
            <a:ext cx="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72" name="Picture 49" descr="DGS-1024D"/>
          <p:cNvPicPr/>
          <p:nvPr/>
        </p:nvPicPr>
        <p:blipFill>
          <a:blip r:embed="rId6"/>
          <a:srcRect l="0" t="24321" r="0" b="24423"/>
          <a:stretch/>
        </p:blipFill>
        <p:spPr>
          <a:xfrm>
            <a:off x="2160720" y="5178600"/>
            <a:ext cx="1403280" cy="720720"/>
          </a:xfrm>
          <a:prstGeom prst="rect">
            <a:avLst/>
          </a:prstGeom>
          <a:ln w="0">
            <a:noFill/>
          </a:ln>
        </p:spPr>
      </p:pic>
      <p:sp>
        <p:nvSpPr>
          <p:cNvPr id="673" name="Rectangle 11"/>
          <p:cNvSpPr/>
          <p:nvPr/>
        </p:nvSpPr>
        <p:spPr>
          <a:xfrm>
            <a:off x="3296520" y="6202440"/>
            <a:ext cx="30096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74" name="Rectangle 17"/>
          <p:cNvSpPr/>
          <p:nvPr/>
        </p:nvSpPr>
        <p:spPr>
          <a:xfrm>
            <a:off x="250920" y="3429000"/>
            <a:ext cx="147636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IP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0.2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3492360" y="5227560"/>
            <a:ext cx="15112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с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ag 555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676" name="Прямая со стрелкой 47"/>
          <p:cNvCxnSpPr/>
          <p:nvPr/>
        </p:nvCxnSpPr>
        <p:spPr>
          <a:xfrm flipV="1">
            <a:off x="3204000" y="4689000"/>
            <a:ext cx="1080" cy="54072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677" name="Rectangle 12"/>
          <p:cNvSpPr/>
          <p:nvPr/>
        </p:nvSpPr>
        <p:spPr>
          <a:xfrm>
            <a:off x="3259080" y="4843440"/>
            <a:ext cx="11365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GMP Join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0" lang="en-US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eave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678" name="Прямая со стрелкой 50"/>
          <p:cNvCxnSpPr/>
          <p:nvPr/>
        </p:nvCxnSpPr>
        <p:spPr>
          <a:xfrm flipH="1">
            <a:off x="2913840" y="4689360"/>
            <a:ext cx="2520" cy="540720"/>
          </a:xfrm>
          <a:prstGeom prst="straightConnector1">
            <a:avLst/>
          </a:prstGeom>
          <a:ln w="12600">
            <a:solidFill>
              <a:srgbClr val="ffc000"/>
            </a:solidFill>
            <a:miter/>
            <a:tailEnd len="med" type="triangle" w="med"/>
          </a:ln>
        </p:spPr>
      </p:cxnSp>
      <p:sp>
        <p:nvSpPr>
          <p:cNvPr id="679" name="Rectangle 12"/>
          <p:cNvSpPr/>
          <p:nvPr/>
        </p:nvSpPr>
        <p:spPr>
          <a:xfrm>
            <a:off x="1848960" y="4843440"/>
            <a:ext cx="8881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IGMP Query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680" name="Прямая со стрелкой 53"/>
          <p:cNvCxnSpPr/>
          <p:nvPr/>
        </p:nvCxnSpPr>
        <p:spPr>
          <a:xfrm flipV="1">
            <a:off x="2986560" y="3680640"/>
            <a:ext cx="2520" cy="540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681" name="Rectangle 12"/>
          <p:cNvSpPr/>
          <p:nvPr/>
        </p:nvSpPr>
        <p:spPr>
          <a:xfrm>
            <a:off x="3011400" y="3897360"/>
            <a:ext cx="10555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 Join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0" lang="en-US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Prune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82" name="Rectangle 17"/>
          <p:cNvSpPr/>
          <p:nvPr/>
        </p:nvSpPr>
        <p:spPr>
          <a:xfrm>
            <a:off x="252360" y="4338720"/>
            <a:ext cx="147636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IP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0.2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683" name="Picture 45" descr="des-3828"/>
          <p:cNvPicPr/>
          <p:nvPr/>
        </p:nvPicPr>
        <p:blipFill>
          <a:blip r:embed="rId7"/>
          <a:stretch/>
        </p:blipFill>
        <p:spPr>
          <a:xfrm>
            <a:off x="1724040" y="4292640"/>
            <a:ext cx="1603440" cy="36036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5" descr="des-3828"/>
          <p:cNvPicPr/>
          <p:nvPr/>
        </p:nvPicPr>
        <p:blipFill>
          <a:blip r:embed="rId8"/>
          <a:stretch/>
        </p:blipFill>
        <p:spPr>
          <a:xfrm>
            <a:off x="1738440" y="2349360"/>
            <a:ext cx="1609560" cy="358920"/>
          </a:xfrm>
          <a:prstGeom prst="rect">
            <a:avLst/>
          </a:prstGeom>
          <a:ln w="0">
            <a:noFill/>
          </a:ln>
        </p:spPr>
      </p:pic>
      <p:sp>
        <p:nvSpPr>
          <p:cNvPr id="685" name="Rectangle 17"/>
          <p:cNvSpPr/>
          <p:nvPr/>
        </p:nvSpPr>
        <p:spPr>
          <a:xfrm>
            <a:off x="3346560" y="2349360"/>
            <a:ext cx="1296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686" name="Прямая со стрелкой 53"/>
          <p:cNvCxnSpPr/>
          <p:nvPr/>
        </p:nvCxnSpPr>
        <p:spPr>
          <a:xfrm flipV="1">
            <a:off x="2986560" y="2707920"/>
            <a:ext cx="2520" cy="5421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687" name="Rectangle 12"/>
          <p:cNvSpPr/>
          <p:nvPr/>
        </p:nvSpPr>
        <p:spPr>
          <a:xfrm>
            <a:off x="3012120" y="2924280"/>
            <a:ext cx="105552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 Join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0" lang="en-US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Prune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88" name="Rectangle 17"/>
          <p:cNvSpPr/>
          <p:nvPr/>
        </p:nvSpPr>
        <p:spPr>
          <a:xfrm>
            <a:off x="250920" y="2421000"/>
            <a:ext cx="147636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IP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0.2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89" name="Rectangle 17"/>
          <p:cNvSpPr/>
          <p:nvPr/>
        </p:nvSpPr>
        <p:spPr>
          <a:xfrm>
            <a:off x="250920" y="907920"/>
            <a:ext cx="158436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Сеть провайдера </a:t>
            </a:r>
            <a:r>
              <a:rPr b="1" lang="en-US" sz="12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IPTV </a:t>
            </a:r>
            <a:r>
              <a:rPr b="1" lang="ru-RU" sz="12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контента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690" name="Прямая со стрелкой 50"/>
          <p:cNvCxnSpPr/>
          <p:nvPr/>
        </p:nvCxnSpPr>
        <p:spPr>
          <a:xfrm flipH="1">
            <a:off x="2986920" y="1844640"/>
            <a:ext cx="2520" cy="505440"/>
          </a:xfrm>
          <a:prstGeom prst="straightConnector1">
            <a:avLst/>
          </a:prstGeom>
          <a:ln w="12600">
            <a:solidFill>
              <a:srgbClr val="33a3a3"/>
            </a:solidFill>
            <a:miter/>
            <a:tailEnd len="med" type="triangle" w="med"/>
          </a:ln>
        </p:spPr>
      </p:cxnSp>
      <p:sp>
        <p:nvSpPr>
          <p:cNvPr id="691" name="Rectangle 12"/>
          <p:cNvSpPr/>
          <p:nvPr/>
        </p:nvSpPr>
        <p:spPr>
          <a:xfrm>
            <a:off x="2978280" y="1963800"/>
            <a:ext cx="109980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0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оток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92" name="Rectangle 17"/>
          <p:cNvSpPr/>
          <p:nvPr/>
        </p:nvSpPr>
        <p:spPr>
          <a:xfrm>
            <a:off x="250920" y="6175440"/>
            <a:ext cx="201744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Сеть провайдера,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Покупающего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IPTV </a:t>
            </a:r>
            <a:r>
              <a:rPr b="1" lang="ru-RU" sz="12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контента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93" name="Rectangle 17"/>
          <p:cNvSpPr/>
          <p:nvPr/>
        </p:nvSpPr>
        <p:spPr>
          <a:xfrm>
            <a:off x="5651640" y="1268280"/>
            <a:ext cx="3313080" cy="55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ме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0.1.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/30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 веща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з подсети 239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0.10.0/24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интерфейс коммутатор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0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0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аршрутизацию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, который приходит на 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s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2)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s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аиваем в качеств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(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ndezvous Points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также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аршрутизацию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 и настраиваем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 добавляем маршрут до подсети 10.1.0.0/24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также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аршрутизацию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 и настраиваем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 добавляем маршруты до подсети 10.1.0.0/24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е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ах)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ля подключения оконечных клиентов 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-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ссылке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2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Stat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5" name="Rectangle 7"/>
          <p:cNvSpPr/>
          <p:nvPr/>
        </p:nvSpPr>
        <p:spPr>
          <a:xfrm>
            <a:off x="250920" y="1014480"/>
            <a:ext cx="3024000" cy="238788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0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default delete 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streamers tag 200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streamers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add untagged 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ptv-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tag 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0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ptv-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add tagged 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streamers 10.1.0.2/24 streamers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ptv-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1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92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168.0.1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/24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tv-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state enable 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streamers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ptv-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ptv-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state enable mod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streamers state enable mod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tatic_rp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group 239.10.10.0/24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p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0.1.</a:t>
            </a:r>
            <a:r>
              <a:rPr b="1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2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3348000" y="1009800"/>
            <a:ext cx="2735280" cy="298368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ptv_0 tag 200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 iptv_0 add tagged 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ptv-1 tag 300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ptv-1 add tagged 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 iptv_0 192.168.0.2/24 streamers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ptv-1 192.168.10.1/30 iptv-1 state enable 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route 10.1.0.0/255.255.255.0 192.168.0.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route 192.168.1.0/255.255.255.0 192.168.10.2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ptv_0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ptv-1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 iptv_1 version 2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 iptv_0 state enable mod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ptv-1 state enable mode sm 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tatic_rp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group 239.10.10.0/24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p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0.1.</a:t>
            </a:r>
            <a:r>
              <a:rPr b="1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2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97" name="Rectangle 7"/>
          <p:cNvSpPr/>
          <p:nvPr/>
        </p:nvSpPr>
        <p:spPr>
          <a:xfrm>
            <a:off x="6156360" y="1009800"/>
            <a:ext cx="2700360" cy="298368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sm-1 tag 555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sm-1 add tagged 2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-24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ptv-1 tag 300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ptv-1 add tagged </a:t>
            </a:r>
            <a:r>
              <a:rPr b="0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sm-1 192.168.1.1/24 ism-1 state enable 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ptv-1 192.168.10.2/30 iptv-1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route 192.168.0.0/255.255.255.0 192.168.10.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route 10.1.0.0/255.255.255.0 192.168.10.1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sm-1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ptv-1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 ism-1 version 2 state enable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sm-1 state enable mod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ptv-1 state enable mod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tatic_rp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group 239.10.10.0/24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p</a:t>
            </a:r>
            <a:r>
              <a:rPr b="0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0.1.</a:t>
            </a:r>
            <a:r>
              <a:rPr b="1" i="1" lang="ru-RU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1" i="1" lang="en-US" sz="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2</a:t>
            </a: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698" name="Rectangle 17"/>
          <p:cNvSpPr/>
          <p:nvPr/>
        </p:nvSpPr>
        <p:spPr>
          <a:xfrm>
            <a:off x="395280" y="4222800"/>
            <a:ext cx="8280360" cy="24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ы за коммутаторам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1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2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огут подписаться на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ссылку.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айдеру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TV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нтента достаточно будет  предоставить потребителю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TV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нтента информацию о том, что услуга будет предоставляться по протоколу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режиму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M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маршрут до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.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требитель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PTV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нтент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может свободно строить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ulticast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сеть любой сложности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 базе протокола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3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Dynam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0" name="Прямая соединительная линия 3"/>
          <p:cNvSpPr/>
          <p:nvPr/>
        </p:nvSpPr>
        <p:spPr>
          <a:xfrm flipH="1">
            <a:off x="3132000" y="522936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01" name="Прямая соединительная линия 4"/>
          <p:cNvSpPr/>
          <p:nvPr/>
        </p:nvSpPr>
        <p:spPr>
          <a:xfrm flipH="1">
            <a:off x="3924360" y="5157720"/>
            <a:ext cx="712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02" name="Прямая соединительная линия 5"/>
          <p:cNvSpPr/>
          <p:nvPr/>
        </p:nvSpPr>
        <p:spPr>
          <a:xfrm>
            <a:off x="4284000" y="5084640"/>
            <a:ext cx="647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03" name="Line 6"/>
          <p:cNvSpPr/>
          <p:nvPr/>
        </p:nvSpPr>
        <p:spPr>
          <a:xfrm>
            <a:off x="3668760" y="2852640"/>
            <a:ext cx="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04" name="Line 6"/>
          <p:cNvSpPr/>
          <p:nvPr/>
        </p:nvSpPr>
        <p:spPr>
          <a:xfrm>
            <a:off x="3564000" y="2152800"/>
            <a:ext cx="0" cy="69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05" name="Picture 45" descr="des-3828"/>
          <p:cNvPicPr/>
          <p:nvPr/>
        </p:nvPicPr>
        <p:blipFill>
          <a:blip r:embed="rId1"/>
          <a:stretch/>
        </p:blipFill>
        <p:spPr>
          <a:xfrm>
            <a:off x="2300400" y="2637000"/>
            <a:ext cx="1766880" cy="395280"/>
          </a:xfrm>
          <a:prstGeom prst="rect">
            <a:avLst/>
          </a:prstGeom>
          <a:ln w="0">
            <a:noFill/>
          </a:ln>
        </p:spPr>
      </p:pic>
      <p:sp>
        <p:nvSpPr>
          <p:cNvPr id="706" name="Rectangle 7"/>
          <p:cNvSpPr/>
          <p:nvPr/>
        </p:nvSpPr>
        <p:spPr>
          <a:xfrm>
            <a:off x="4006800" y="1897200"/>
            <a:ext cx="13572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0.1.1.1/3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07" name="Picture 15" descr="C:\Users\06075\Desktop\Icons for Topology\Computer 01.jpg"/>
          <p:cNvPicPr/>
          <p:nvPr/>
        </p:nvPicPr>
        <p:blipFill>
          <a:blip r:embed="rId2"/>
          <a:stretch/>
        </p:blipFill>
        <p:spPr>
          <a:xfrm>
            <a:off x="3203640" y="1557360"/>
            <a:ext cx="603360" cy="822240"/>
          </a:xfrm>
          <a:prstGeom prst="rect">
            <a:avLst/>
          </a:prstGeom>
          <a:ln w="0">
            <a:noFill/>
          </a:ln>
        </p:spPr>
      </p:pic>
      <p:sp>
        <p:nvSpPr>
          <p:cNvPr id="708" name="Rectangle 17"/>
          <p:cNvSpPr/>
          <p:nvPr/>
        </p:nvSpPr>
        <p:spPr>
          <a:xfrm>
            <a:off x="4067280" y="2637000"/>
            <a:ext cx="1296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09" name="Rectangle 17"/>
          <p:cNvSpPr/>
          <p:nvPr/>
        </p:nvSpPr>
        <p:spPr>
          <a:xfrm>
            <a:off x="4067280" y="3597120"/>
            <a:ext cx="1296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10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2916360" y="5877000"/>
            <a:ext cx="571320" cy="4824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14" descr="C:\Users\06075\Desktop\Icons for Topology\Computer 02.jpg"/>
          <p:cNvPicPr/>
          <p:nvPr/>
        </p:nvPicPr>
        <p:blipFill>
          <a:blip r:embed="rId4"/>
          <a:stretch/>
        </p:blipFill>
        <p:spPr>
          <a:xfrm>
            <a:off x="3713040" y="5877000"/>
            <a:ext cx="571680" cy="4824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14" descr="C:\Users\06075\Desktop\Icons for Topology\Computer 02.jpg"/>
          <p:cNvPicPr/>
          <p:nvPr/>
        </p:nvPicPr>
        <p:blipFill>
          <a:blip r:embed="rId5"/>
          <a:stretch/>
        </p:blipFill>
        <p:spPr>
          <a:xfrm>
            <a:off x="4721400" y="5877000"/>
            <a:ext cx="571320" cy="482400"/>
          </a:xfrm>
          <a:prstGeom prst="rect">
            <a:avLst/>
          </a:prstGeom>
          <a:ln w="0">
            <a:noFill/>
          </a:ln>
        </p:spPr>
      </p:pic>
      <p:sp>
        <p:nvSpPr>
          <p:cNvPr id="713" name="Rectangle 12"/>
          <p:cNvSpPr/>
          <p:nvPr/>
        </p:nvSpPr>
        <p:spPr>
          <a:xfrm>
            <a:off x="2757600" y="6405480"/>
            <a:ext cx="828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14" name="Rectangle 12"/>
          <p:cNvSpPr/>
          <p:nvPr/>
        </p:nvSpPr>
        <p:spPr>
          <a:xfrm>
            <a:off x="3549960" y="6405480"/>
            <a:ext cx="828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15" name="Rectangle 12"/>
          <p:cNvSpPr/>
          <p:nvPr/>
        </p:nvSpPr>
        <p:spPr>
          <a:xfrm>
            <a:off x="4546080" y="6381720"/>
            <a:ext cx="8362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16" name="Picture 45" descr="des-3828"/>
          <p:cNvPicPr/>
          <p:nvPr/>
        </p:nvPicPr>
        <p:blipFill>
          <a:blip r:embed="rId6"/>
          <a:stretch/>
        </p:blipFill>
        <p:spPr>
          <a:xfrm>
            <a:off x="2300400" y="3608280"/>
            <a:ext cx="1766880" cy="397080"/>
          </a:xfrm>
          <a:prstGeom prst="rect">
            <a:avLst/>
          </a:prstGeom>
          <a:ln w="0">
            <a:noFill/>
          </a:ln>
        </p:spPr>
      </p:pic>
      <p:sp>
        <p:nvSpPr>
          <p:cNvPr id="717" name="Прямая соединительная линия 20"/>
          <p:cNvSpPr/>
          <p:nvPr/>
        </p:nvSpPr>
        <p:spPr>
          <a:xfrm flipV="1">
            <a:off x="3851280" y="3860280"/>
            <a:ext cx="0" cy="100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18" name="Picture 49" descr="DGS-1024D"/>
          <p:cNvPicPr/>
          <p:nvPr/>
        </p:nvPicPr>
        <p:blipFill>
          <a:blip r:embed="rId7"/>
          <a:srcRect l="0" t="24321" r="0" b="24423"/>
          <a:stretch/>
        </p:blipFill>
        <p:spPr>
          <a:xfrm>
            <a:off x="3166920" y="4653000"/>
            <a:ext cx="1405080" cy="7207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11"/>
          <p:cNvSpPr/>
          <p:nvPr/>
        </p:nvSpPr>
        <p:spPr>
          <a:xfrm>
            <a:off x="4375440" y="5964120"/>
            <a:ext cx="30096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20" name="Rectangle 17"/>
          <p:cNvSpPr/>
          <p:nvPr/>
        </p:nvSpPr>
        <p:spPr>
          <a:xfrm>
            <a:off x="108000" y="2060640"/>
            <a:ext cx="230328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P 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1.2)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BSR 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 192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68.10.1)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1692360" y="4775040"/>
            <a:ext cx="15112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с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ag 555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722" name="Прямая со стрелкой 25"/>
          <p:cNvCxnSpPr/>
          <p:nvPr/>
        </p:nvCxnSpPr>
        <p:spPr>
          <a:xfrm flipV="1">
            <a:off x="4064400" y="3861720"/>
            <a:ext cx="2520" cy="864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723" name="Rectangle 12"/>
          <p:cNvSpPr/>
          <p:nvPr/>
        </p:nvSpPr>
        <p:spPr>
          <a:xfrm>
            <a:off x="4094280" y="4149720"/>
            <a:ext cx="13377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GMP Join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eav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724" name="Прямая со стрелкой 27"/>
          <p:cNvCxnSpPr/>
          <p:nvPr/>
        </p:nvCxnSpPr>
        <p:spPr>
          <a:xfrm flipH="1">
            <a:off x="3634560" y="3933720"/>
            <a:ext cx="2520" cy="791280"/>
          </a:xfrm>
          <a:prstGeom prst="straightConnector1">
            <a:avLst/>
          </a:prstGeom>
          <a:ln w="12600">
            <a:solidFill>
              <a:srgbClr val="ffc000"/>
            </a:solidFill>
            <a:miter/>
            <a:tailEnd len="med" type="triangle" w="med"/>
          </a:ln>
        </p:spPr>
      </p:cxnSp>
      <p:sp>
        <p:nvSpPr>
          <p:cNvPr id="725" name="Rectangle 12"/>
          <p:cNvSpPr/>
          <p:nvPr/>
        </p:nvSpPr>
        <p:spPr>
          <a:xfrm>
            <a:off x="2619720" y="4149720"/>
            <a:ext cx="10389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IGMP Query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726" name="Прямая со стрелкой 29"/>
          <p:cNvCxnSpPr/>
          <p:nvPr/>
        </p:nvCxnSpPr>
        <p:spPr>
          <a:xfrm flipV="1">
            <a:off x="3851280" y="2925000"/>
            <a:ext cx="2160" cy="648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727" name="Rectangle 12"/>
          <p:cNvSpPr/>
          <p:nvPr/>
        </p:nvSpPr>
        <p:spPr>
          <a:xfrm>
            <a:off x="3846240" y="3141720"/>
            <a:ext cx="12434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 Join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Prun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728" name="Прямая со стрелкой 33"/>
          <p:cNvCxnSpPr/>
          <p:nvPr/>
        </p:nvCxnSpPr>
        <p:spPr>
          <a:xfrm flipH="1">
            <a:off x="3491640" y="2997360"/>
            <a:ext cx="2520" cy="576360"/>
          </a:xfrm>
          <a:prstGeom prst="straightConnector1">
            <a:avLst/>
          </a:prstGeom>
          <a:ln w="1260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729" name="Rectangle 12"/>
          <p:cNvSpPr/>
          <p:nvPr/>
        </p:nvSpPr>
        <p:spPr>
          <a:xfrm>
            <a:off x="2190240" y="3141720"/>
            <a:ext cx="13377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BSR </a:t>
            </a:r>
            <a:r>
              <a:rPr b="0" lang="ru-RU" sz="12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сообщения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30" name="Rectangle 17"/>
          <p:cNvSpPr/>
          <p:nvPr/>
        </p:nvSpPr>
        <p:spPr>
          <a:xfrm>
            <a:off x="468360" y="3645000"/>
            <a:ext cx="187164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signated Route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31" name="Rectangle 17"/>
          <p:cNvSpPr/>
          <p:nvPr/>
        </p:nvSpPr>
        <p:spPr>
          <a:xfrm>
            <a:off x="5724360" y="1469880"/>
            <a:ext cx="33116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ме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0.1.1.1/30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 веща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з подсети 239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0.10.0/24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интерфейс коммутатор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аршрутизацию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, который приходит на 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s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1.2)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s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аиваем в качеств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(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Candidate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ndezvous Points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tv-1</a:t>
            </a:r>
            <a:r>
              <a:rPr b="0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аиваем в качеств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(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Candidate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otstrap Router)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также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аршрутизацию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е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ах)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ля подключения оконечных клиентов 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-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ссылке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3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Dynam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3" name="Rectangle 7"/>
          <p:cNvSpPr/>
          <p:nvPr/>
        </p:nvSpPr>
        <p:spPr>
          <a:xfrm>
            <a:off x="250920" y="1268280"/>
            <a:ext cx="4249800" cy="458820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default delete 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streamers tag 200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streamers add untagged 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ptv-1 tag 300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ptv-1 add tagged 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ptv-1 10.1.1.2/30 iptv-1 state enable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streamers 192.168.0.1/24 streamers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route 192.168.1.0/255.255.255.0 192.168.10.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streamers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ptv-1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iptv-1 version 2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streamers version 2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ptv-1 state enable mod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streamers state enable mod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bsr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ptv-1 priority 10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 crp 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group 23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9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.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.0/24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p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streamers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4572000" y="1268280"/>
            <a:ext cx="4392720" cy="405252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default delete 2-24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sm-1 tag 555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sm-1 add untagged 2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ptv-1 tag 300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ptv-1 add tagged 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sm-1 192.168.1.1/24 ism-1 state enable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ptv-1 192.168.10.2/30 iptv-1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route 192.168.0.0/255.255.255.0 192.168.10.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sm-1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ptv-1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ism-1 version 2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iptv-1 version 2 state enabl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sm-1 state enable mod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iptv-1 state enable mode 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735" name="Rectangle 31"/>
          <p:cNvGrpSpPr/>
          <p:nvPr/>
        </p:nvGrpSpPr>
        <p:grpSpPr>
          <a:xfrm>
            <a:off x="1384200" y="6145200"/>
            <a:ext cx="6369120" cy="517680"/>
            <a:chOff x="1384200" y="6145200"/>
            <a:chExt cx="6369120" cy="517680"/>
          </a:xfrm>
        </p:grpSpPr>
        <p:pic>
          <p:nvPicPr>
            <p:cNvPr id="736" name="Rectangle 31" descr=""/>
            <p:cNvPicPr/>
            <p:nvPr/>
          </p:nvPicPr>
          <p:blipFill>
            <a:blip r:embed="rId1"/>
            <a:stretch/>
          </p:blipFill>
          <p:spPr>
            <a:xfrm>
              <a:off x="1384200" y="6145200"/>
              <a:ext cx="636912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1405080" y="6165720"/>
              <a:ext cx="63356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Внимание: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Убедитесь, что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TTL Multicast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пакетов минимум равен кол-ву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op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-ов + 1. 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3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 c Dynamic RP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39" name="Рисунок 2" descr="pim_crp.png"/>
          <p:cNvPicPr/>
          <p:nvPr/>
        </p:nvPicPr>
        <p:blipFill>
          <a:blip r:embed="rId1"/>
          <a:stretch/>
        </p:blipFill>
        <p:spPr>
          <a:xfrm>
            <a:off x="1692360" y="1413000"/>
            <a:ext cx="6637320" cy="2592360"/>
          </a:xfrm>
          <a:prstGeom prst="rect">
            <a:avLst/>
          </a:prstGeom>
          <a:ln w="12600">
            <a:solidFill>
              <a:srgbClr val="0070c0"/>
            </a:solidFill>
            <a:prstDash val="dash"/>
            <a:miter/>
          </a:ln>
        </p:spPr>
      </p:pic>
      <p:pic>
        <p:nvPicPr>
          <p:cNvPr id="740" name="Рисунок 3" descr="pim_crp2.png"/>
          <p:cNvPicPr/>
          <p:nvPr/>
        </p:nvPicPr>
        <p:blipFill>
          <a:blip r:embed="rId2"/>
          <a:stretch/>
        </p:blipFill>
        <p:spPr>
          <a:xfrm>
            <a:off x="1677960" y="4149720"/>
            <a:ext cx="6639120" cy="2592360"/>
          </a:xfrm>
          <a:prstGeom prst="rect">
            <a:avLst/>
          </a:prstGeom>
          <a:ln w="12600">
            <a:solidFill>
              <a:srgbClr val="0070c0"/>
            </a:solidFill>
            <a:prstDash val="dash"/>
            <a:miter/>
          </a:ln>
        </p:spPr>
      </p:pic>
      <p:sp>
        <p:nvSpPr>
          <p:cNvPr id="741" name="Rectangle 17"/>
          <p:cNvSpPr/>
          <p:nvPr/>
        </p:nvSpPr>
        <p:spPr>
          <a:xfrm>
            <a:off x="250920" y="1413000"/>
            <a:ext cx="1404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42" name="Rectangle 17"/>
          <p:cNvSpPr/>
          <p:nvPr/>
        </p:nvSpPr>
        <p:spPr>
          <a:xfrm>
            <a:off x="250920" y="4100400"/>
            <a:ext cx="1404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43" name="Rectangle 17"/>
          <p:cNvSpPr/>
          <p:nvPr/>
        </p:nvSpPr>
        <p:spPr>
          <a:xfrm>
            <a:off x="250920" y="907920"/>
            <a:ext cx="835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яем какой интерфейс после выборов стал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а какой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Line 6"/>
          <p:cNvSpPr/>
          <p:nvPr/>
        </p:nvSpPr>
        <p:spPr>
          <a:xfrm flipH="1">
            <a:off x="2268360" y="2205000"/>
            <a:ext cx="935280" cy="158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45" name="Line 6"/>
          <p:cNvSpPr/>
          <p:nvPr/>
        </p:nvSpPr>
        <p:spPr>
          <a:xfrm>
            <a:off x="3132000" y="2205000"/>
            <a:ext cx="1224000" cy="13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4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 Резервирование в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7" name="Прямая соединительная линия 3"/>
          <p:cNvSpPr/>
          <p:nvPr/>
        </p:nvSpPr>
        <p:spPr>
          <a:xfrm flipH="1">
            <a:off x="2700360" y="522936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48" name="Прямая соединительная линия 4"/>
          <p:cNvSpPr/>
          <p:nvPr/>
        </p:nvSpPr>
        <p:spPr>
          <a:xfrm flipH="1">
            <a:off x="3492000" y="5157720"/>
            <a:ext cx="71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49" name="Прямая соединительная линия 5"/>
          <p:cNvSpPr/>
          <p:nvPr/>
        </p:nvSpPr>
        <p:spPr>
          <a:xfrm>
            <a:off x="3852720" y="5084640"/>
            <a:ext cx="6480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50" name="Line 6"/>
          <p:cNvSpPr/>
          <p:nvPr/>
        </p:nvSpPr>
        <p:spPr>
          <a:xfrm flipH="1">
            <a:off x="3419280" y="3645000"/>
            <a:ext cx="936360" cy="115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51" name="Line 6"/>
          <p:cNvSpPr/>
          <p:nvPr/>
        </p:nvSpPr>
        <p:spPr>
          <a:xfrm>
            <a:off x="3132000" y="1413000"/>
            <a:ext cx="0" cy="69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52" name="Rectangle 7"/>
          <p:cNvSpPr/>
          <p:nvPr/>
        </p:nvSpPr>
        <p:spPr>
          <a:xfrm>
            <a:off x="3575160" y="1247760"/>
            <a:ext cx="13572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0.1.1.1/30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53" name="Picture 15" descr="C:\Users\06075\Desktop\Icons for Topology\Computer 01.jpg"/>
          <p:cNvPicPr/>
          <p:nvPr/>
        </p:nvPicPr>
        <p:blipFill>
          <a:blip r:embed="rId1"/>
          <a:stretch/>
        </p:blipFill>
        <p:spPr>
          <a:xfrm>
            <a:off x="2771640" y="907920"/>
            <a:ext cx="603360" cy="822600"/>
          </a:xfrm>
          <a:prstGeom prst="rect">
            <a:avLst/>
          </a:prstGeom>
          <a:ln w="0">
            <a:noFill/>
          </a:ln>
        </p:spPr>
      </p:pic>
      <p:sp>
        <p:nvSpPr>
          <p:cNvPr id="754" name="Rectangle 17"/>
          <p:cNvSpPr/>
          <p:nvPr/>
        </p:nvSpPr>
        <p:spPr>
          <a:xfrm>
            <a:off x="108000" y="3429000"/>
            <a:ext cx="1297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55" name="Rectangle 17"/>
          <p:cNvSpPr/>
          <p:nvPr/>
        </p:nvSpPr>
        <p:spPr>
          <a:xfrm>
            <a:off x="4356000" y="3860640"/>
            <a:ext cx="1297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56" name="Picture 14" descr="C:\Users\06075\Desktop\Icons for Topology\Computer 02.jpg"/>
          <p:cNvPicPr/>
          <p:nvPr/>
        </p:nvPicPr>
        <p:blipFill>
          <a:blip r:embed="rId2"/>
          <a:stretch/>
        </p:blipFill>
        <p:spPr>
          <a:xfrm>
            <a:off x="2484360" y="5877000"/>
            <a:ext cx="571680" cy="4824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3281400" y="5877000"/>
            <a:ext cx="571320" cy="4824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14" descr="C:\Users\06075\Desktop\Icons for Topology\Computer 02.jpg"/>
          <p:cNvPicPr/>
          <p:nvPr/>
        </p:nvPicPr>
        <p:blipFill>
          <a:blip r:embed="rId4"/>
          <a:stretch/>
        </p:blipFill>
        <p:spPr>
          <a:xfrm>
            <a:off x="4289400" y="5877000"/>
            <a:ext cx="571680" cy="482400"/>
          </a:xfrm>
          <a:prstGeom prst="rect">
            <a:avLst/>
          </a:prstGeom>
          <a:ln w="0">
            <a:noFill/>
          </a:ln>
        </p:spPr>
      </p:pic>
      <p:sp>
        <p:nvSpPr>
          <p:cNvPr id="759" name="Rectangle 12"/>
          <p:cNvSpPr/>
          <p:nvPr/>
        </p:nvSpPr>
        <p:spPr>
          <a:xfrm>
            <a:off x="2325960" y="6405480"/>
            <a:ext cx="828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60" name="Rectangle 12"/>
          <p:cNvSpPr/>
          <p:nvPr/>
        </p:nvSpPr>
        <p:spPr>
          <a:xfrm>
            <a:off x="3117960" y="6405480"/>
            <a:ext cx="828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61" name="Rectangle 12"/>
          <p:cNvSpPr/>
          <p:nvPr/>
        </p:nvSpPr>
        <p:spPr>
          <a:xfrm>
            <a:off x="4114440" y="6381720"/>
            <a:ext cx="8362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62" name="Picture 45" descr="des-3828"/>
          <p:cNvPicPr/>
          <p:nvPr/>
        </p:nvPicPr>
        <p:blipFill>
          <a:blip r:embed="rId5"/>
          <a:stretch/>
        </p:blipFill>
        <p:spPr>
          <a:xfrm>
            <a:off x="3668760" y="3429000"/>
            <a:ext cx="1766880" cy="396720"/>
          </a:xfrm>
          <a:prstGeom prst="rect">
            <a:avLst/>
          </a:prstGeom>
          <a:ln w="0">
            <a:noFill/>
          </a:ln>
        </p:spPr>
      </p:pic>
      <p:sp>
        <p:nvSpPr>
          <p:cNvPr id="763" name="Прямая соединительная линия 20"/>
          <p:cNvSpPr/>
          <p:nvPr/>
        </p:nvSpPr>
        <p:spPr>
          <a:xfrm flipH="1" flipV="1">
            <a:off x="2410920" y="3645000"/>
            <a:ext cx="863640" cy="12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64" name="Rectangle 11"/>
          <p:cNvSpPr/>
          <p:nvPr/>
        </p:nvSpPr>
        <p:spPr>
          <a:xfrm>
            <a:off x="3943800" y="5964120"/>
            <a:ext cx="30096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65" name="Rectangle 7"/>
          <p:cNvSpPr/>
          <p:nvPr/>
        </p:nvSpPr>
        <p:spPr>
          <a:xfrm>
            <a:off x="1260360" y="4775040"/>
            <a:ext cx="15112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с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ag 555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766" name="Прямая со стрелкой 25"/>
          <p:cNvCxnSpPr/>
          <p:nvPr/>
        </p:nvCxnSpPr>
        <p:spPr>
          <a:xfrm flipV="1">
            <a:off x="3707280" y="4004640"/>
            <a:ext cx="577080" cy="648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767" name="Rectangle 12"/>
          <p:cNvSpPr/>
          <p:nvPr/>
        </p:nvSpPr>
        <p:spPr>
          <a:xfrm>
            <a:off x="4070520" y="4292640"/>
            <a:ext cx="13377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GMP Join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eav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768" name="Прямая со стрелкой 27"/>
          <p:cNvCxnSpPr/>
          <p:nvPr/>
        </p:nvCxnSpPr>
        <p:spPr>
          <a:xfrm>
            <a:off x="2268360" y="3933720"/>
            <a:ext cx="502560" cy="720000"/>
          </a:xfrm>
          <a:prstGeom prst="straightConnector1">
            <a:avLst/>
          </a:prstGeom>
          <a:ln w="12600">
            <a:solidFill>
              <a:srgbClr val="ffc000"/>
            </a:solidFill>
            <a:miter/>
            <a:tailEnd len="med" type="triangle" w="med"/>
          </a:ln>
        </p:spPr>
      </p:cxnSp>
      <p:sp>
        <p:nvSpPr>
          <p:cNvPr id="769" name="Rectangle 12"/>
          <p:cNvSpPr/>
          <p:nvPr/>
        </p:nvSpPr>
        <p:spPr>
          <a:xfrm>
            <a:off x="1180080" y="4029120"/>
            <a:ext cx="10389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IGMP Query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70" name="Rectangle 12"/>
          <p:cNvSpPr/>
          <p:nvPr/>
        </p:nvSpPr>
        <p:spPr>
          <a:xfrm>
            <a:off x="1445760" y="3141720"/>
            <a:ext cx="8164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C-RP (RP)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771" name="Прямая со стрелкой 33"/>
          <p:cNvCxnSpPr/>
          <p:nvPr/>
        </p:nvCxnSpPr>
        <p:spPr>
          <a:xfrm flipH="1" flipV="1">
            <a:off x="3634920" y="2564640"/>
            <a:ext cx="721440" cy="793080"/>
          </a:xfrm>
          <a:prstGeom prst="straightConnector1">
            <a:avLst/>
          </a:prstGeom>
          <a:ln w="1260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772" name="Rectangle 12"/>
          <p:cNvSpPr/>
          <p:nvPr/>
        </p:nvSpPr>
        <p:spPr>
          <a:xfrm>
            <a:off x="3990600" y="2733840"/>
            <a:ext cx="13377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BSR </a:t>
            </a:r>
            <a:r>
              <a:rPr b="0" lang="ru-RU" sz="12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сообщения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73" name="Picture 49" descr="DGS-1024D"/>
          <p:cNvPicPr/>
          <p:nvPr/>
        </p:nvPicPr>
        <p:blipFill>
          <a:blip r:embed="rId6"/>
          <a:srcRect l="0" t="24328" r="0" b="24414"/>
          <a:stretch/>
        </p:blipFill>
        <p:spPr>
          <a:xfrm>
            <a:off x="2556000" y="1916280"/>
            <a:ext cx="1260360" cy="64764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45" descr="des-3828"/>
          <p:cNvPicPr/>
          <p:nvPr/>
        </p:nvPicPr>
        <p:blipFill>
          <a:blip r:embed="rId7"/>
          <a:stretch/>
        </p:blipFill>
        <p:spPr>
          <a:xfrm>
            <a:off x="1476360" y="3429000"/>
            <a:ext cx="1766880" cy="395280"/>
          </a:xfrm>
          <a:prstGeom prst="rect">
            <a:avLst/>
          </a:prstGeom>
          <a:ln w="0">
            <a:noFill/>
          </a:ln>
        </p:spPr>
      </p:pic>
      <p:cxnSp>
        <p:nvCxnSpPr>
          <p:cNvPr id="775" name="Прямая со стрелкой 33"/>
          <p:cNvCxnSpPr/>
          <p:nvPr/>
        </p:nvCxnSpPr>
        <p:spPr>
          <a:xfrm flipV="1">
            <a:off x="2340000" y="2564640"/>
            <a:ext cx="504000" cy="793080"/>
          </a:xfrm>
          <a:prstGeom prst="straightConnector1">
            <a:avLst/>
          </a:prstGeom>
          <a:ln w="1260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776" name="Rectangle 12"/>
          <p:cNvSpPr/>
          <p:nvPr/>
        </p:nvSpPr>
        <p:spPr>
          <a:xfrm>
            <a:off x="1253520" y="2733840"/>
            <a:ext cx="13377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BSR </a:t>
            </a:r>
            <a:r>
              <a:rPr b="0" lang="ru-RU" sz="12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сообщения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777" name="Прямая со стрелкой 25"/>
          <p:cNvCxnSpPr/>
          <p:nvPr/>
        </p:nvCxnSpPr>
        <p:spPr>
          <a:xfrm flipH="1" flipV="1">
            <a:off x="2410560" y="3933360"/>
            <a:ext cx="505800" cy="72000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778" name="Rectangle 12"/>
          <p:cNvSpPr/>
          <p:nvPr/>
        </p:nvSpPr>
        <p:spPr>
          <a:xfrm>
            <a:off x="1190880" y="4292640"/>
            <a:ext cx="13377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GMP Join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eave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79" name="Rectangle 12"/>
          <p:cNvSpPr/>
          <p:nvPr/>
        </p:nvSpPr>
        <p:spPr>
          <a:xfrm>
            <a:off x="4411800" y="3141720"/>
            <a:ext cx="4978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C-RP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80" name="Rectangle 12"/>
          <p:cNvSpPr/>
          <p:nvPr/>
        </p:nvSpPr>
        <p:spPr>
          <a:xfrm>
            <a:off x="1843920" y="3860640"/>
            <a:ext cx="3715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DR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81" name="Rectangle 7"/>
          <p:cNvSpPr/>
          <p:nvPr/>
        </p:nvSpPr>
        <p:spPr>
          <a:xfrm>
            <a:off x="3780000" y="2060640"/>
            <a:ext cx="151128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82" name="Rectangle 17"/>
          <p:cNvSpPr/>
          <p:nvPr/>
        </p:nvSpPr>
        <p:spPr>
          <a:xfrm>
            <a:off x="5724360" y="1052640"/>
            <a:ext cx="3311640" cy="60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ме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0.1.1.1/30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 веща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з подсети 239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0.10.0/24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интерфейсы коммутатор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аршрутизацию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, который приходит на 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s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_1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1.2)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s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_1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аиваем в качеств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(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Candidate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ndezvous Points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(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Candidate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otstrap Router)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с наибольшим приоритетом, чтобы после выборов он стал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.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_1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меет наибольший приоритет, чтобы он стал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 S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аршрутизацию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, который приходит на 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s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_2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0.1.1.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s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_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аиваем в качеств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(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Candidate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ndezvous Points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(</a:t>
            </a: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Candidate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otstrap Route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е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ах) настраивае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 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ля подключения оконечных клиентов 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-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ссылке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83" name="Picture 49" descr="DGS-1024D"/>
          <p:cNvPicPr/>
          <p:nvPr/>
        </p:nvPicPr>
        <p:blipFill>
          <a:blip r:embed="rId8"/>
          <a:srcRect l="0" t="24321" r="0" b="24423"/>
          <a:stretch/>
        </p:blipFill>
        <p:spPr>
          <a:xfrm>
            <a:off x="2735280" y="4653000"/>
            <a:ext cx="14050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 PIM SM</a:t>
            </a:r>
            <a:br>
              <a:rPr sz="2200"/>
            </a:b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4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 Резервирование в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PIM SM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5" name="Rectangle 7"/>
          <p:cNvSpPr/>
          <p:nvPr/>
        </p:nvSpPr>
        <p:spPr>
          <a:xfrm>
            <a:off x="250920" y="1268280"/>
            <a:ext cx="4249800" cy="390636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default delete 1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streamer_1 tag 2001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streamer_1add untagged 1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sm_1 tag 555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sm_1 add tagged 2</a:t>
            </a:r>
            <a:r>
              <a:rPr b="0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-24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streamer_1 10.1.1.2/24 streamer _1 state enable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 ism_1 10.1.2.1/24 ism_1 state enable 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streamer_1 state enable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sm_1 state enable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 ism_1 version 2 state enable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 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p priority 1 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 ism_1 state enable mode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 dr_priority 1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streamer_1 state enable mode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bsr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 streamer_1 priority 1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 crp 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group 23</a:t>
            </a:r>
            <a:r>
              <a:rPr b="0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9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r>
              <a:rPr b="0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.</a:t>
            </a:r>
            <a:r>
              <a:rPr b="0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.0/24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p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streamer1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4572000" y="1268280"/>
            <a:ext cx="4392720" cy="3906360"/>
          </a:xfrm>
          <a:prstGeom prst="rect">
            <a:avLst/>
          </a:prstGeom>
          <a:noFill/>
          <a:ln w="64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default delete 1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streamer_2 tag 2001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streamer_2 add untagged 1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vlan ism_2 tag 555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vlan ism_2 add tagged 2</a:t>
            </a:r>
            <a:r>
              <a:rPr b="0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-24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streamer_2 10.1.1.3/24 streamer_2 state enable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ipif ism_2 10.1.2.2/24 ism_2 state enable 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igmp_snooping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streamer_2 state enable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vlan ism_2 state enable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ipif  ism_2 version 2 state enable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 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p priority 10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 ism_2 state enable mode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 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dr_priority 10 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ipif  streamer_2 state enable mode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m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im crp 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group 23</a:t>
            </a:r>
            <a:r>
              <a:rPr b="0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9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r>
              <a:rPr b="0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.</a:t>
            </a:r>
            <a:r>
              <a:rPr b="0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.0/24 </a:t>
            </a:r>
            <a:r>
              <a:rPr b="1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p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streamer2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87" name="Rectangle 7"/>
          <p:cNvSpPr/>
          <p:nvPr/>
        </p:nvSpPr>
        <p:spPr>
          <a:xfrm>
            <a:off x="826920" y="5300640"/>
            <a:ext cx="77058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сле того, как 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_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на коммутаторе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удет выбран в качеств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он же будет выбран в качеств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а 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_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стан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клиенты смогут подписываться н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ссылку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коммутатор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ыйдет из строя по каким-либо причинам, произойдут перевыборы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S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P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Данные роли примет на себя интерфейс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_2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 коммутаторе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№2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а интерфейс 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m_2</a:t>
            </a:r>
            <a:r>
              <a:rPr b="1" i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ан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9" name="Rectangle 3"/>
          <p:cNvSpPr/>
          <p:nvPr/>
        </p:nvSpPr>
        <p:spPr>
          <a:xfrm>
            <a:off x="1219320" y="1676520"/>
            <a:ext cx="67374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для передачи 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трафика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99ccff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Fast Leave 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lter unregistered group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 Port Multicast Stream Control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Multicast VLAN (D-Link ISM VLAN)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IGMP Access Authentication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130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Line 94"/>
          <p:cNvSpPr/>
          <p:nvPr/>
        </p:nvSpPr>
        <p:spPr>
          <a:xfrm>
            <a:off x="4991040" y="2522520"/>
            <a:ext cx="0" cy="108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91" name="Line 14"/>
          <p:cNvSpPr/>
          <p:nvPr/>
        </p:nvSpPr>
        <p:spPr>
          <a:xfrm flipH="1">
            <a:off x="4714560" y="3765600"/>
            <a:ext cx="4680" cy="102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</a:rPr>
              <a:t>IGMP Access Authenticatio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3" name="Line 94"/>
          <p:cNvSpPr/>
          <p:nvPr/>
        </p:nvSpPr>
        <p:spPr>
          <a:xfrm>
            <a:off x="3938760" y="2492280"/>
            <a:ext cx="0" cy="108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94" name="Line 116"/>
          <p:cNvSpPr/>
          <p:nvPr/>
        </p:nvSpPr>
        <p:spPr>
          <a:xfrm flipV="1">
            <a:off x="5148360" y="4868640"/>
            <a:ext cx="0" cy="86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795" name="Line 145"/>
          <p:cNvSpPr/>
          <p:nvPr/>
        </p:nvSpPr>
        <p:spPr>
          <a:xfrm flipV="1">
            <a:off x="4489560" y="5013360"/>
            <a:ext cx="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796" name="Picture 15" descr="C:\Users\06075\Desktop\Icons for Topology\Computer 01.jpg"/>
          <p:cNvPicPr/>
          <p:nvPr/>
        </p:nvPicPr>
        <p:blipFill>
          <a:blip r:embed="rId1"/>
          <a:stretch/>
        </p:blipFill>
        <p:spPr>
          <a:xfrm>
            <a:off x="3564000" y="1886040"/>
            <a:ext cx="603360" cy="82224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4" descr="C:\Users\06075\Desktop\Icons for Topology\Computer 02.jpg"/>
          <p:cNvPicPr/>
          <p:nvPr/>
        </p:nvPicPr>
        <p:blipFill>
          <a:blip r:embed="rId2"/>
          <a:stretch/>
        </p:blipFill>
        <p:spPr>
          <a:xfrm>
            <a:off x="4210200" y="5643720"/>
            <a:ext cx="571320" cy="4824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5003640" y="5661000"/>
            <a:ext cx="571680" cy="48276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47" descr="DGS-3100-48"/>
          <p:cNvPicPr/>
          <p:nvPr/>
        </p:nvPicPr>
        <p:blipFill>
          <a:blip r:embed="rId4"/>
          <a:srcRect l="0" t="28269" r="0" b="28355"/>
          <a:stretch/>
        </p:blipFill>
        <p:spPr>
          <a:xfrm>
            <a:off x="3498840" y="3295800"/>
            <a:ext cx="2095560" cy="90792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48" descr="DGS-1024D"/>
          <p:cNvPicPr/>
          <p:nvPr/>
        </p:nvPicPr>
        <p:blipFill>
          <a:blip r:embed="rId5"/>
          <a:srcRect l="0" t="24333" r="0" b="24413"/>
          <a:stretch/>
        </p:blipFill>
        <p:spPr>
          <a:xfrm>
            <a:off x="3651120" y="4365720"/>
            <a:ext cx="1808280" cy="927000"/>
          </a:xfrm>
          <a:prstGeom prst="rect">
            <a:avLst/>
          </a:prstGeom>
          <a:ln w="0">
            <a:noFill/>
          </a:ln>
        </p:spPr>
      </p:pic>
      <p:sp>
        <p:nvSpPr>
          <p:cNvPr id="801" name="Rectangle 7"/>
          <p:cNvSpPr/>
          <p:nvPr/>
        </p:nvSpPr>
        <p:spPr>
          <a:xfrm>
            <a:off x="2411280" y="2133720"/>
            <a:ext cx="135756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02" name="Rectangle 11"/>
          <p:cNvSpPr/>
          <p:nvPr/>
        </p:nvSpPr>
        <p:spPr>
          <a:xfrm>
            <a:off x="5564160" y="5805360"/>
            <a:ext cx="4795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03" name="Rectangle 16"/>
          <p:cNvSpPr/>
          <p:nvPr/>
        </p:nvSpPr>
        <p:spPr>
          <a:xfrm>
            <a:off x="3778200" y="5805360"/>
            <a:ext cx="47340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04" name="Rectangle 17"/>
          <p:cNvSpPr/>
          <p:nvPr/>
        </p:nvSpPr>
        <p:spPr>
          <a:xfrm>
            <a:off x="5508720" y="3500280"/>
            <a:ext cx="12952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er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05" name="Rectangle 28"/>
          <p:cNvSpPr/>
          <p:nvPr/>
        </p:nvSpPr>
        <p:spPr>
          <a:xfrm>
            <a:off x="2411280" y="4653000"/>
            <a:ext cx="12798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806" name="Picture 15" descr="C:\Users\06075\Desktop\Icons for Topology\Computer 01.jpg"/>
          <p:cNvPicPr/>
          <p:nvPr/>
        </p:nvPicPr>
        <p:blipFill>
          <a:blip r:embed="rId6"/>
          <a:stretch/>
        </p:blipFill>
        <p:spPr>
          <a:xfrm>
            <a:off x="4616280" y="1916280"/>
            <a:ext cx="603360" cy="822240"/>
          </a:xfrm>
          <a:prstGeom prst="rect">
            <a:avLst/>
          </a:prstGeom>
          <a:ln w="0">
            <a:noFill/>
          </a:ln>
        </p:spPr>
      </p:pic>
      <p:sp>
        <p:nvSpPr>
          <p:cNvPr id="807" name="Rectangle 7"/>
          <p:cNvSpPr/>
          <p:nvPr/>
        </p:nvSpPr>
        <p:spPr>
          <a:xfrm>
            <a:off x="5232240" y="2163600"/>
            <a:ext cx="135576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DIUS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cxnSp>
        <p:nvCxnSpPr>
          <p:cNvPr id="808" name="Прямая со стрелкой 30"/>
          <p:cNvCxnSpPr/>
          <p:nvPr/>
        </p:nvCxnSpPr>
        <p:spPr>
          <a:xfrm flipV="1">
            <a:off x="5145480" y="2781000"/>
            <a:ext cx="2520" cy="505440"/>
          </a:xfrm>
          <a:prstGeom prst="straightConnector1">
            <a:avLst/>
          </a:prstGeom>
          <a:ln w="1260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809" name="Прямая со стрелкой 35"/>
          <p:cNvCxnSpPr/>
          <p:nvPr/>
        </p:nvCxnSpPr>
        <p:spPr>
          <a:xfrm flipH="1">
            <a:off x="4857480" y="3933360"/>
            <a:ext cx="2160" cy="505800"/>
          </a:xfrm>
          <a:prstGeom prst="straightConnector1">
            <a:avLst/>
          </a:prstGeom>
          <a:ln w="1260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810" name="Прямая со стрелкой 42"/>
          <p:cNvCxnSpPr/>
          <p:nvPr/>
        </p:nvCxnSpPr>
        <p:spPr>
          <a:xfrm flipH="1">
            <a:off x="4571640" y="4005360"/>
            <a:ext cx="2160" cy="5054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811" name="Группа 42"/>
          <p:cNvGrpSpPr/>
          <p:nvPr/>
        </p:nvGrpSpPr>
        <p:grpSpPr>
          <a:xfrm>
            <a:off x="5219640" y="5012640"/>
            <a:ext cx="3816360" cy="1381680"/>
            <a:chOff x="5219640" y="5012640"/>
            <a:chExt cx="3816360" cy="1381680"/>
          </a:xfrm>
        </p:grpSpPr>
        <p:cxnSp>
          <p:nvCxnSpPr>
            <p:cNvPr id="812" name="Прямая со стрелкой 24"/>
            <p:cNvCxnSpPr/>
            <p:nvPr/>
          </p:nvCxnSpPr>
          <p:spPr>
            <a:xfrm flipV="1">
              <a:off x="5219640" y="5012640"/>
              <a:ext cx="2160" cy="577080"/>
            </a:xfrm>
            <a:prstGeom prst="straightConnector1">
              <a:avLst/>
            </a:prstGeom>
            <a:ln w="12600">
              <a:solidFill>
                <a:srgbClr val="0070c0"/>
              </a:solidFill>
              <a:miter/>
              <a:tailEnd len="med" type="triangle" w="med"/>
            </a:ln>
          </p:spPr>
        </p:cxnSp>
        <p:sp>
          <p:nvSpPr>
            <p:cNvPr id="813" name="Rectangle 11"/>
            <p:cNvSpPr/>
            <p:nvPr/>
          </p:nvSpPr>
          <p:spPr>
            <a:xfrm>
              <a:off x="5292000" y="5157720"/>
              <a:ext cx="93492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IGMP Join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814" name="Овал 45"/>
            <p:cNvSpPr/>
            <p:nvPr/>
          </p:nvSpPr>
          <p:spPr>
            <a:xfrm>
              <a:off x="6156000" y="5445000"/>
              <a:ext cx="28728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815" name="Rectangle 11"/>
            <p:cNvSpPr/>
            <p:nvPr/>
          </p:nvSpPr>
          <p:spPr>
            <a:xfrm>
              <a:off x="6443280" y="5229000"/>
              <a:ext cx="259272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Пользователь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пытается присоединиться к многоадресной группе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или переключиться на другой </a:t>
              </a: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TV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-канал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grpSp>
        <p:nvGrpSpPr>
          <p:cNvPr id="816" name="Группа 43"/>
          <p:cNvGrpSpPr/>
          <p:nvPr/>
        </p:nvGrpSpPr>
        <p:grpSpPr>
          <a:xfrm>
            <a:off x="4930920" y="3475080"/>
            <a:ext cx="4176720" cy="1343880"/>
            <a:chOff x="4930920" y="3475080"/>
            <a:chExt cx="4176720" cy="1343880"/>
          </a:xfrm>
        </p:grpSpPr>
        <p:cxnSp>
          <p:nvCxnSpPr>
            <p:cNvPr id="817" name="Прямая со стрелкой 27"/>
            <p:cNvCxnSpPr/>
            <p:nvPr/>
          </p:nvCxnSpPr>
          <p:spPr>
            <a:xfrm flipV="1">
              <a:off x="4930920" y="3933360"/>
              <a:ext cx="2160" cy="505440"/>
            </a:xfrm>
            <a:prstGeom prst="straightConnector1">
              <a:avLst/>
            </a:prstGeom>
            <a:ln w="12600">
              <a:solidFill>
                <a:srgbClr val="92d050"/>
              </a:solidFill>
              <a:miter/>
              <a:tailEnd len="med" type="triangle" w="med"/>
            </a:ln>
          </p:spPr>
        </p:cxnSp>
        <p:sp>
          <p:nvSpPr>
            <p:cNvPr id="818" name="Rectangle 11"/>
            <p:cNvSpPr/>
            <p:nvPr/>
          </p:nvSpPr>
          <p:spPr>
            <a:xfrm>
              <a:off x="5004000" y="3983040"/>
              <a:ext cx="194436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Radius 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Access-Request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819" name="Овал 47"/>
            <p:cNvSpPr/>
            <p:nvPr/>
          </p:nvSpPr>
          <p:spPr>
            <a:xfrm>
              <a:off x="6228000" y="378936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820" name="Rectangle 11"/>
            <p:cNvSpPr/>
            <p:nvPr/>
          </p:nvSpPr>
          <p:spPr>
            <a:xfrm>
              <a:off x="6517080" y="3475080"/>
              <a:ext cx="259056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Коммутатор отсылает </a:t>
              </a:r>
              <a:r>
                <a:rPr b="0" lang="en-US" sz="12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EAPOL </a:t>
              </a:r>
              <a:r>
                <a:rPr b="0" lang="ru-RU" sz="12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сообщение на </a:t>
              </a:r>
              <a:r>
                <a:rPr b="0" lang="en-US" sz="12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RADIUS </a:t>
              </a:r>
              <a:r>
                <a:rPr b="0" lang="ru-RU" sz="12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сервер для подтверждения возможности подключения данного клиента на запрошенную группу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grpSp>
        <p:nvGrpSpPr>
          <p:cNvPr id="821" name="Группа 45"/>
          <p:cNvGrpSpPr/>
          <p:nvPr/>
        </p:nvGrpSpPr>
        <p:grpSpPr>
          <a:xfrm>
            <a:off x="395280" y="2781360"/>
            <a:ext cx="3386160" cy="1924920"/>
            <a:chOff x="395280" y="2781360"/>
            <a:chExt cx="3386160" cy="1924920"/>
          </a:xfrm>
        </p:grpSpPr>
        <p:cxnSp>
          <p:nvCxnSpPr>
            <p:cNvPr id="822" name="Прямая со стрелкой 40"/>
            <p:cNvCxnSpPr/>
            <p:nvPr/>
          </p:nvCxnSpPr>
          <p:spPr>
            <a:xfrm flipH="1">
              <a:off x="3779640" y="2781360"/>
              <a:ext cx="2160" cy="72144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823" name="Овал 51"/>
            <p:cNvSpPr/>
            <p:nvPr/>
          </p:nvSpPr>
          <p:spPr>
            <a:xfrm>
              <a:off x="3059280" y="414972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824" name="Rectangle 11"/>
            <p:cNvSpPr/>
            <p:nvPr/>
          </p:nvSpPr>
          <p:spPr>
            <a:xfrm>
              <a:off x="395280" y="4076640"/>
              <a:ext cx="259236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Отправка многоадресного потока на коммутатор </a:t>
              </a:r>
              <a:r>
                <a:rPr b="0" lang="en-US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L</a:t>
              </a: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2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grpSp>
        <p:nvGrpSpPr>
          <p:cNvPr id="825" name="Группа 46"/>
          <p:cNvGrpSpPr/>
          <p:nvPr/>
        </p:nvGrpSpPr>
        <p:grpSpPr>
          <a:xfrm>
            <a:off x="250920" y="5013000"/>
            <a:ext cx="4754520" cy="846000"/>
            <a:chOff x="250920" y="5013000"/>
            <a:chExt cx="4754520" cy="846000"/>
          </a:xfrm>
        </p:grpSpPr>
        <p:cxnSp>
          <p:nvCxnSpPr>
            <p:cNvPr id="826" name="Прямая со стрелкой 44"/>
            <p:cNvCxnSpPr/>
            <p:nvPr/>
          </p:nvCxnSpPr>
          <p:spPr>
            <a:xfrm flipH="1">
              <a:off x="5003640" y="5013000"/>
              <a:ext cx="2160" cy="577080"/>
            </a:xfrm>
            <a:prstGeom prst="straightConnector1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827" name="Овал 53"/>
            <p:cNvSpPr/>
            <p:nvPr/>
          </p:nvSpPr>
          <p:spPr>
            <a:xfrm>
              <a:off x="3132000" y="5300640"/>
              <a:ext cx="287280" cy="289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828" name="Прямоугольник 54"/>
            <p:cNvSpPr/>
            <p:nvPr/>
          </p:nvSpPr>
          <p:spPr>
            <a:xfrm>
              <a:off x="250920" y="5229360"/>
              <a:ext cx="280800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Коммутатор</a:t>
              </a:r>
              <a:r>
                <a:rPr b="0" lang="en-US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 L2 </a:t>
              </a: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перенаправляет </a:t>
              </a:r>
              <a:r>
                <a:rPr b="0" lang="en-US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Multicast </a:t>
              </a: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 из</a:t>
              </a:r>
              <a:r>
                <a:rPr b="0" lang="en-US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 ISM VLAN </a:t>
              </a: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в</a:t>
              </a:r>
              <a:r>
                <a:rPr b="0" lang="en-US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клиентский М</a:t>
              </a:r>
              <a:r>
                <a:rPr b="0" lang="en-US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LAN </a:t>
              </a: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grpSp>
        <p:nvGrpSpPr>
          <p:cNvPr id="829" name="Группа 44"/>
          <p:cNvGrpSpPr/>
          <p:nvPr/>
        </p:nvGrpSpPr>
        <p:grpSpPr>
          <a:xfrm>
            <a:off x="5219280" y="2276640"/>
            <a:ext cx="3924720" cy="1081080"/>
            <a:chOff x="5219280" y="2276640"/>
            <a:chExt cx="3924720" cy="1081080"/>
          </a:xfrm>
        </p:grpSpPr>
        <p:cxnSp>
          <p:nvCxnSpPr>
            <p:cNvPr id="830" name="Прямая со стрелкой 33"/>
            <p:cNvCxnSpPr/>
            <p:nvPr/>
          </p:nvCxnSpPr>
          <p:spPr>
            <a:xfrm flipH="1">
              <a:off x="5219280" y="2781000"/>
              <a:ext cx="2160" cy="57708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831" name="Овал 49"/>
            <p:cNvSpPr/>
            <p:nvPr/>
          </p:nvSpPr>
          <p:spPr>
            <a:xfrm>
              <a:off x="6227640" y="256536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00b050"/>
                  </a:solidFill>
                  <a:latin typeface="Arial Unicode MS"/>
                  <a:ea typeface="Arial Unicode MS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832" name="Rectangle 11"/>
            <p:cNvSpPr/>
            <p:nvPr/>
          </p:nvSpPr>
          <p:spPr>
            <a:xfrm>
              <a:off x="6551640" y="2276640"/>
              <a:ext cx="2592360" cy="98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b050"/>
                  </a:solidFill>
                  <a:latin typeface="Arial Unicode MS"/>
                  <a:ea typeface="Arial Unicode MS"/>
                </a:rPr>
                <a:t>RADIUS </a:t>
              </a:r>
              <a:r>
                <a:rPr b="0" lang="ru-RU" sz="1200" spc="-1" strike="noStrike">
                  <a:solidFill>
                    <a:srgbClr val="00b050"/>
                  </a:solidFill>
                  <a:latin typeface="Arial Unicode MS"/>
                  <a:ea typeface="Arial Unicode MS"/>
                </a:rPr>
                <a:t>сервер подтверждает, что данный клиент может  подписаться на данную </a:t>
              </a:r>
              <a:r>
                <a:rPr b="0" lang="en-US" sz="1200" spc="-1" strike="noStrike">
                  <a:solidFill>
                    <a:srgbClr val="00b050"/>
                  </a:solidFill>
                  <a:latin typeface="Arial Unicode MS"/>
                  <a:ea typeface="Arial Unicode MS"/>
                </a:rPr>
                <a:t>Multicast </a:t>
              </a:r>
              <a:r>
                <a:rPr b="0" lang="ru-RU" sz="1200" spc="-1" strike="noStrike">
                  <a:solidFill>
                    <a:srgbClr val="00b050"/>
                  </a:solidFill>
                  <a:latin typeface="Arial Unicode MS"/>
                  <a:ea typeface="Arial Unicode MS"/>
                </a:rPr>
                <a:t>группу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833" name="Rectangle 11"/>
            <p:cNvSpPr/>
            <p:nvPr/>
          </p:nvSpPr>
          <p:spPr>
            <a:xfrm>
              <a:off x="5292360" y="2781360"/>
              <a:ext cx="129528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b050"/>
                  </a:solidFill>
                  <a:latin typeface="Arial Unicode MS"/>
                  <a:ea typeface="Arial Unicode MS"/>
                </a:rPr>
                <a:t>Radius 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b050"/>
                  </a:solidFill>
                  <a:latin typeface="Arial Unicode MS"/>
                  <a:ea typeface="Arial Unicode MS"/>
                </a:rPr>
                <a:t>Access-Accept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834" name="Rectangle 7"/>
          <p:cNvSpPr/>
          <p:nvPr/>
        </p:nvSpPr>
        <p:spPr>
          <a:xfrm>
            <a:off x="1979640" y="1366920"/>
            <a:ext cx="532908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огика работы функции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Access Authentication</a:t>
            </a:r>
            <a:endParaRPr b="0" lang="en-US" sz="16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Для чего нужна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функция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IGMP Snooping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?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4481640" y="1817640"/>
            <a:ext cx="0" cy="3862440"/>
          </a:xfrm>
          <a:prstGeom prst="line">
            <a:avLst/>
          </a:prstGeom>
          <a:ln w="15840">
            <a:solidFill>
              <a:srgbClr val="33a3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390240" y="1741320"/>
            <a:ext cx="3996720" cy="3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</a:rPr>
              <a:t>Без поддержки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</a:rPr>
              <a:t> IGMP Snooping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29" name="Line 5"/>
          <p:cNvSpPr/>
          <p:nvPr/>
        </p:nvSpPr>
        <p:spPr>
          <a:xfrm flipV="1">
            <a:off x="1181160" y="4219560"/>
            <a:ext cx="0" cy="6033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1825560" y="3133800"/>
            <a:ext cx="0" cy="7239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605320" y="4340160"/>
            <a:ext cx="155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дача данны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все порты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2063520" y="2651040"/>
            <a:ext cx="11851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1744560" y="3255840"/>
            <a:ext cx="0" cy="48096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299880" y="3255840"/>
            <a:ext cx="12477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то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2868120" y="4824360"/>
            <a:ext cx="3866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36" name="Line 12"/>
          <p:cNvSpPr/>
          <p:nvPr/>
        </p:nvSpPr>
        <p:spPr>
          <a:xfrm flipV="1">
            <a:off x="1663560" y="4219560"/>
            <a:ext cx="0" cy="6033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37" name="Line 13"/>
          <p:cNvSpPr/>
          <p:nvPr/>
        </p:nvSpPr>
        <p:spPr>
          <a:xfrm flipV="1">
            <a:off x="2065320" y="4219560"/>
            <a:ext cx="0" cy="6033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38" name="Line 14"/>
          <p:cNvSpPr/>
          <p:nvPr/>
        </p:nvSpPr>
        <p:spPr>
          <a:xfrm flipV="1">
            <a:off x="2548080" y="4219560"/>
            <a:ext cx="0" cy="6033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39" name="Line 15"/>
          <p:cNvSpPr/>
          <p:nvPr/>
        </p:nvSpPr>
        <p:spPr>
          <a:xfrm>
            <a:off x="1103400" y="4341960"/>
            <a:ext cx="0" cy="48096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40" name="Line 16"/>
          <p:cNvSpPr/>
          <p:nvPr/>
        </p:nvSpPr>
        <p:spPr>
          <a:xfrm>
            <a:off x="1585800" y="4341960"/>
            <a:ext cx="0" cy="48096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41" name="Line 17"/>
          <p:cNvSpPr/>
          <p:nvPr/>
        </p:nvSpPr>
        <p:spPr>
          <a:xfrm>
            <a:off x="2146320" y="4341960"/>
            <a:ext cx="0" cy="48096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42" name="Line 18"/>
          <p:cNvSpPr/>
          <p:nvPr/>
        </p:nvSpPr>
        <p:spPr>
          <a:xfrm>
            <a:off x="2629080" y="4341960"/>
            <a:ext cx="0" cy="48096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43" name="Line 20"/>
          <p:cNvSpPr/>
          <p:nvPr/>
        </p:nvSpPr>
        <p:spPr>
          <a:xfrm flipV="1">
            <a:off x="6008760" y="4219560"/>
            <a:ext cx="0" cy="60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44" name="Line 21"/>
          <p:cNvSpPr/>
          <p:nvPr/>
        </p:nvSpPr>
        <p:spPr>
          <a:xfrm>
            <a:off x="6649920" y="3133800"/>
            <a:ext cx="0" cy="7239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6940440" y="2651040"/>
            <a:ext cx="11851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46" name="Line 23"/>
          <p:cNvSpPr/>
          <p:nvPr/>
        </p:nvSpPr>
        <p:spPr>
          <a:xfrm>
            <a:off x="6570720" y="3255840"/>
            <a:ext cx="0" cy="48096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47" name="Rectangle 24"/>
          <p:cNvSpPr/>
          <p:nvPr/>
        </p:nvSpPr>
        <p:spPr>
          <a:xfrm>
            <a:off x="5124600" y="3255840"/>
            <a:ext cx="12477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то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48" name="Line 26"/>
          <p:cNvSpPr/>
          <p:nvPr/>
        </p:nvSpPr>
        <p:spPr>
          <a:xfrm flipV="1">
            <a:off x="6892920" y="4219560"/>
            <a:ext cx="0" cy="60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49" name="Line 27"/>
          <p:cNvSpPr/>
          <p:nvPr/>
        </p:nvSpPr>
        <p:spPr>
          <a:xfrm flipV="1">
            <a:off x="7373880" y="4219560"/>
            <a:ext cx="0" cy="60336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0" name="Line 28"/>
          <p:cNvSpPr/>
          <p:nvPr/>
        </p:nvSpPr>
        <p:spPr>
          <a:xfrm>
            <a:off x="5927760" y="4341960"/>
            <a:ext cx="0" cy="48096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1" name="Line 29"/>
          <p:cNvSpPr/>
          <p:nvPr/>
        </p:nvSpPr>
        <p:spPr>
          <a:xfrm>
            <a:off x="7453440" y="4341960"/>
            <a:ext cx="0" cy="48096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2" name="Rectangle 30"/>
          <p:cNvSpPr/>
          <p:nvPr/>
        </p:nvSpPr>
        <p:spPr>
          <a:xfrm>
            <a:off x="4479840" y="4341960"/>
            <a:ext cx="15289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то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3" name="Rectangle 31"/>
          <p:cNvSpPr/>
          <p:nvPr/>
        </p:nvSpPr>
        <p:spPr>
          <a:xfrm>
            <a:off x="7437600" y="4341960"/>
            <a:ext cx="15271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то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4" name="Rectangle 32"/>
          <p:cNvSpPr/>
          <p:nvPr/>
        </p:nvSpPr>
        <p:spPr>
          <a:xfrm>
            <a:off x="5661720" y="5867280"/>
            <a:ext cx="19562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Члены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группы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5" name="Rectangle 33"/>
          <p:cNvSpPr/>
          <p:nvPr/>
        </p:nvSpPr>
        <p:spPr>
          <a:xfrm>
            <a:off x="6255000" y="4343400"/>
            <a:ext cx="255240" cy="2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6" name="Rectangle 34"/>
          <p:cNvSpPr/>
          <p:nvPr/>
        </p:nvSpPr>
        <p:spPr>
          <a:xfrm>
            <a:off x="6811920" y="4341960"/>
            <a:ext cx="401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7" name="Rectangle 35"/>
          <p:cNvSpPr/>
          <p:nvPr/>
        </p:nvSpPr>
        <p:spPr>
          <a:xfrm>
            <a:off x="7614720" y="4824360"/>
            <a:ext cx="3866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8" name="Rectangle 36"/>
          <p:cNvSpPr/>
          <p:nvPr/>
        </p:nvSpPr>
        <p:spPr>
          <a:xfrm>
            <a:off x="6301800" y="5497560"/>
            <a:ext cx="2707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59" name="Rectangle 37"/>
          <p:cNvSpPr/>
          <p:nvPr/>
        </p:nvSpPr>
        <p:spPr>
          <a:xfrm>
            <a:off x="6766920" y="5497560"/>
            <a:ext cx="2707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60" name="Rectangle 38"/>
          <p:cNvSpPr/>
          <p:nvPr/>
        </p:nvSpPr>
        <p:spPr>
          <a:xfrm>
            <a:off x="7232400" y="5495760"/>
            <a:ext cx="27216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61" name="Rectangle 39"/>
          <p:cNvSpPr/>
          <p:nvPr/>
        </p:nvSpPr>
        <p:spPr>
          <a:xfrm>
            <a:off x="5837040" y="5495760"/>
            <a:ext cx="272160" cy="272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5260320" y="1719360"/>
            <a:ext cx="3734640" cy="3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0070c0"/>
                </a:solidFill>
                <a:uFillTx/>
                <a:latin typeface="DejaVu Sans Condensed"/>
              </a:rPr>
              <a:t>С поддержкой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DejaVu Sans Condensed"/>
                <a:ea typeface="新細明體"/>
              </a:rPr>
              <a:t>IGMP Snooping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163" name="Picture 15" descr="C:\Users\06075\Desktop\Icons for Topology\Computer 01.jpg"/>
          <p:cNvPicPr/>
          <p:nvPr/>
        </p:nvPicPr>
        <p:blipFill>
          <a:blip r:embed="rId1"/>
          <a:stretch/>
        </p:blipFill>
        <p:spPr>
          <a:xfrm>
            <a:off x="1547640" y="2463840"/>
            <a:ext cx="497160" cy="677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C:\Users\06075\Desktop\Icons for Topology\Computer 01.jpg"/>
          <p:cNvPicPr/>
          <p:nvPr/>
        </p:nvPicPr>
        <p:blipFill>
          <a:blip r:embed="rId2"/>
          <a:stretch/>
        </p:blipFill>
        <p:spPr>
          <a:xfrm>
            <a:off x="6380280" y="2463840"/>
            <a:ext cx="495360" cy="677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4" descr="DGS-3100-48"/>
          <p:cNvPicPr/>
          <p:nvPr/>
        </p:nvPicPr>
        <p:blipFill>
          <a:blip r:embed="rId3"/>
          <a:srcRect l="0" t="28276" r="0" b="28355"/>
          <a:stretch/>
        </p:blipFill>
        <p:spPr>
          <a:xfrm>
            <a:off x="828720" y="3652920"/>
            <a:ext cx="1808280" cy="784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4" descr="DGS-3100-48"/>
          <p:cNvPicPr/>
          <p:nvPr/>
        </p:nvPicPr>
        <p:blipFill>
          <a:blip r:embed="rId4"/>
          <a:srcRect l="0" t="28276" r="0" b="28355"/>
          <a:stretch/>
        </p:blipFill>
        <p:spPr>
          <a:xfrm>
            <a:off x="5651640" y="3652920"/>
            <a:ext cx="1807920" cy="784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C:\Users\06075\Desktop\Icons for Topology\Computer 02.jpg"/>
          <p:cNvPicPr/>
          <p:nvPr/>
        </p:nvPicPr>
        <p:blipFill>
          <a:blip r:embed="rId5"/>
          <a:stretch/>
        </p:blipFill>
        <p:spPr>
          <a:xfrm>
            <a:off x="900000" y="4867200"/>
            <a:ext cx="428760" cy="362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C:\Users\06075\Desktop\Icons for Topology\Computer 02.jpg"/>
          <p:cNvPicPr/>
          <p:nvPr/>
        </p:nvPicPr>
        <p:blipFill>
          <a:blip r:embed="rId6"/>
          <a:stretch/>
        </p:blipFill>
        <p:spPr>
          <a:xfrm>
            <a:off x="1403280" y="4869000"/>
            <a:ext cx="428760" cy="361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C:\Users\06075\Desktop\Icons for Topology\Computer 02.jpg"/>
          <p:cNvPicPr/>
          <p:nvPr/>
        </p:nvPicPr>
        <p:blipFill>
          <a:blip r:embed="rId7"/>
          <a:stretch/>
        </p:blipFill>
        <p:spPr>
          <a:xfrm>
            <a:off x="1908000" y="4869000"/>
            <a:ext cx="428760" cy="361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4" descr="C:\Users\06075\Desktop\Icons for Topology\Computer 02.jpg"/>
          <p:cNvPicPr/>
          <p:nvPr/>
        </p:nvPicPr>
        <p:blipFill>
          <a:blip r:embed="rId8"/>
          <a:stretch/>
        </p:blipFill>
        <p:spPr>
          <a:xfrm>
            <a:off x="2411280" y="4869000"/>
            <a:ext cx="428760" cy="361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C:\Users\06075\Desktop\Icons for Topology\Computer 02.jpg"/>
          <p:cNvPicPr/>
          <p:nvPr/>
        </p:nvPicPr>
        <p:blipFill>
          <a:blip r:embed="rId9"/>
          <a:stretch/>
        </p:blipFill>
        <p:spPr>
          <a:xfrm>
            <a:off x="5727600" y="4869000"/>
            <a:ext cx="428760" cy="361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C:\Users\06075\Desktop\Icons for Topology\Computer 02.jpg"/>
          <p:cNvPicPr/>
          <p:nvPr/>
        </p:nvPicPr>
        <p:blipFill>
          <a:blip r:embed="rId10"/>
          <a:stretch/>
        </p:blipFill>
        <p:spPr>
          <a:xfrm>
            <a:off x="6230880" y="4870440"/>
            <a:ext cx="428760" cy="361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C:\Users\06075\Desktop\Icons for Topology\Computer 02.jpg"/>
          <p:cNvPicPr/>
          <p:nvPr/>
        </p:nvPicPr>
        <p:blipFill>
          <a:blip r:embed="rId11"/>
          <a:stretch/>
        </p:blipFill>
        <p:spPr>
          <a:xfrm>
            <a:off x="6735600" y="4870440"/>
            <a:ext cx="428760" cy="361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C:\Users\06075\Desktop\Icons for Topology\Computer 02.jpg"/>
          <p:cNvPicPr/>
          <p:nvPr/>
        </p:nvPicPr>
        <p:blipFill>
          <a:blip r:embed="rId12"/>
          <a:stretch/>
        </p:blipFill>
        <p:spPr>
          <a:xfrm>
            <a:off x="7238880" y="4870440"/>
            <a:ext cx="428760" cy="361800"/>
          </a:xfrm>
          <a:prstGeom prst="rect">
            <a:avLst/>
          </a:prstGeom>
          <a:ln w="0">
            <a:noFill/>
          </a:ln>
        </p:spPr>
      </p:pic>
      <p:sp>
        <p:nvSpPr>
          <p:cNvPr id="175" name="Line 26"/>
          <p:cNvSpPr/>
          <p:nvPr/>
        </p:nvSpPr>
        <p:spPr>
          <a:xfrm flipV="1">
            <a:off x="6516720" y="4221000"/>
            <a:ext cx="0" cy="60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</a:rPr>
              <a:t>IGMP Access Authenticatio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6" name="Прямоугольник 2"/>
          <p:cNvSpPr/>
          <p:nvPr/>
        </p:nvSpPr>
        <p:spPr>
          <a:xfrm>
            <a:off x="395280" y="836640"/>
            <a:ext cx="8280360" cy="55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Access Authentication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 коммутаторе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access_authentication ports 1-24 state enable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radius add 1 &lt;server_ip&gt; key &lt;passwd 32&gt; default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eeradius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/</a:t>
            </a: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tc/freeradius/users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ледущую строчку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0005</a:t>
            </a: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A9EB2B2    Cleartext-Password := "00005A9EB2B2", Framed-IP-Address = 239.10.10.10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перь клиент с МАС адресом: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0005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9EB2B2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жет подписываться на канал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3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9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1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каналов несколько, то их нужно указывать через запятую, т.е.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amed-IP-Address = 239.10.10.1, 239.10.10.2, 239.10.10.10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данном случае аутентификация клиента на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adius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е происходит по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у клиента.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авторизация прошла успешно, то в логе (например: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var/log/freeradius/radius.log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Вы увидите следующую запись: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Mon Jun  6 10:36:43 2011 : Auth: Login OK: [00005A9EB2B2 / 00005A9EB2B2] (from client private-network-100 port 20) Login OK!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Object 3" descr=""/>
          <p:cNvPicPr/>
          <p:nvPr/>
        </p:nvPicPr>
        <p:blipFill>
          <a:blip r:embed="rId1"/>
          <a:stretch/>
        </p:blipFill>
        <p:spPr>
          <a:xfrm>
            <a:off x="2627280" y="2104920"/>
            <a:ext cx="4343400" cy="312444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2"/>
          <p:cNvSpPr/>
          <p:nvPr/>
        </p:nvSpPr>
        <p:spPr>
          <a:xfrm>
            <a:off x="2409840" y="885960"/>
            <a:ext cx="4106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33a3a3"/>
                </a:solidFill>
                <a:latin typeface="Arial"/>
              </a:rPr>
              <a:t>Спасибо!</a:t>
            </a:r>
            <a:endParaRPr b="0" lang="en-US" sz="5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839" name="Rectangle 1"/>
          <p:cNvSpPr/>
          <p:nvPr/>
        </p:nvSpPr>
        <p:spPr>
          <a:xfrm>
            <a:off x="1835280" y="5443560"/>
            <a:ext cx="5626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920" bIns="0" anchor="ctr">
            <a:noAutofit/>
          </a:bodyPr>
          <a:p>
            <a:pPr marL="343080" indent="-343080" algn="ctr">
              <a:lnSpc>
                <a:spcPct val="98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20</a:t>
            </a:r>
            <a:r>
              <a:rPr b="0" lang="ru-RU" sz="30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11</a:t>
            </a:r>
            <a:r>
              <a:rPr b="0" lang="en-US" sz="30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D-Link Switch Training</a:t>
            </a:r>
            <a:endParaRPr b="0" lang="en-US" sz="30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3" presetSubtype="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Как работает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IGMP Snooping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?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7554600" y="3527280"/>
            <a:ext cx="13024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897480" y="1523880"/>
            <a:ext cx="3310920" cy="3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0070c0"/>
                </a:solidFill>
                <a:uFillTx/>
                <a:latin typeface="Arial Unicode MS"/>
                <a:ea typeface="Arial Unicode MS"/>
              </a:rPr>
              <a:t>Присоединение к группе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79" name="Line 4"/>
          <p:cNvSpPr/>
          <p:nvPr/>
        </p:nvSpPr>
        <p:spPr>
          <a:xfrm flipV="1">
            <a:off x="1305000" y="3960720"/>
            <a:ext cx="309600" cy="95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2235240" y="3960720"/>
            <a:ext cx="309600" cy="95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1925640" y="2895480"/>
            <a:ext cx="0" cy="712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182" name="Group 7"/>
          <p:cNvGrpSpPr/>
          <p:nvPr/>
        </p:nvGrpSpPr>
        <p:grpSpPr>
          <a:xfrm>
            <a:off x="601920" y="4200480"/>
            <a:ext cx="782280" cy="567000"/>
            <a:chOff x="601920" y="4200480"/>
            <a:chExt cx="782280" cy="567000"/>
          </a:xfrm>
        </p:grpSpPr>
        <p:sp>
          <p:nvSpPr>
            <p:cNvPr id="183" name="Line 8"/>
            <p:cNvSpPr/>
            <p:nvPr/>
          </p:nvSpPr>
          <p:spPr>
            <a:xfrm flipV="1">
              <a:off x="1228680" y="4200480"/>
              <a:ext cx="155520" cy="473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184" name="Rectangle 9"/>
            <p:cNvSpPr/>
            <p:nvPr/>
          </p:nvSpPr>
          <p:spPr>
            <a:xfrm>
              <a:off x="601920" y="4316400"/>
              <a:ext cx="68652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Report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- отчёт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185" name="Rectangle 10"/>
          <p:cNvSpPr/>
          <p:nvPr/>
        </p:nvSpPr>
        <p:spPr>
          <a:xfrm>
            <a:off x="2969280" y="2384280"/>
            <a:ext cx="116388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186" name="Group 11"/>
          <p:cNvGrpSpPr/>
          <p:nvPr/>
        </p:nvGrpSpPr>
        <p:grpSpPr>
          <a:xfrm>
            <a:off x="297000" y="3013200"/>
            <a:ext cx="1531800" cy="474480"/>
            <a:chOff x="297000" y="3013200"/>
            <a:chExt cx="1531800" cy="474480"/>
          </a:xfrm>
        </p:grpSpPr>
        <p:sp>
          <p:nvSpPr>
            <p:cNvPr id="187" name="Line 12"/>
            <p:cNvSpPr/>
            <p:nvPr/>
          </p:nvSpPr>
          <p:spPr>
            <a:xfrm>
              <a:off x="1828800" y="3013200"/>
              <a:ext cx="0" cy="474480"/>
            </a:xfrm>
            <a:prstGeom prst="line">
              <a:avLst/>
            </a:prstGeom>
            <a:ln w="936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188" name="Rectangle 13"/>
            <p:cNvSpPr/>
            <p:nvPr/>
          </p:nvSpPr>
          <p:spPr>
            <a:xfrm>
              <a:off x="297000" y="3078000"/>
              <a:ext cx="137952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Multicast 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поток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grpSp>
        <p:nvGrpSpPr>
          <p:cNvPr id="189" name="Group 14"/>
          <p:cNvGrpSpPr/>
          <p:nvPr/>
        </p:nvGrpSpPr>
        <p:grpSpPr>
          <a:xfrm>
            <a:off x="2001960" y="2970360"/>
            <a:ext cx="1270800" cy="475920"/>
            <a:chOff x="2001960" y="2970360"/>
            <a:chExt cx="1270800" cy="475920"/>
          </a:xfrm>
        </p:grpSpPr>
        <p:sp>
          <p:nvSpPr>
            <p:cNvPr id="190" name="Line 15"/>
            <p:cNvSpPr/>
            <p:nvPr/>
          </p:nvSpPr>
          <p:spPr>
            <a:xfrm flipV="1">
              <a:off x="2001960" y="2971800"/>
              <a:ext cx="0" cy="474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191" name="Rectangle 16"/>
            <p:cNvSpPr/>
            <p:nvPr/>
          </p:nvSpPr>
          <p:spPr>
            <a:xfrm>
              <a:off x="2061720" y="2970360"/>
              <a:ext cx="121104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Report</a:t>
              </a: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 - отчёт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192" name="Line 17"/>
          <p:cNvSpPr/>
          <p:nvPr/>
        </p:nvSpPr>
        <p:spPr>
          <a:xfrm>
            <a:off x="4403880" y="1589040"/>
            <a:ext cx="0" cy="3797280"/>
          </a:xfrm>
          <a:prstGeom prst="line">
            <a:avLst/>
          </a:prstGeom>
          <a:ln w="15840">
            <a:solidFill>
              <a:srgbClr val="33a3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5548680" y="1523880"/>
            <a:ext cx="3078000" cy="3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 Unicode MS"/>
                <a:ea typeface="Arial Unicode MS"/>
              </a:rPr>
              <a:t>Отключение от группы</a:t>
            </a:r>
            <a:endParaRPr b="0" lang="en-US" sz="20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94" name="Line 19"/>
          <p:cNvSpPr/>
          <p:nvPr/>
        </p:nvSpPr>
        <p:spPr>
          <a:xfrm flipV="1">
            <a:off x="5954760" y="3960720"/>
            <a:ext cx="309600" cy="95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6883560" y="3960720"/>
            <a:ext cx="309240" cy="95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6573960" y="2895480"/>
            <a:ext cx="0" cy="712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97" name="Line 22"/>
          <p:cNvSpPr/>
          <p:nvPr/>
        </p:nvSpPr>
        <p:spPr>
          <a:xfrm flipV="1">
            <a:off x="5942160" y="4227480"/>
            <a:ext cx="153720" cy="473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4685040" y="4343400"/>
            <a:ext cx="12186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Leave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– 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отключение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199" name="Rectangle 24"/>
          <p:cNvSpPr/>
          <p:nvPr/>
        </p:nvSpPr>
        <p:spPr>
          <a:xfrm>
            <a:off x="7769880" y="2421000"/>
            <a:ext cx="116388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200" name="Group 25"/>
          <p:cNvGrpSpPr/>
          <p:nvPr/>
        </p:nvGrpSpPr>
        <p:grpSpPr>
          <a:xfrm>
            <a:off x="5221440" y="2924280"/>
            <a:ext cx="1584000" cy="629640"/>
            <a:chOff x="5221440" y="2924280"/>
            <a:chExt cx="1584000" cy="629640"/>
          </a:xfrm>
        </p:grpSpPr>
        <p:sp>
          <p:nvSpPr>
            <p:cNvPr id="201" name="Line 26"/>
            <p:cNvSpPr/>
            <p:nvPr/>
          </p:nvSpPr>
          <p:spPr>
            <a:xfrm>
              <a:off x="6496200" y="2981520"/>
              <a:ext cx="0" cy="519480"/>
            </a:xfrm>
            <a:prstGeom prst="line">
              <a:avLst/>
            </a:prstGeom>
            <a:ln w="936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202" name="Rectangle 27"/>
            <p:cNvSpPr/>
            <p:nvPr/>
          </p:nvSpPr>
          <p:spPr>
            <a:xfrm>
              <a:off x="5221440" y="2924280"/>
              <a:ext cx="1584000" cy="629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Specific Query</a:t>
              </a: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 – специальный запрос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grpSp>
        <p:nvGrpSpPr>
          <p:cNvPr id="203" name="Group 28"/>
          <p:cNvGrpSpPr/>
          <p:nvPr/>
        </p:nvGrpSpPr>
        <p:grpSpPr>
          <a:xfrm>
            <a:off x="6651720" y="3011400"/>
            <a:ext cx="1693440" cy="475920"/>
            <a:chOff x="6651720" y="3011400"/>
            <a:chExt cx="1693440" cy="475920"/>
          </a:xfrm>
        </p:grpSpPr>
        <p:sp>
          <p:nvSpPr>
            <p:cNvPr id="204" name="Line 29"/>
            <p:cNvSpPr/>
            <p:nvPr/>
          </p:nvSpPr>
          <p:spPr>
            <a:xfrm flipV="1">
              <a:off x="6651720" y="3012840"/>
              <a:ext cx="0" cy="474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205" name="Rectangle 30"/>
            <p:cNvSpPr/>
            <p:nvPr/>
          </p:nvSpPr>
          <p:spPr>
            <a:xfrm>
              <a:off x="6701400" y="3011400"/>
              <a:ext cx="164376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Leave</a:t>
              </a:r>
              <a:r>
                <a:rPr b="0" lang="ru-RU" sz="12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 - отключение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206" name="Rectangle 31"/>
          <p:cNvSpPr/>
          <p:nvPr/>
        </p:nvSpPr>
        <p:spPr>
          <a:xfrm>
            <a:off x="2877840" y="3489480"/>
            <a:ext cx="13024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07" name="Line 32"/>
          <p:cNvSpPr/>
          <p:nvPr/>
        </p:nvSpPr>
        <p:spPr>
          <a:xfrm>
            <a:off x="5643720" y="3844800"/>
            <a:ext cx="15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08" name="Rectangle 33"/>
          <p:cNvSpPr/>
          <p:nvPr/>
        </p:nvSpPr>
        <p:spPr>
          <a:xfrm>
            <a:off x="1460160" y="4915080"/>
            <a:ext cx="3866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09" name="Rectangle 34"/>
          <p:cNvSpPr/>
          <p:nvPr/>
        </p:nvSpPr>
        <p:spPr>
          <a:xfrm>
            <a:off x="2854080" y="4915080"/>
            <a:ext cx="3866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10" name="Rectangle 35"/>
          <p:cNvSpPr/>
          <p:nvPr/>
        </p:nvSpPr>
        <p:spPr>
          <a:xfrm>
            <a:off x="6108480" y="4915080"/>
            <a:ext cx="3866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11" name="Rectangle 36"/>
          <p:cNvSpPr/>
          <p:nvPr/>
        </p:nvSpPr>
        <p:spPr>
          <a:xfrm>
            <a:off x="7426080" y="4915080"/>
            <a:ext cx="3866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212" name="Picture 44" descr="des-3828"/>
          <p:cNvPicPr/>
          <p:nvPr/>
        </p:nvPicPr>
        <p:blipFill>
          <a:blip r:embed="rId1"/>
          <a:stretch/>
        </p:blipFill>
        <p:spPr>
          <a:xfrm>
            <a:off x="380880" y="2384280"/>
            <a:ext cx="2451240" cy="549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5" descr="des-3828"/>
          <p:cNvPicPr/>
          <p:nvPr/>
        </p:nvPicPr>
        <p:blipFill>
          <a:blip r:embed="rId2"/>
          <a:stretch/>
        </p:blipFill>
        <p:spPr>
          <a:xfrm>
            <a:off x="5361120" y="2448000"/>
            <a:ext cx="2450880" cy="54936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46"/>
          <p:cNvGrpSpPr/>
          <p:nvPr/>
        </p:nvGrpSpPr>
        <p:grpSpPr>
          <a:xfrm>
            <a:off x="1447560" y="4289400"/>
            <a:ext cx="1006560" cy="527400"/>
            <a:chOff x="1447560" y="4289400"/>
            <a:chExt cx="1006560" cy="527400"/>
          </a:xfrm>
        </p:grpSpPr>
        <p:sp>
          <p:nvSpPr>
            <p:cNvPr id="215" name="Line 47"/>
            <p:cNvSpPr/>
            <p:nvPr/>
          </p:nvSpPr>
          <p:spPr>
            <a:xfrm flipH="1">
              <a:off x="1447560" y="4289400"/>
              <a:ext cx="152280" cy="457200"/>
            </a:xfrm>
            <a:prstGeom prst="line">
              <a:avLst/>
            </a:prstGeom>
            <a:ln w="936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216" name="Rectangle 48"/>
            <p:cNvSpPr/>
            <p:nvPr/>
          </p:nvSpPr>
          <p:spPr>
            <a:xfrm>
              <a:off x="1580040" y="4365720"/>
              <a:ext cx="87408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Multicast 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поток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217" name="Rectangle 49"/>
          <p:cNvSpPr/>
          <p:nvPr/>
        </p:nvSpPr>
        <p:spPr>
          <a:xfrm>
            <a:off x="4648320" y="5486400"/>
            <a:ext cx="44956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Если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GMP snooping querier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получает сообщение об отключении от группы,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то он рассылает запрос для всех клиентов группы. Если ответа нет в течении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секунд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,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тогда этот клиент удаляется из данной группы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18" name="Line 50"/>
          <p:cNvSpPr/>
          <p:nvPr/>
        </p:nvSpPr>
        <p:spPr>
          <a:xfrm flipH="1">
            <a:off x="6081480" y="4213080"/>
            <a:ext cx="166680" cy="53352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19" name="Rectangle 51"/>
          <p:cNvSpPr/>
          <p:nvPr/>
        </p:nvSpPr>
        <p:spPr>
          <a:xfrm>
            <a:off x="6188040" y="4289400"/>
            <a:ext cx="831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pecific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Query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20" name="Line 52"/>
          <p:cNvSpPr/>
          <p:nvPr/>
        </p:nvSpPr>
        <p:spPr>
          <a:xfrm>
            <a:off x="7074000" y="4191120"/>
            <a:ext cx="164880" cy="53316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21" name="Rectangle 53"/>
          <p:cNvSpPr/>
          <p:nvPr/>
        </p:nvSpPr>
        <p:spPr>
          <a:xfrm>
            <a:off x="7175520" y="4267080"/>
            <a:ext cx="8254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pecific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Query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222" name="Picture 54" descr="DGS-3100-48"/>
          <p:cNvPicPr/>
          <p:nvPr/>
        </p:nvPicPr>
        <p:blipFill>
          <a:blip r:embed="rId3"/>
          <a:srcRect l="0" t="28276" r="0" b="28355"/>
          <a:stretch/>
        </p:blipFill>
        <p:spPr>
          <a:xfrm>
            <a:off x="684360" y="3429000"/>
            <a:ext cx="2239920" cy="971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4" descr="DGS-3100-48"/>
          <p:cNvPicPr/>
          <p:nvPr/>
        </p:nvPicPr>
        <p:blipFill>
          <a:blip r:embed="rId4"/>
          <a:srcRect l="0" t="28276" r="0" b="28355"/>
          <a:stretch/>
        </p:blipFill>
        <p:spPr>
          <a:xfrm>
            <a:off x="5435640" y="3357720"/>
            <a:ext cx="2241360" cy="971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C:\Users\06075\Desktop\Icons for Topology\Computer 02.jpg"/>
          <p:cNvPicPr/>
          <p:nvPr/>
        </p:nvPicPr>
        <p:blipFill>
          <a:blip r:embed="rId5"/>
          <a:stretch/>
        </p:blipFill>
        <p:spPr>
          <a:xfrm>
            <a:off x="900000" y="4867200"/>
            <a:ext cx="638280" cy="540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4" descr="C:\Users\06075\Desktop\Icons for Topology\Computer 02.jpg"/>
          <p:cNvPicPr/>
          <p:nvPr/>
        </p:nvPicPr>
        <p:blipFill>
          <a:blip r:embed="rId6"/>
          <a:stretch/>
        </p:blipFill>
        <p:spPr>
          <a:xfrm>
            <a:off x="2268360" y="4869000"/>
            <a:ext cx="638280" cy="539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4" descr="C:\Users\06075\Desktop\Icons for Topology\Computer 02.jpg"/>
          <p:cNvPicPr/>
          <p:nvPr/>
        </p:nvPicPr>
        <p:blipFill>
          <a:blip r:embed="rId7"/>
          <a:stretch/>
        </p:blipFill>
        <p:spPr>
          <a:xfrm>
            <a:off x="5508720" y="4869000"/>
            <a:ext cx="637920" cy="539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4" descr="C:\Users\06075\Desktop\Icons for Topology\Computer 02.jpg"/>
          <p:cNvPicPr/>
          <p:nvPr/>
        </p:nvPicPr>
        <p:blipFill>
          <a:blip r:embed="rId8"/>
          <a:stretch/>
        </p:blipFill>
        <p:spPr>
          <a:xfrm>
            <a:off x="6732720" y="4869000"/>
            <a:ext cx="63972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пакетов </a:t>
            </a:r>
            <a:r>
              <a:rPr b="0" lang="en-US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IGMP Snooping</a:t>
            </a:r>
            <a:r>
              <a:rPr b="0" lang="ru-RU" sz="22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539640" y="1690560"/>
            <a:ext cx="8132760" cy="44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y packet 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8001000" cy="1069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1" name="Picture 6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8001000" cy="970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2" name="Picture 7" descr=""/>
          <p:cNvPicPr/>
          <p:nvPr/>
        </p:nvPicPr>
        <p:blipFill>
          <a:blip r:embed="rId3"/>
          <a:stretch/>
        </p:blipFill>
        <p:spPr>
          <a:xfrm>
            <a:off x="609480" y="4648320"/>
            <a:ext cx="8001000" cy="1041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33" name="矩形 11"/>
          <p:cNvSpPr/>
          <p:nvPr/>
        </p:nvSpPr>
        <p:spPr>
          <a:xfrm>
            <a:off x="503280" y="3048120"/>
            <a:ext cx="1614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8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report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34" name="矩形 13"/>
          <p:cNvSpPr/>
          <p:nvPr/>
        </p:nvSpPr>
        <p:spPr>
          <a:xfrm>
            <a:off x="513000" y="4343400"/>
            <a:ext cx="1523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8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leave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D-Link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1219320" y="1676520"/>
            <a:ext cx="67374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33a3a3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Решения для передачи 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Multicast</a:t>
            </a:r>
            <a:r>
              <a:rPr b="0" lang="ru-RU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 трафика</a:t>
            </a:r>
            <a:r>
              <a:rPr b="0" lang="en-US" sz="24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99ccff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IGMP Querier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Fast Leave 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lter unregistered group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 Port Multicast Stream Control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Snooping Multicast VLAN (D-Link ISM VLAN)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IM-SM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Access Authentication</a:t>
            </a: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lvl="1" marL="743040" indent="-285840">
              <a:lnSpc>
                <a:spcPct val="140000"/>
              </a:lnSpc>
              <a:spcAft>
                <a:spcPts val="1026"/>
              </a:spcAft>
              <a:buClr>
                <a:srgbClr val="33a3a3"/>
              </a:buClr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  <a:p>
            <a:pPr marL="343080" indent="-343080">
              <a:lnSpc>
                <a:spcPct val="130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Line 6"/>
          <p:cNvSpPr/>
          <p:nvPr/>
        </p:nvSpPr>
        <p:spPr>
          <a:xfrm>
            <a:off x="1946160" y="1722600"/>
            <a:ext cx="0" cy="723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40000" y="178920"/>
            <a:ext cx="6657840" cy="10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a3a3"/>
                </a:solidFill>
                <a:latin typeface="Arial Unicode MS"/>
              </a:rPr>
              <a:t>IGMP Querier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9" name="Line 4"/>
          <p:cNvSpPr/>
          <p:nvPr/>
        </p:nvSpPr>
        <p:spPr>
          <a:xfrm flipV="1">
            <a:off x="1305000" y="3986280"/>
            <a:ext cx="309600" cy="95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2235240" y="3986280"/>
            <a:ext cx="309600" cy="95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41" name="Line 6"/>
          <p:cNvSpPr/>
          <p:nvPr/>
        </p:nvSpPr>
        <p:spPr>
          <a:xfrm>
            <a:off x="1925640" y="2921040"/>
            <a:ext cx="0" cy="712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242" name="Group 11"/>
          <p:cNvGrpSpPr/>
          <p:nvPr/>
        </p:nvGrpSpPr>
        <p:grpSpPr>
          <a:xfrm>
            <a:off x="755640" y="3038400"/>
            <a:ext cx="1379520" cy="474480"/>
            <a:chOff x="755640" y="3038400"/>
            <a:chExt cx="1379520" cy="474480"/>
          </a:xfrm>
        </p:grpSpPr>
        <p:sp>
          <p:nvSpPr>
            <p:cNvPr id="243" name="Line 12"/>
            <p:cNvSpPr/>
            <p:nvPr/>
          </p:nvSpPr>
          <p:spPr>
            <a:xfrm>
              <a:off x="1828800" y="3038400"/>
              <a:ext cx="0" cy="474480"/>
            </a:xfrm>
            <a:prstGeom prst="line">
              <a:avLst/>
            </a:prstGeom>
            <a:ln w="15840">
              <a:solidFill>
                <a:srgbClr val="92d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  <p:sp>
          <p:nvSpPr>
            <p:cNvPr id="244" name="Rectangle 13"/>
            <p:cNvSpPr/>
            <p:nvPr/>
          </p:nvSpPr>
          <p:spPr>
            <a:xfrm>
              <a:off x="755640" y="3166920"/>
              <a:ext cx="137952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2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IGMP Query</a:t>
              </a:r>
              <a:endParaRPr b="0" lang="en-US" sz="1200" spc="-1" strike="noStrike">
                <a:solidFill>
                  <a:srgbClr val="000000"/>
                </a:solidFill>
                <a:latin typeface="DejaVu Sans Condensed"/>
              </a:endParaRPr>
            </a:p>
          </p:txBody>
        </p:sp>
      </p:grpSp>
      <p:sp>
        <p:nvSpPr>
          <p:cNvPr id="245" name="Rectangle 33"/>
          <p:cNvSpPr/>
          <p:nvPr/>
        </p:nvSpPr>
        <p:spPr>
          <a:xfrm>
            <a:off x="1522080" y="4940280"/>
            <a:ext cx="3866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46" name="Rectangle 34"/>
          <p:cNvSpPr/>
          <p:nvPr/>
        </p:nvSpPr>
        <p:spPr>
          <a:xfrm>
            <a:off x="2890440" y="4940280"/>
            <a:ext cx="38664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247" name="Picture 44" descr="des-3828"/>
          <p:cNvPicPr/>
          <p:nvPr/>
        </p:nvPicPr>
        <p:blipFill>
          <a:blip r:embed="rId1"/>
          <a:stretch/>
        </p:blipFill>
        <p:spPr>
          <a:xfrm>
            <a:off x="380880" y="2409840"/>
            <a:ext cx="2451240" cy="549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4" descr="DGS-3100-48"/>
          <p:cNvPicPr/>
          <p:nvPr/>
        </p:nvPicPr>
        <p:blipFill>
          <a:blip r:embed="rId2"/>
          <a:srcRect l="0" t="28276" r="0" b="28355"/>
          <a:stretch/>
        </p:blipFill>
        <p:spPr>
          <a:xfrm>
            <a:off x="684360" y="3454560"/>
            <a:ext cx="2239920" cy="971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900000" y="4892760"/>
            <a:ext cx="638280" cy="539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4" descr="C:\Users\06075\Desktop\Icons for Topology\Computer 02.jpg"/>
          <p:cNvPicPr/>
          <p:nvPr/>
        </p:nvPicPr>
        <p:blipFill>
          <a:blip r:embed="rId4"/>
          <a:stretch/>
        </p:blipFill>
        <p:spPr>
          <a:xfrm>
            <a:off x="2268360" y="4894200"/>
            <a:ext cx="638280" cy="53964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8"/>
          <p:cNvSpPr/>
          <p:nvPr/>
        </p:nvSpPr>
        <p:spPr>
          <a:xfrm>
            <a:off x="2184120" y="1239840"/>
            <a:ext cx="118512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dia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52" name="Line 9"/>
          <p:cNvSpPr/>
          <p:nvPr/>
        </p:nvSpPr>
        <p:spPr>
          <a:xfrm>
            <a:off x="1865160" y="1844640"/>
            <a:ext cx="0" cy="480960"/>
          </a:xfrm>
          <a:prstGeom prst="line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 Condensed"/>
            </a:endParaRPr>
          </a:p>
        </p:txBody>
      </p:sp>
      <p:pic>
        <p:nvPicPr>
          <p:cNvPr id="253" name="Picture 15" descr="C:\Users\06075\Desktop\Icons for Topology\Computer 01.jpg"/>
          <p:cNvPicPr/>
          <p:nvPr/>
        </p:nvPicPr>
        <p:blipFill>
          <a:blip r:embed="rId5"/>
          <a:stretch/>
        </p:blipFill>
        <p:spPr>
          <a:xfrm>
            <a:off x="1668600" y="1052640"/>
            <a:ext cx="496800" cy="6778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0"/>
          <p:cNvSpPr/>
          <p:nvPr/>
        </p:nvSpPr>
        <p:spPr>
          <a:xfrm>
            <a:off x="660240" y="1957320"/>
            <a:ext cx="12477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Поток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Multicast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2834280" y="2460600"/>
            <a:ext cx="1163880" cy="2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 Querier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grpSp>
        <p:nvGrpSpPr>
          <p:cNvPr id="256" name="Группа 34"/>
          <p:cNvGrpSpPr/>
          <p:nvPr/>
        </p:nvGrpSpPr>
        <p:grpSpPr>
          <a:xfrm>
            <a:off x="250920" y="4218120"/>
            <a:ext cx="3612960" cy="556920"/>
            <a:chOff x="250920" y="4218120"/>
            <a:chExt cx="3612960" cy="556920"/>
          </a:xfrm>
        </p:grpSpPr>
        <p:grpSp>
          <p:nvGrpSpPr>
            <p:cNvPr id="257" name="Группа 32"/>
            <p:cNvGrpSpPr/>
            <p:nvPr/>
          </p:nvGrpSpPr>
          <p:grpSpPr>
            <a:xfrm>
              <a:off x="250920" y="4319280"/>
              <a:ext cx="1379880" cy="455760"/>
              <a:chOff x="250920" y="4319280"/>
              <a:chExt cx="1379880" cy="455760"/>
            </a:xfrm>
          </p:grpSpPr>
          <p:sp>
            <p:nvSpPr>
              <p:cNvPr id="258" name="Line 47"/>
              <p:cNvSpPr/>
              <p:nvPr/>
            </p:nvSpPr>
            <p:spPr>
              <a:xfrm flipH="1">
                <a:off x="1258920" y="4319280"/>
                <a:ext cx="152280" cy="455760"/>
              </a:xfrm>
              <a:prstGeom prst="line">
                <a:avLst/>
              </a:prstGeom>
              <a:ln w="15840">
                <a:solidFill>
                  <a:srgbClr val="92d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 Condensed"/>
                </a:endParaRPr>
              </a:p>
            </p:txBody>
          </p:sp>
          <p:sp>
            <p:nvSpPr>
              <p:cNvPr id="259" name="Rectangle 13"/>
              <p:cNvSpPr/>
              <p:nvPr/>
            </p:nvSpPr>
            <p:spPr>
              <a:xfrm>
                <a:off x="250920" y="4390920"/>
                <a:ext cx="1379880" cy="27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200" spc="-1" strike="noStrike">
                    <a:solidFill>
                      <a:srgbClr val="92d050"/>
                    </a:solidFill>
                    <a:latin typeface="Arial Unicode MS"/>
                    <a:ea typeface="Arial Unicode MS"/>
                  </a:rPr>
                  <a:t>IGMP Query</a:t>
                </a:r>
                <a:endParaRPr b="0" lang="en-US" sz="1200" spc="-1" strike="noStrike">
                  <a:solidFill>
                    <a:srgbClr val="000000"/>
                  </a:solidFill>
                  <a:latin typeface="DejaVu Sans Condensed"/>
                </a:endParaRPr>
              </a:p>
            </p:txBody>
          </p:sp>
        </p:grpSp>
        <p:grpSp>
          <p:nvGrpSpPr>
            <p:cNvPr id="260" name="Группа 33"/>
            <p:cNvGrpSpPr/>
            <p:nvPr/>
          </p:nvGrpSpPr>
          <p:grpSpPr>
            <a:xfrm>
              <a:off x="2412000" y="4218120"/>
              <a:ext cx="1451880" cy="460080"/>
              <a:chOff x="2412000" y="4218120"/>
              <a:chExt cx="1451880" cy="460080"/>
            </a:xfrm>
          </p:grpSpPr>
          <p:sp>
            <p:nvSpPr>
              <p:cNvPr id="261" name="Line 15"/>
              <p:cNvSpPr/>
              <p:nvPr/>
            </p:nvSpPr>
            <p:spPr>
              <a:xfrm>
                <a:off x="2412000" y="4218120"/>
                <a:ext cx="144000" cy="460080"/>
              </a:xfrm>
              <a:prstGeom prst="line">
                <a:avLst/>
              </a:prstGeom>
              <a:ln w="15840">
                <a:solidFill>
                  <a:srgbClr val="92d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 Condensed"/>
                </a:endParaRPr>
              </a:p>
            </p:txBody>
          </p:sp>
          <p:sp>
            <p:nvSpPr>
              <p:cNvPr id="262" name="Rectangle 13"/>
              <p:cNvSpPr/>
              <p:nvPr/>
            </p:nvSpPr>
            <p:spPr>
              <a:xfrm>
                <a:off x="2484000" y="4332600"/>
                <a:ext cx="1379880" cy="27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8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200" spc="-1" strike="noStrike">
                    <a:solidFill>
                      <a:srgbClr val="92d050"/>
                    </a:solidFill>
                    <a:latin typeface="Arial Unicode MS"/>
                    <a:ea typeface="Arial Unicode MS"/>
                  </a:rPr>
                  <a:t>IGMP Query</a:t>
                </a:r>
                <a:endParaRPr b="0" lang="en-US" sz="1200" spc="-1" strike="noStrike">
                  <a:solidFill>
                    <a:srgbClr val="000000"/>
                  </a:solidFill>
                  <a:latin typeface="DejaVu Sans Condensed"/>
                </a:endParaRPr>
              </a:p>
            </p:txBody>
          </p:sp>
        </p:grpSp>
      </p:grpSp>
      <p:sp>
        <p:nvSpPr>
          <p:cNvPr id="263" name="Rectangle 10"/>
          <p:cNvSpPr/>
          <p:nvPr/>
        </p:nvSpPr>
        <p:spPr>
          <a:xfrm>
            <a:off x="3995640" y="1150920"/>
            <a:ext cx="48974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еханизм работы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er</a:t>
            </a:r>
            <a:endParaRPr b="0" lang="en-US" sz="14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er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ссыла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y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бщения н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224.0.0.1)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TL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вным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вал отсылк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y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бщений можно задать от 1 секунды и до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*смотрите документацию для конкретной модели коммутатора*. По умолчанию стоит 125 секунд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GMPv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ддерживает механизм выборов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e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а в случае, когда в сети есть несколько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e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ов. Но, поскольку, выборы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e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а могут нести побочные эффекты, то рекомендуется назначать одного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e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а в одной подсети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er 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слеживает клиентски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oin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бщения(сообщение о вступление в группу рассылки),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eave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сообщения(сообщение об  отписке от группы) 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or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бщения(сообщение о том, что клиент еще является подписчиком группы). Данный механизм ускоряет подписку и отписку на группы рассылки.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08000" y="5516640"/>
            <a:ext cx="90360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rier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хема: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_snooping querier  [vlan_name &lt;vlan_name 32&gt; | all]{ query_interval &lt;sec 1-65535&gt;</a:t>
            </a:r>
            <a:r>
              <a:rPr b="0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state [enable | disable]| version &lt;value 1-3&gt; }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3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хема: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igmp [ipif &lt;ipif_name 12&gt;|all] { version &lt;value 1-3&gt; | query_interval &lt;sec 1-31744&gt; | state [enable | disable]} </a:t>
            </a:r>
            <a:r>
              <a:rPr b="1" lang="en-US" sz="1200" spc="-1" strike="noStrike">
                <a:solidFill>
                  <a:srgbClr val="000000"/>
                </a:solidFill>
                <a:latin typeface="DejaVu Sans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DejaVu Sans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DejaVu Sans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remove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13:00:51Z</dcterms:created>
  <dc:creator>Ruslan</dc:creator>
  <dc:description/>
  <dc:language>en-US</dc:language>
  <cp:lastModifiedBy>Ruslan</cp:lastModifiedBy>
  <dcterms:modified xsi:type="dcterms:W3CDTF">2011-08-24T12:20:59Z</dcterms:modified>
  <cp:revision>256</cp:revision>
  <dc:subject/>
  <dc:title>Слайд 1</dc:title>
</cp:coreProperties>
</file>