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_rels/notesSlide77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77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50.wmf" ContentType="image/x-wmf"/>
  <Override PartName="/ppt/media/image2.jpeg" ContentType="image/jpeg"/>
  <Override PartName="/ppt/media/image20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42.png" ContentType="image/png"/>
  <Override PartName="/ppt/media/image43.png" ContentType="image/png"/>
  <Override PartName="/ppt/media/image54.png" ContentType="image/png"/>
  <Override PartName="/ppt/media/image41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13.png" ContentType="image/png"/>
  <Override PartName="/ppt/media/image40.png" ContentType="image/png"/>
  <Override PartName="/ppt/media/image48.png" ContentType="image/png"/>
  <Override PartName="/ppt/media/image51.wmf" ContentType="image/x-wmf"/>
  <Override PartName="/ppt/media/image49.wmf" ContentType="image/x-wmf"/>
  <Override PartName="/ppt/media/image31.png" ContentType="image/png"/>
  <Override PartName="/ppt/media/image29.png" ContentType="image/png"/>
  <Override PartName="/ppt/media/image52.wmf" ContentType="image/x-wmf"/>
  <Override PartName="/ppt/media/image32.png" ContentType="image/png"/>
  <Override PartName="/ppt/media/image53.png" ContentType="image/png"/>
  <Override PartName="/ppt/media/image39.wmf" ContentType="image/x-wmf"/>
  <Override PartName="/ppt/media/image37.png" ContentType="image/png"/>
  <Override PartName="/ppt/media/image33.png" ContentType="image/png"/>
  <Override PartName="/ppt/media/image9.png" ContentType="image/png"/>
  <Override PartName="/ppt/media/image6.png" ContentType="image/png"/>
  <Override PartName="/ppt/media/image36.png" ContentType="image/png"/>
  <Override PartName="/ppt/media/image38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2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83200" cy="1003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AutoShape 1"/>
          <p:cNvSpPr/>
          <p:nvPr/>
        </p:nvSpPr>
        <p:spPr>
          <a:xfrm>
            <a:off x="0" y="0"/>
            <a:ext cx="6883560" cy="10032840"/>
          </a:xfrm>
          <a:custGeom>
            <a:avLst/>
            <a:gdLst>
              <a:gd name="textAreaLeft" fmla="*/ 360 w 6883560"/>
              <a:gd name="textAreaRight" fmla="*/ 6883200 w 6883560"/>
              <a:gd name="textAreaTop" fmla="*/ 360 h 10032840"/>
              <a:gd name="textAreaBottom" fmla="*/ 10032480 h 10032840"/>
            </a:gdLst>
            <a:ahLst/>
            <a:rect l="textAreaLeft" t="textAreaTop" r="textAreaRight" b="textAreaBottom"/>
            <a:pathLst>
              <a:path w="21600" h="31482">
                <a:moveTo>
                  <a:pt x="4" y="0"/>
                </a:moveTo>
                <a:arcTo wR="4" hR="4" stAng="16200000" swAng="-5400000"/>
                <a:lnTo>
                  <a:pt x="0" y="31478"/>
                </a:lnTo>
                <a:arcTo wR="4" hR="4" stAng="10800000" swAng="-5400000"/>
                <a:lnTo>
                  <a:pt x="21596" y="3148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0" y="0"/>
            <a:ext cx="6883560" cy="10032840"/>
          </a:xfrm>
          <a:custGeom>
            <a:avLst/>
            <a:gdLst>
              <a:gd name="textAreaLeft" fmla="*/ 360 w 6883560"/>
              <a:gd name="textAreaRight" fmla="*/ 6883200 w 6883560"/>
              <a:gd name="textAreaTop" fmla="*/ 360 h 10032840"/>
              <a:gd name="textAreaBottom" fmla="*/ 10032480 h 10032840"/>
            </a:gdLst>
            <a:ahLst/>
            <a:rect l="textAreaLeft" t="textAreaTop" r="textAreaRight" b="textAreaBottom"/>
            <a:pathLst>
              <a:path w="21600" h="31482">
                <a:moveTo>
                  <a:pt x="4" y="0"/>
                </a:moveTo>
                <a:arcTo wR="4" hR="4" stAng="16200000" swAng="-5400000"/>
                <a:lnTo>
                  <a:pt x="0" y="31478"/>
                </a:lnTo>
                <a:arcTo wR="4" hR="4" stAng="10800000" swAng="-5400000"/>
                <a:lnTo>
                  <a:pt x="21596" y="3148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3898800" y="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4920" y="753840"/>
            <a:ext cx="5011920" cy="375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87a5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87a5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9040" y="4764240"/>
            <a:ext cx="550224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0" y="95299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"/>
          </p:nvPr>
        </p:nvSpPr>
        <p:spPr>
          <a:xfrm>
            <a:off x="3898440" y="9529920"/>
            <a:ext cx="29797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0A26C-EACC-4D58-AB68-16D3354F41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8"/>
          <p:cNvSpPr/>
          <p:nvPr/>
        </p:nvSpPr>
        <p:spPr>
          <a:xfrm>
            <a:off x="3898800" y="9529920"/>
            <a:ext cx="297972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939887-F179-443E-BE81-68864C1809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934920" y="754200"/>
            <a:ext cx="5015160" cy="376056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8680" y="4763880"/>
            <a:ext cx="55054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747" name="Text Box 3"/>
          <p:cNvSpPr/>
          <p:nvPr/>
        </p:nvSpPr>
        <p:spPr>
          <a:xfrm>
            <a:off x="3898800" y="95299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3731A-2A20-453C-AB91-90A8E6F85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8"/>
          <p:cNvSpPr/>
          <p:nvPr/>
        </p:nvSpPr>
        <p:spPr>
          <a:xfrm>
            <a:off x="3898800" y="9529920"/>
            <a:ext cx="297972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D787B-73BA-47C4-ADC1-F230F89BCC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934920" y="754200"/>
            <a:ext cx="5015160" cy="376056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9040" y="4764240"/>
            <a:ext cx="5503680" cy="45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34920" y="754200"/>
            <a:ext cx="5011920" cy="375732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9040" y="4764240"/>
            <a:ext cx="550224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Номер слайда 3"/>
          <p:cNvSpPr/>
          <p:nvPr/>
        </p:nvSpPr>
        <p:spPr>
          <a:xfrm>
            <a:off x="3898800" y="9529920"/>
            <a:ext cx="297972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9BC2D-7801-4ED1-AA73-66B84A5C82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8"/>
          <p:cNvSpPr/>
          <p:nvPr/>
        </p:nvSpPr>
        <p:spPr>
          <a:xfrm>
            <a:off x="3898800" y="9529920"/>
            <a:ext cx="297972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5F1E5-C876-40FC-88D3-59D5342E6E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934920" y="754200"/>
            <a:ext cx="5015160" cy="376056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9040" y="4764240"/>
            <a:ext cx="5503680" cy="45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86342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0920" y="3439800"/>
            <a:ext cx="86342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09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53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0160" y="107964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9400" y="107964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0920" y="343980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0160" y="343980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9400" y="343980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079640"/>
            <a:ext cx="86342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86342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560" y="178920"/>
            <a:ext cx="822636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0920" y="1079640"/>
            <a:ext cx="86342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53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3439800"/>
            <a:ext cx="86342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86342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3439800"/>
            <a:ext cx="86342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53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107964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9400" y="107964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343980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43980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9400" y="343980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0920" y="1079640"/>
            <a:ext cx="86342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86342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86342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50560" y="178920"/>
            <a:ext cx="822636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509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53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50920" y="3439800"/>
            <a:ext cx="86342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86342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50920" y="3439800"/>
            <a:ext cx="86342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509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53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70160" y="107964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89400" y="107964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50920" y="343980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70160" y="343980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89400" y="343980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50920" y="1079640"/>
            <a:ext cx="86342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86342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50560" y="178920"/>
            <a:ext cx="822636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509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53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50920" y="3439800"/>
            <a:ext cx="86342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86342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50920" y="3439800"/>
            <a:ext cx="86342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509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53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107964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89400" y="107964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50920" y="343980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43980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89400" y="3439800"/>
            <a:ext cx="277992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50560" y="178920"/>
            <a:ext cx="8226360" cy="44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09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5320" y="343980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09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1079640"/>
            <a:ext cx="42134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0920" y="3439800"/>
            <a:ext cx="86342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178920"/>
            <a:ext cx="863424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87a5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87a5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079640"/>
            <a:ext cx="863424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3"/>
          <p:cNvSpPr/>
          <p:nvPr/>
        </p:nvSpPr>
        <p:spPr>
          <a:xfrm>
            <a:off x="0" y="861840"/>
            <a:ext cx="9144000" cy="1800"/>
          </a:xfrm>
          <a:prstGeom prst="line">
            <a:avLst/>
          </a:prstGeom>
          <a:ln cap="rnd" w="158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-3240" y="6140520"/>
            <a:ext cx="9150480" cy="73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" descr=""/>
          <p:cNvPicPr/>
          <p:nvPr/>
        </p:nvPicPr>
        <p:blipFill>
          <a:blip r:embed="rId2"/>
          <a:stretch/>
        </p:blipFill>
        <p:spPr>
          <a:xfrm>
            <a:off x="0" y="-4680"/>
            <a:ext cx="9140760" cy="61959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0920" y="1079640"/>
            <a:ext cx="86342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863640"/>
            <a:ext cx="9144000" cy="1440"/>
          </a:xfrm>
          <a:prstGeom prst="line">
            <a:avLst/>
          </a:prstGeom>
          <a:ln cap="rnd" w="158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-3240" y="6140520"/>
            <a:ext cx="9150480" cy="731880"/>
          </a:xfrm>
          <a:prstGeom prst="rect">
            <a:avLst/>
          </a:prstGeom>
          <a:ln w="0">
            <a:noFill/>
          </a:ln>
        </p:spPr>
      </p:pic>
      <p:sp>
        <p:nvSpPr>
          <p:cNvPr id="45" name="Line 6"/>
          <p:cNvSpPr/>
          <p:nvPr/>
        </p:nvSpPr>
        <p:spPr>
          <a:xfrm>
            <a:off x="0" y="6146640"/>
            <a:ext cx="914400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87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-3240" y="6140520"/>
            <a:ext cx="9150480" cy="731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560" y="178920"/>
            <a:ext cx="822636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50920" y="1079640"/>
            <a:ext cx="86342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Line 5"/>
          <p:cNvSpPr/>
          <p:nvPr/>
        </p:nvSpPr>
        <p:spPr>
          <a:xfrm>
            <a:off x="0" y="863640"/>
            <a:ext cx="9144000" cy="1440"/>
          </a:xfrm>
          <a:prstGeom prst="line">
            <a:avLst/>
          </a:prstGeom>
          <a:ln cap="rnd" w="158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Line 6"/>
          <p:cNvSpPr/>
          <p:nvPr/>
        </p:nvSpPr>
        <p:spPr>
          <a:xfrm>
            <a:off x="0" y="6146640"/>
            <a:ext cx="914400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2"/>
          <a:stretch/>
        </p:blipFill>
        <p:spPr>
          <a:xfrm>
            <a:off x="996840" y="0"/>
            <a:ext cx="8147160" cy="613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3"/>
          <a:stretch/>
        </p:blipFill>
        <p:spPr>
          <a:xfrm>
            <a:off x="-3240" y="6140520"/>
            <a:ext cx="9150480" cy="7318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178920"/>
            <a:ext cx="863424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87a5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87a5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250920" y="1079640"/>
            <a:ext cx="8634240" cy="38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image" Target="../media/image40.png"/><Relationship Id="rId8" Type="http://schemas.openxmlformats.org/officeDocument/2006/relationships/image" Target="../media/image40.png"/><Relationship Id="rId9" Type="http://schemas.openxmlformats.org/officeDocument/2006/relationships/image" Target="../media/image40.png"/><Relationship Id="rId10" Type="http://schemas.openxmlformats.org/officeDocument/2006/relationships/image" Target="../media/image40.png"/><Relationship Id="rId11" Type="http://schemas.openxmlformats.org/officeDocument/2006/relationships/image" Target="../media/image41.jpeg"/><Relationship Id="rId12" Type="http://schemas.openxmlformats.org/officeDocument/2006/relationships/image" Target="../media/image41.jpeg"/><Relationship Id="rId1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11.jpe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0.wmf"/><Relationship Id="rId7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53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hyperlink" Target="ftp://ftp.dlink.ru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250920" y="387360"/>
            <a:ext cx="5317920" cy="37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Технологии, применяемые при построении сетей на основе коммутаторов </a:t>
            </a:r>
            <a:br>
              <a:rPr sz="3200"/>
            </a:br>
            <a:r>
              <a:rPr b="1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D-Lin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Расширенный функциона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Text Box 2" descr=""/>
          <p:cNvPicPr/>
          <p:nvPr/>
        </p:nvPicPr>
        <p:blipFill>
          <a:blip r:embed="rId1"/>
          <a:stretch/>
        </p:blipFill>
        <p:spPr>
          <a:xfrm>
            <a:off x="176040" y="5121360"/>
            <a:ext cx="5938920" cy="106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87a9"/>
                </a:solidFill>
                <a:latin typeface="Arial"/>
                <a:ea typeface="Arial"/>
              </a:rPr>
              <a:t>IP-MAC-Port Bind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Введение 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500040" y="1125360"/>
            <a:ext cx="821520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вед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-Link IP-MAC-Port Binding (IMPB) –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то мощная, интегрированная функция для идентификации подключенного к сети устройства, которая гарантирует правильность связки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C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а,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а и порта подключения. Она отслеживает информацию у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, DHCP, ND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ли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v4/v6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пакетов, чтобы удостовериться, что все они от легальных источников, и предотвратить утечку данных к хакерам, прикидывающихся легальными сетевыми устройствам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Где использовать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B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митируя шлюз или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ли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C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 компьютера, хакеры могут парализовать Интернет связь или тайно похищать важные данные. Сегодня очень много хакерских инструментов(программное обеспечение) можно найти в Интернете, и любой конечный пользователь  может их скачать и использовать в своих целях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-Link IMPB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функция помогает изолировать нелегальные устройства или хакеров. Она подходит для применения на коммутаторах уровня доступа в сетях различного тип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87a9"/>
                </a:solidFill>
                <a:latin typeface="Arial"/>
                <a:ea typeface="Arial"/>
              </a:rPr>
              <a:t>IP-MAC-Port Bind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Проблема, вызванная неправильным управлением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IP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500040" y="1125360"/>
            <a:ext cx="821520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блема аудит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ктуальные механизмы аудита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такие как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yslog, application log, firewall log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т.д.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азируются на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формации. Информация лога бессмысленна, если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ожет быть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зменён пользователем без какого-либо контроля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блема конфликта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о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нфликт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ов – это самая распространённая проблема в современных сетях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льзователи меняют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 вручную и происходит конфликт с другими ресурсами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акими как пользовательские компьютеры, коммутаторы, маршрутизаторы или сервер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6" name="Group 51"/>
          <p:cNvGrpSpPr/>
          <p:nvPr/>
        </p:nvGrpSpPr>
        <p:grpSpPr>
          <a:xfrm>
            <a:off x="468360" y="3045240"/>
            <a:ext cx="7815240" cy="2655360"/>
            <a:chOff x="468360" y="3045240"/>
            <a:chExt cx="7815240" cy="2655360"/>
          </a:xfrm>
        </p:grpSpPr>
        <p:pic>
          <p:nvPicPr>
            <p:cNvPr id="207" name="Picture 15" descr="C:\Users\06075\Desktop\Icons for Topology\Computer 01.jpg"/>
            <p:cNvPicPr/>
            <p:nvPr/>
          </p:nvPicPr>
          <p:blipFill>
            <a:blip r:embed="rId1"/>
            <a:stretch/>
          </p:blipFill>
          <p:spPr>
            <a:xfrm>
              <a:off x="539640" y="4287600"/>
              <a:ext cx="687240" cy="9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Line 3"/>
            <p:cNvSpPr/>
            <p:nvPr/>
          </p:nvSpPr>
          <p:spPr>
            <a:xfrm flipH="1">
              <a:off x="1245600" y="4719600"/>
              <a:ext cx="86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9" name="Text Box 4"/>
            <p:cNvSpPr/>
            <p:nvPr/>
          </p:nvSpPr>
          <p:spPr>
            <a:xfrm>
              <a:off x="5472360" y="3732120"/>
              <a:ext cx="1319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92.168.1.1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E0-0211-1111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0" name="Text Box 5"/>
            <p:cNvSpPr/>
            <p:nvPr/>
          </p:nvSpPr>
          <p:spPr>
            <a:xfrm>
              <a:off x="5456520" y="4435200"/>
              <a:ext cx="1319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92.168.1.2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E0-0211-2222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1" name="Text Box 8"/>
            <p:cNvSpPr/>
            <p:nvPr/>
          </p:nvSpPr>
          <p:spPr>
            <a:xfrm>
              <a:off x="5432400" y="5229000"/>
              <a:ext cx="1319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92.168.1.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00E0-0211-3333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2" name="AutoShape 13"/>
            <p:cNvSpPr/>
            <p:nvPr/>
          </p:nvSpPr>
          <p:spPr>
            <a:xfrm>
              <a:off x="6772320" y="3366360"/>
              <a:ext cx="1511280" cy="1281960"/>
            </a:xfrm>
            <a:prstGeom prst="irregularSeal1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Конфликт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IP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3" name="Line 15"/>
            <p:cNvSpPr/>
            <p:nvPr/>
          </p:nvSpPr>
          <p:spPr>
            <a:xfrm>
              <a:off x="3867120" y="4620960"/>
              <a:ext cx="86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14" name="Group 32"/>
            <p:cNvGrpSpPr/>
            <p:nvPr/>
          </p:nvGrpSpPr>
          <p:grpSpPr>
            <a:xfrm>
              <a:off x="3878280" y="4687920"/>
              <a:ext cx="852480" cy="574560"/>
              <a:chOff x="3878280" y="4687920"/>
              <a:chExt cx="852480" cy="574560"/>
            </a:xfrm>
          </p:grpSpPr>
          <p:sp>
            <p:nvSpPr>
              <p:cNvPr id="215" name="Line 17"/>
              <p:cNvSpPr/>
              <p:nvPr/>
            </p:nvSpPr>
            <p:spPr>
              <a:xfrm>
                <a:off x="4343400" y="5262480"/>
                <a:ext cx="387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6" name="Line 21"/>
              <p:cNvSpPr/>
              <p:nvPr/>
            </p:nvSpPr>
            <p:spPr>
              <a:xfrm>
                <a:off x="3878280" y="4687920"/>
                <a:ext cx="476280" cy="57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17" name="Group 31"/>
            <p:cNvGrpSpPr/>
            <p:nvPr/>
          </p:nvGrpSpPr>
          <p:grpSpPr>
            <a:xfrm>
              <a:off x="3878280" y="3978000"/>
              <a:ext cx="833400" cy="563400"/>
              <a:chOff x="3878280" y="3978000"/>
              <a:chExt cx="833400" cy="563400"/>
            </a:xfrm>
          </p:grpSpPr>
          <p:sp>
            <p:nvSpPr>
              <p:cNvPr id="218" name="Line 16"/>
              <p:cNvSpPr/>
              <p:nvPr/>
            </p:nvSpPr>
            <p:spPr>
              <a:xfrm>
                <a:off x="4324320" y="3985920"/>
                <a:ext cx="387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9" name="Line 22"/>
              <p:cNvSpPr/>
              <p:nvPr/>
            </p:nvSpPr>
            <p:spPr>
              <a:xfrm flipH="1">
                <a:off x="3878280" y="3978000"/>
                <a:ext cx="466560" cy="563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pic>
          <p:nvPicPr>
            <p:cNvPr id="220" name="Picture 14" descr="C:\Users\06075\Desktop\Icons for Topology\Computer 02.jpg"/>
            <p:cNvPicPr/>
            <p:nvPr/>
          </p:nvPicPr>
          <p:blipFill>
            <a:blip r:embed="rId2"/>
            <a:stretch/>
          </p:blipFill>
          <p:spPr>
            <a:xfrm>
              <a:off x="4730760" y="3740040"/>
              <a:ext cx="647640" cy="5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14" descr="C:\Users\06075\Desktop\Icons for Topology\Computer 02.jpg"/>
            <p:cNvPicPr/>
            <p:nvPr/>
          </p:nvPicPr>
          <p:blipFill>
            <a:blip r:embed="rId3"/>
            <a:stretch/>
          </p:blipFill>
          <p:spPr>
            <a:xfrm>
              <a:off x="4730760" y="4432320"/>
              <a:ext cx="647640" cy="5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14" descr="C:\Users\06075\Desktop\Icons for Topology\Computer 02.jpg"/>
            <p:cNvPicPr/>
            <p:nvPr/>
          </p:nvPicPr>
          <p:blipFill>
            <a:blip r:embed="rId4"/>
            <a:stretch/>
          </p:blipFill>
          <p:spPr>
            <a:xfrm>
              <a:off x="4730760" y="5153040"/>
              <a:ext cx="647640" cy="5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50" descr="DGS-3627"/>
            <p:cNvPicPr/>
            <p:nvPr/>
          </p:nvPicPr>
          <p:blipFill>
            <a:blip r:embed="rId5"/>
            <a:srcRect l="0" t="35823" r="0" b="35909"/>
            <a:stretch/>
          </p:blipFill>
          <p:spPr>
            <a:xfrm>
              <a:off x="1947600" y="4292640"/>
              <a:ext cx="208764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AutoShape 27"/>
            <p:cNvSpPr/>
            <p:nvPr/>
          </p:nvSpPr>
          <p:spPr>
            <a:xfrm>
              <a:off x="468360" y="3045240"/>
              <a:ext cx="1763640" cy="2064240"/>
            </a:xfrm>
            <a:prstGeom prst="irregularSeal1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3366ff"/>
                  </a:solidFill>
                  <a:latin typeface="Arial Unicode MS"/>
                  <a:ea typeface="Arial Unicode MS"/>
                </a:rPr>
                <a:t>Проблема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3366ff"/>
                  </a:solidFill>
                  <a:latin typeface="Arial Unicode MS"/>
                  <a:ea typeface="Arial Unicode MS"/>
                </a:rPr>
                <a:t>аудита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25" name="AutoShape 13"/>
          <p:cNvSpPr/>
          <p:nvPr/>
        </p:nvSpPr>
        <p:spPr>
          <a:xfrm>
            <a:off x="6804000" y="4699800"/>
            <a:ext cx="1513080" cy="1281960"/>
          </a:xfrm>
          <a:prstGeom prst="irregularSeal1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Конфликт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IP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3"/>
          <p:cNvSpPr/>
          <p:nvPr/>
        </p:nvSpPr>
        <p:spPr>
          <a:xfrm>
            <a:off x="500040" y="981000"/>
            <a:ext cx="82152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-MAC-Port Binding DHCP Snoop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B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зучит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C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а клиента и автоматически и сохранит их в локальной базе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олько клиентский трафик, у которого связка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C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совпадает с сохраненной в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елом листе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”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будет проброшен коммутатором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7" name="Group 57"/>
          <p:cNvGrpSpPr/>
          <p:nvPr/>
        </p:nvGrpSpPr>
        <p:grpSpPr>
          <a:xfrm>
            <a:off x="5219640" y="2911320"/>
            <a:ext cx="2591640" cy="1439640"/>
            <a:chOff x="5219640" y="2911320"/>
            <a:chExt cx="2591640" cy="1439640"/>
          </a:xfrm>
        </p:grpSpPr>
        <p:sp>
          <p:nvSpPr>
            <p:cNvPr id="228" name="Rectangle 29"/>
            <p:cNvSpPr/>
            <p:nvPr/>
          </p:nvSpPr>
          <p:spPr>
            <a:xfrm>
              <a:off x="5219640" y="2911320"/>
              <a:ext cx="2052360" cy="1439640"/>
            </a:xfrm>
            <a:prstGeom prst="rect">
              <a:avLst/>
            </a:prstGeom>
            <a:noFill/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AutoShape 55"/>
            <p:cNvSpPr/>
            <p:nvPr/>
          </p:nvSpPr>
          <p:spPr>
            <a:xfrm rot="5400000">
              <a:off x="7136280" y="3296160"/>
              <a:ext cx="677160" cy="67248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aphicFrame>
        <p:nvGraphicFramePr>
          <p:cNvPr id="230" name=""/>
          <p:cNvGraphicFramePr/>
          <p:nvPr/>
        </p:nvGraphicFramePr>
        <p:xfrm>
          <a:off x="1919160" y="5384880"/>
          <a:ext cx="3024360" cy="549360"/>
        </p:xfrm>
        <a:graphic>
          <a:graphicData uri="http://schemas.openxmlformats.org/drawingml/2006/table">
            <a:tbl>
              <a:tblPr/>
              <a:tblGrid>
                <a:gridCol w="1024200"/>
                <a:gridCol w="1280880"/>
                <a:gridCol w="719280"/>
              </a:tblGrid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92.168.1.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00E0-0211-111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Port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92.168.1.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00E0-0211-222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Port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Rectangle 18"/>
          <p:cNvSpPr/>
          <p:nvPr/>
        </p:nvSpPr>
        <p:spPr>
          <a:xfrm>
            <a:off x="2441520" y="3613320"/>
            <a:ext cx="1974960" cy="10094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Text Box 19"/>
          <p:cNvSpPr/>
          <p:nvPr/>
        </p:nvSpPr>
        <p:spPr>
          <a:xfrm>
            <a:off x="2424240" y="3257640"/>
            <a:ext cx="2017440" cy="396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 Binding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ключен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Line 20"/>
          <p:cNvSpPr/>
          <p:nvPr/>
        </p:nvSpPr>
        <p:spPr>
          <a:xfrm flipH="1">
            <a:off x="1919160" y="4135320"/>
            <a:ext cx="841680" cy="8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Line 21"/>
          <p:cNvSpPr/>
          <p:nvPr/>
        </p:nvSpPr>
        <p:spPr>
          <a:xfrm>
            <a:off x="4297320" y="4302000"/>
            <a:ext cx="6462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Text Box 22"/>
          <p:cNvSpPr/>
          <p:nvPr/>
        </p:nvSpPr>
        <p:spPr>
          <a:xfrm>
            <a:off x="1987560" y="474804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зучение адресов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Line 23"/>
          <p:cNvSpPr/>
          <p:nvPr/>
        </p:nvSpPr>
        <p:spPr>
          <a:xfrm>
            <a:off x="3564000" y="4729320"/>
            <a:ext cx="0" cy="266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Text Box 24"/>
          <p:cNvSpPr/>
          <p:nvPr/>
        </p:nvSpPr>
        <p:spPr>
          <a:xfrm>
            <a:off x="1919160" y="5035680"/>
            <a:ext cx="3024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елый список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Line 33"/>
          <p:cNvSpPr/>
          <p:nvPr/>
        </p:nvSpPr>
        <p:spPr>
          <a:xfrm flipH="1">
            <a:off x="1688760" y="411948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5971320" y="3240000"/>
            <a:ext cx="112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2.168.1.1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0E0-0211-1111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971320" y="3865680"/>
            <a:ext cx="112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2.168.1.2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0E0-0211-2222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Text Box 38"/>
          <p:cNvSpPr/>
          <p:nvPr/>
        </p:nvSpPr>
        <p:spPr>
          <a:xfrm>
            <a:off x="5971320" y="4471920"/>
            <a:ext cx="112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2.168.1.1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0E0-0211-3333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Line 39"/>
          <p:cNvSpPr/>
          <p:nvPr/>
        </p:nvSpPr>
        <p:spPr>
          <a:xfrm>
            <a:off x="4057560" y="3990960"/>
            <a:ext cx="14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Line 45"/>
          <p:cNvSpPr/>
          <p:nvPr/>
        </p:nvSpPr>
        <p:spPr>
          <a:xfrm>
            <a:off x="4202280" y="406404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Line 46"/>
          <p:cNvSpPr/>
          <p:nvPr/>
        </p:nvSpPr>
        <p:spPr>
          <a:xfrm flipH="1">
            <a:off x="4057560" y="3271680"/>
            <a:ext cx="1511280" cy="71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Text Box 32"/>
          <p:cNvSpPr/>
          <p:nvPr/>
        </p:nvSpPr>
        <p:spPr>
          <a:xfrm>
            <a:off x="5628960" y="4827600"/>
            <a:ext cx="319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7280" indent="-28728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 IP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ен вручную пользователем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Picture 59" descr=""/>
          <p:cNvPicPr/>
          <p:nvPr/>
        </p:nvPicPr>
        <p:blipFill>
          <a:blip r:embed="rId1"/>
          <a:stretch/>
        </p:blipFill>
        <p:spPr>
          <a:xfrm>
            <a:off x="4943520" y="4446720"/>
            <a:ext cx="293760" cy="2826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60"/>
          <p:cNvSpPr/>
          <p:nvPr/>
        </p:nvSpPr>
        <p:spPr>
          <a:xfrm>
            <a:off x="896040" y="4494240"/>
            <a:ext cx="93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Server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Text Box 92"/>
          <p:cNvSpPr/>
          <p:nvPr/>
        </p:nvSpPr>
        <p:spPr>
          <a:xfrm>
            <a:off x="5240880" y="2935440"/>
            <a:ext cx="45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-A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Text Box 93"/>
          <p:cNvSpPr/>
          <p:nvPr/>
        </p:nvSpPr>
        <p:spPr>
          <a:xfrm>
            <a:off x="5223960" y="3654360"/>
            <a:ext cx="45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-B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Text Box 94"/>
          <p:cNvSpPr/>
          <p:nvPr/>
        </p:nvSpPr>
        <p:spPr>
          <a:xfrm>
            <a:off x="5229720" y="4375080"/>
            <a:ext cx="45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-C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Text Box 95"/>
          <p:cNvSpPr/>
          <p:nvPr/>
        </p:nvSpPr>
        <p:spPr>
          <a:xfrm>
            <a:off x="1908000" y="2349360"/>
            <a:ext cx="323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-MAC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писи будут созданы автоматически , когда на коммутатор  придет пак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Offer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с сервер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Text Box 97"/>
          <p:cNvSpPr/>
          <p:nvPr/>
        </p:nvSpPr>
        <p:spPr>
          <a:xfrm>
            <a:off x="5100840" y="5070600"/>
            <a:ext cx="37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-C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ытается получить доступ к ресурсам сети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AutoShape 100"/>
          <p:cNvSpPr/>
          <p:nvPr/>
        </p:nvSpPr>
        <p:spPr>
          <a:xfrm>
            <a:off x="539640" y="3198960"/>
            <a:ext cx="1789200" cy="431640"/>
          </a:xfrm>
          <a:prstGeom prst="wedgeRectCallout">
            <a:avLst>
              <a:gd name="adj1" fmla="val 64671"/>
              <a:gd name="adj2" fmla="val 123527"/>
            </a:avLst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Не присутствует в списке</a:t>
            </a:r>
            <a:r>
              <a:rPr b="0" lang="en-US" sz="1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!!!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PC-C</a:t>
            </a:r>
            <a:r>
              <a:rPr b="0" lang="ru-RU" sz="1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блокируется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4" name="Picture 15" descr="C:\Users\06075\Desktop\Icons for Topology\Computer 01.jpg"/>
          <p:cNvPicPr/>
          <p:nvPr/>
        </p:nvPicPr>
        <p:blipFill>
          <a:blip r:embed="rId2"/>
          <a:stretch/>
        </p:blipFill>
        <p:spPr>
          <a:xfrm>
            <a:off x="1077840" y="3701880"/>
            <a:ext cx="603360" cy="8226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4" descr="C:\Users\06075\Desktop\Icons for Topology\Computer 02.jpg"/>
          <p:cNvPicPr/>
          <p:nvPr/>
        </p:nvPicPr>
        <p:blipFill>
          <a:blip r:embed="rId3"/>
          <a:stretch/>
        </p:blipFill>
        <p:spPr>
          <a:xfrm>
            <a:off x="5418000" y="3125880"/>
            <a:ext cx="500040" cy="4222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4" descr="C:\Users\06075\Desktop\Icons for Topology\Computer 02.jpg"/>
          <p:cNvPicPr/>
          <p:nvPr/>
        </p:nvPicPr>
        <p:blipFill>
          <a:blip r:embed="rId4"/>
          <a:stretch/>
        </p:blipFill>
        <p:spPr>
          <a:xfrm>
            <a:off x="5418000" y="3840120"/>
            <a:ext cx="500040" cy="4222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C:\Users\06075\Desktop\Icons for Topology\Computer 02.jpg"/>
          <p:cNvPicPr/>
          <p:nvPr/>
        </p:nvPicPr>
        <p:blipFill>
          <a:blip r:embed="rId5"/>
          <a:stretch/>
        </p:blipFill>
        <p:spPr>
          <a:xfrm>
            <a:off x="5418000" y="4554360"/>
            <a:ext cx="500040" cy="422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DGS-3426"/>
          <p:cNvPicPr/>
          <p:nvPr/>
        </p:nvPicPr>
        <p:blipFill>
          <a:blip r:embed="rId6"/>
          <a:stretch/>
        </p:blipFill>
        <p:spPr>
          <a:xfrm>
            <a:off x="2544840" y="3774960"/>
            <a:ext cx="1792080" cy="74304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IP-MAC-Port Bind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Решение для улучшения управления </a:t>
            </a:r>
            <a:r>
              <a:rPr b="0" lang="en-US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IP</a:t>
            </a:r>
            <a:r>
              <a:rPr b="0" lang="ru-RU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 адресам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500040" y="1125360"/>
            <a:ext cx="82152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 Inspe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 inspection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веряет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 на предмет безопасности. Если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формация разрешённая, МАС адрес хоста будет добавлен в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Forwarding Database(FDB)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и трафик его будет коммутироваться, в противном случае МАС адрес хоста будет добавлен в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Forwarding Database(FDB)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как заблокированный и трафик будет отбрасываться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 inspection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веряет в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ах следующую информацию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thernet Header: Source Addres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 Payload: Sender HW Address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ender Protocol Addres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87a9"/>
                </a:solidFill>
                <a:latin typeface="Arial"/>
                <a:ea typeface="Arial"/>
              </a:rPr>
              <a:t>IP-MAC-Port Bind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Понимание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IMPB </a:t>
            </a: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режимов 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17416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87a9"/>
                </a:solidFill>
                <a:latin typeface="Arial"/>
                <a:ea typeface="Arial"/>
              </a:rPr>
              <a:t>IP-MAC-Port Bind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Понимание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IMPB </a:t>
            </a: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режимов 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500040" y="1125360"/>
            <a:ext cx="82152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Inspe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 inspection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веряет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 на предмет безопасности. Если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формация разрешённая, МАС адрес хоста будет добавлен в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Forwarding Database(FDB)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и трафик его будет коммутироваться, в противном случае МАС адрес хоста будет добавлен в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Forwarding Database(FDB)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как заблокированный и трафик будет отбрасываться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inspection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веряет в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ах следующую информацию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thernet Header: Source Addres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Header: Source Addres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4460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539640" y="3719520"/>
            <a:ext cx="7812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IP-MAC-Port Bind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Режимы работы портов </a:t>
            </a:r>
            <a:r>
              <a:rPr b="0" lang="en-US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ARP Inspec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Прямоугольник 4"/>
          <p:cNvSpPr/>
          <p:nvPr/>
        </p:nvSpPr>
        <p:spPr>
          <a:xfrm>
            <a:off x="395280" y="1341360"/>
            <a:ext cx="828036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 активизации функции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 Inspection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на порте администратор должен указать режим его работы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ict Mode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– в этом режиме порт по умолчанию заблокирован. Коммутатор не будет передавать пакеты до тех пор, пока не убедится в их соответствии с записями в «белом листе». Записи создаются статически или динамически в режиме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Snooping.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oose Mode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– в этом режиме порт по умолчанию открыт. Порт будет заблокирован, как только через него пройдет первый недостоверный пакет. Порт проверяет только пакеты ARP и IP Broadcast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Рисунок 6" descr="impb1.PNG"/>
          <p:cNvPicPr/>
          <p:nvPr/>
        </p:nvPicPr>
        <p:blipFill>
          <a:blip r:embed="rId1"/>
          <a:stretch/>
        </p:blipFill>
        <p:spPr>
          <a:xfrm>
            <a:off x="900000" y="2492280"/>
            <a:ext cx="6912000" cy="3424320"/>
          </a:xfrm>
          <a:prstGeom prst="rect">
            <a:avLst/>
          </a:prstGeom>
          <a:ln w="0">
            <a:noFill/>
          </a:ln>
        </p:spPr>
      </p:pic>
      <p:sp>
        <p:nvSpPr>
          <p:cNvPr id="269" name="Content Placeholder 2"/>
          <p:cNvSpPr/>
          <p:nvPr/>
        </p:nvSpPr>
        <p:spPr>
          <a:xfrm>
            <a:off x="108000" y="907920"/>
            <a:ext cx="87850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eate address_binding ip_mac ipaddress 192.168.1.15 mac_address 00-00-5A-9E-B2-B2 ports 2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ем запись IP-MAC-Port Binding, связывающую IP-MAC-адрес узла с портами подключения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ddress_binding ip_mac ports 2 arp_inspection strict ip_inspection enable protocol ipv4 allow_zeroip enable forward_dhcppkt enabl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ктивизируем функцию на требуемых портах и указываем режимы работы портов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790560" y="2421000"/>
            <a:ext cx="7310520" cy="3564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1476360" y="3743280"/>
            <a:ext cx="647640" cy="216000"/>
          </a:xfrm>
          <a:prstGeom prst="rect">
            <a:avLst/>
          </a:prstGeom>
          <a:noFill/>
          <a:ln w="25560">
            <a:solidFill>
              <a:srgbClr val="3366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IP-MAC-Port Bind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IMPB </a:t>
            </a:r>
            <a:r>
              <a:rPr b="0" lang="ru-RU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и статической запис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IP-MAC-Port Bind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Пример работы </a:t>
            </a:r>
            <a:r>
              <a:rPr b="0" lang="en-US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IMPB </a:t>
            </a:r>
            <a:r>
              <a:rPr b="0" lang="ru-RU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в </a:t>
            </a:r>
            <a:r>
              <a:rPr b="0" lang="en-US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DHCP Snooping </a:t>
            </a:r>
            <a:r>
              <a:rPr b="0" lang="ru-RU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режим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4" name="Picture 16" descr="DES-3526"/>
          <p:cNvPicPr/>
          <p:nvPr/>
        </p:nvPicPr>
        <p:blipFill>
          <a:blip r:embed="rId1"/>
          <a:stretch/>
        </p:blipFill>
        <p:spPr>
          <a:xfrm>
            <a:off x="682560" y="3429000"/>
            <a:ext cx="5689800" cy="5666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56"/>
          <p:cNvSpPr/>
          <p:nvPr/>
        </p:nvSpPr>
        <p:spPr>
          <a:xfrm>
            <a:off x="2160720" y="2276640"/>
            <a:ext cx="21999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иен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C: 00-C0-9F-86-C2-5C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160"/>
          <p:cNvSpPr/>
          <p:nvPr/>
        </p:nvSpPr>
        <p:spPr>
          <a:xfrm flipV="1">
            <a:off x="5867280" y="2709360"/>
            <a:ext cx="0" cy="11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7" name="Picture 15" descr="C:\Users\06075\Desktop\Icons for Topology\Computer 01.jpg"/>
          <p:cNvPicPr/>
          <p:nvPr/>
        </p:nvPicPr>
        <p:blipFill>
          <a:blip r:embed="rId2"/>
          <a:stretch/>
        </p:blipFill>
        <p:spPr>
          <a:xfrm>
            <a:off x="5651640" y="2276640"/>
            <a:ext cx="369720" cy="50472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161"/>
          <p:cNvSpPr/>
          <p:nvPr/>
        </p:nvSpPr>
        <p:spPr>
          <a:xfrm>
            <a:off x="5812920" y="313992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25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Text Box 162"/>
          <p:cNvSpPr/>
          <p:nvPr/>
        </p:nvSpPr>
        <p:spPr>
          <a:xfrm>
            <a:off x="6021000" y="2205000"/>
            <a:ext cx="21848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: 192.168.0.1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C: 00-50-18-21-C0-E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Line 164"/>
          <p:cNvSpPr/>
          <p:nvPr/>
        </p:nvSpPr>
        <p:spPr>
          <a:xfrm flipV="1">
            <a:off x="1908000" y="299700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1" name="Picture 7" descr="E:\Homework\DCS_DCP\GIF ICON\NB.gif"/>
          <p:cNvPicPr/>
          <p:nvPr/>
        </p:nvPicPr>
        <p:blipFill>
          <a:blip r:embed="rId3"/>
          <a:stretch/>
        </p:blipFill>
        <p:spPr>
          <a:xfrm>
            <a:off x="1692360" y="2637000"/>
            <a:ext cx="503280" cy="47448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169"/>
          <p:cNvSpPr/>
          <p:nvPr/>
        </p:nvSpPr>
        <p:spPr>
          <a:xfrm>
            <a:off x="1878120" y="3141720"/>
            <a:ext cx="71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Прямоугольник 21"/>
          <p:cNvSpPr/>
          <p:nvPr/>
        </p:nvSpPr>
        <p:spPr>
          <a:xfrm>
            <a:off x="684360" y="111600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динамически создает запись IMPB после того, как клиент получит IP-адрес от DHCP-сервер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4" name="Группа 38"/>
          <p:cNvGrpSpPr/>
          <p:nvPr/>
        </p:nvGrpSpPr>
        <p:grpSpPr>
          <a:xfrm>
            <a:off x="1835280" y="4076640"/>
            <a:ext cx="1944720" cy="289080"/>
            <a:chOff x="1835280" y="4076640"/>
            <a:chExt cx="1944720" cy="289080"/>
          </a:xfrm>
        </p:grpSpPr>
        <p:cxnSp>
          <p:nvCxnSpPr>
            <p:cNvPr id="285" name="Прямая со стрелкой 24"/>
            <p:cNvCxnSpPr/>
            <p:nvPr/>
          </p:nvCxnSpPr>
          <p:spPr>
            <a:xfrm flipV="1">
              <a:off x="1906920" y="4365000"/>
              <a:ext cx="793080" cy="1080"/>
            </a:xfrm>
            <a:prstGeom prst="straightConnector1">
              <a:avLst/>
            </a:prstGeom>
            <a:ln w="12600">
              <a:solidFill>
                <a:srgbClr val="0070c0"/>
              </a:solidFill>
              <a:miter/>
              <a:tailEnd len="med" type="triangle" w="med"/>
            </a:ln>
          </p:spPr>
        </p:cxnSp>
        <p:sp>
          <p:nvSpPr>
            <p:cNvPr id="286" name="Прямоугольник 29"/>
            <p:cNvSpPr/>
            <p:nvPr/>
          </p:nvSpPr>
          <p:spPr>
            <a:xfrm>
              <a:off x="1835280" y="4076640"/>
              <a:ext cx="1944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100" spc="-1" strike="noStrike">
                  <a:solidFill>
                    <a:srgbClr val="0070c0"/>
                  </a:solidFill>
                  <a:latin typeface="Arial Unicode MS"/>
                  <a:ea typeface="新細明體"/>
                </a:rPr>
                <a:t>DHCP Discovery Broadcast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87" name="Группа 39"/>
          <p:cNvGrpSpPr/>
          <p:nvPr/>
        </p:nvGrpSpPr>
        <p:grpSpPr>
          <a:xfrm>
            <a:off x="1835280" y="4437000"/>
            <a:ext cx="1944720" cy="287640"/>
            <a:chOff x="1835280" y="4437000"/>
            <a:chExt cx="1944720" cy="287640"/>
          </a:xfrm>
        </p:grpSpPr>
        <p:cxnSp>
          <p:nvCxnSpPr>
            <p:cNvPr id="288" name="Прямая со стрелкой 24"/>
            <p:cNvCxnSpPr/>
            <p:nvPr/>
          </p:nvCxnSpPr>
          <p:spPr>
            <a:xfrm flipH="1">
              <a:off x="1906920" y="4723920"/>
              <a:ext cx="792720" cy="108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289" name="Прямоугольник 30"/>
            <p:cNvSpPr/>
            <p:nvPr/>
          </p:nvSpPr>
          <p:spPr>
            <a:xfrm>
              <a:off x="1835280" y="4437000"/>
              <a:ext cx="1944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  <a:ea typeface="新細明體"/>
                </a:rPr>
                <a:t>DHCP Offer unicast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90" name="Группа 31"/>
          <p:cNvGrpSpPr/>
          <p:nvPr/>
        </p:nvGrpSpPr>
        <p:grpSpPr>
          <a:xfrm>
            <a:off x="3995640" y="4365720"/>
            <a:ext cx="4537080" cy="596160"/>
            <a:chOff x="3995640" y="4365720"/>
            <a:chExt cx="4537080" cy="596160"/>
          </a:xfrm>
        </p:grpSpPr>
        <p:sp>
          <p:nvSpPr>
            <p:cNvPr id="291" name="Rectangle 11"/>
            <p:cNvSpPr/>
            <p:nvPr/>
          </p:nvSpPr>
          <p:spPr>
            <a:xfrm>
              <a:off x="4355640" y="4365720"/>
              <a:ext cx="41770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100" spc="-1" strike="noStrike">
                  <a:solidFill>
                    <a:srgbClr val="0070c0"/>
                  </a:solidFill>
                  <a:latin typeface="Arial Unicode MS"/>
                </a:rPr>
                <a:t>Компьютер в сети</a:t>
              </a:r>
              <a:r>
                <a:rPr b="0" lang="en-US" sz="1100" spc="-1" strike="noStrike">
                  <a:solidFill>
                    <a:srgbClr val="0070c0"/>
                  </a:solidFill>
                  <a:latin typeface="Arial Unicode MS"/>
                </a:rPr>
                <a:t> (DHCP - </a:t>
              </a:r>
              <a:r>
                <a:rPr b="0" lang="ru-RU" sz="1100" spc="-1" strike="noStrike">
                  <a:solidFill>
                    <a:srgbClr val="0070c0"/>
                  </a:solidFill>
                  <a:latin typeface="Arial Unicode MS"/>
                </a:rPr>
                <a:t>клиент</a:t>
              </a:r>
              <a:r>
                <a:rPr b="0" lang="en-US" sz="1100" spc="-1" strike="noStrike">
                  <a:solidFill>
                    <a:srgbClr val="0070c0"/>
                  </a:solidFill>
                  <a:latin typeface="Arial Unicode MS"/>
                </a:rPr>
                <a:t>)</a:t>
              </a:r>
              <a:r>
                <a:rPr b="0" lang="ru-RU" sz="1100" spc="-1" strike="noStrike">
                  <a:solidFill>
                    <a:srgbClr val="0070c0"/>
                  </a:solidFill>
                  <a:latin typeface="Arial Unicode MS"/>
                </a:rPr>
                <a:t> генерирует</a:t>
              </a:r>
              <a:r>
                <a:rPr b="0" lang="en-US" sz="1100" spc="-1" strike="noStrike">
                  <a:solidFill>
                    <a:srgbClr val="0070c0"/>
                  </a:solidFill>
                  <a:latin typeface="Arial Unicode MS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100" spc="-1" strike="noStrike">
                  <a:solidFill>
                    <a:srgbClr val="0070c0"/>
                  </a:solidFill>
                  <a:latin typeface="Arial Unicode MS"/>
                </a:rPr>
                <a:t>DHCP -</a:t>
              </a:r>
              <a:r>
                <a:rPr b="0" lang="ru-RU" sz="1100" spc="-1" strike="noStrike">
                  <a:solidFill>
                    <a:srgbClr val="0070c0"/>
                  </a:solidFill>
                  <a:latin typeface="Arial Unicode MS"/>
                </a:rPr>
                <a:t> запросы</a:t>
              </a:r>
              <a:r>
                <a:rPr b="0" lang="en-US" sz="1100" spc="-1" strike="noStrike">
                  <a:solidFill>
                    <a:srgbClr val="0070c0"/>
                  </a:solidFill>
                  <a:latin typeface="Arial Unicode MS"/>
                </a:rPr>
                <a:t> </a:t>
              </a:r>
              <a:r>
                <a:rPr b="0" lang="ru-RU" sz="1100" spc="-1" strike="noStrike">
                  <a:solidFill>
                    <a:srgbClr val="0070c0"/>
                  </a:solidFill>
                  <a:latin typeface="Arial Unicode MS"/>
                </a:rPr>
                <a:t>и </a:t>
              </a:r>
              <a:r>
                <a:rPr b="0" lang="ru-RU" sz="1100" spc="-1" strike="noStrike" u="sng">
                  <a:solidFill>
                    <a:srgbClr val="0070c0"/>
                  </a:solidFill>
                  <a:uFillTx/>
                  <a:latin typeface="Arial Unicode MS"/>
                </a:rPr>
                <a:t>широковещательно</a:t>
              </a:r>
              <a:r>
                <a:rPr b="0" lang="ru-RU" sz="1100" spc="-1" strike="noStrike">
                  <a:solidFill>
                    <a:srgbClr val="0070c0"/>
                  </a:solidFill>
                  <a:latin typeface="Arial Unicode MS"/>
                </a:rPr>
                <a:t> рассылает их в сеть</a:t>
              </a:r>
              <a:r>
                <a:rPr b="0" lang="en-US" sz="1100" spc="-1" strike="noStrike">
                  <a:solidFill>
                    <a:srgbClr val="0070c0"/>
                  </a:solidFill>
                  <a:latin typeface="Arial Unicode MS"/>
                </a:rPr>
                <a:t>.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2" name="Овал 45"/>
            <p:cNvSpPr/>
            <p:nvPr/>
          </p:nvSpPr>
          <p:spPr>
            <a:xfrm>
              <a:off x="3995640" y="4437360"/>
              <a:ext cx="287280" cy="286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93" name="Группа 33"/>
          <p:cNvGrpSpPr/>
          <p:nvPr/>
        </p:nvGrpSpPr>
        <p:grpSpPr>
          <a:xfrm>
            <a:off x="3995640" y="4890960"/>
            <a:ext cx="5329440" cy="763560"/>
            <a:chOff x="3995640" y="4890960"/>
            <a:chExt cx="5329440" cy="763560"/>
          </a:xfrm>
        </p:grpSpPr>
        <p:sp>
          <p:nvSpPr>
            <p:cNvPr id="294" name="Овал 47"/>
            <p:cNvSpPr/>
            <p:nvPr/>
          </p:nvSpPr>
          <p:spPr>
            <a:xfrm>
              <a:off x="3995640" y="4969440"/>
              <a:ext cx="288720" cy="287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00b050"/>
                  </a:solidFill>
                  <a:latin typeface="Arial Unicode MS"/>
                  <a:ea typeface="Arial Unicode MS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5" name="Rectangle 11"/>
            <p:cNvSpPr/>
            <p:nvPr/>
          </p:nvSpPr>
          <p:spPr>
            <a:xfrm>
              <a:off x="4356360" y="4890960"/>
              <a:ext cx="496872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DHCP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сервер отвечает пакетом 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DHCP Offer unicast.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Коммутатор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берет необходимую информацию: МАС адрес клиента, выданный 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IP 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адрес и 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Lease time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, и на базе этой информации создаёт запись в 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IMP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таблице.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96" name="Прямоугольник 37"/>
          <p:cNvSpPr/>
          <p:nvPr/>
        </p:nvSpPr>
        <p:spPr>
          <a:xfrm>
            <a:off x="2408040" y="240192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.x.x.x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Прямоугольник 40"/>
          <p:cNvSpPr/>
          <p:nvPr/>
        </p:nvSpPr>
        <p:spPr>
          <a:xfrm>
            <a:off x="2333880" y="240192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2.168.0.10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IP-MAC-Port Bind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Пример настройки </a:t>
            </a:r>
            <a:r>
              <a:rPr b="0" lang="en-US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IMPB </a:t>
            </a:r>
            <a:r>
              <a:rPr b="0" lang="ru-RU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в </a:t>
            </a:r>
            <a:r>
              <a:rPr b="0" lang="en-US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DHCP Snooping </a:t>
            </a:r>
            <a:r>
              <a:rPr b="0" lang="ru-RU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режим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Content Placeholder 2"/>
          <p:cNvSpPr/>
          <p:nvPr/>
        </p:nvSpPr>
        <p:spPr>
          <a:xfrm>
            <a:off x="108000" y="907920"/>
            <a:ext cx="8785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able address_binding dhcp_snoop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ктивизируем функцию IP-MAC-Port Binding в режиме DHCP Snooping глобально на коммутаторе. 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ddress_binding dhcp_snoop max_entry ports 1-10 limit 10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казываем максимальное количество создаваемых в процессе автоизучения записей IP-MAC на порт.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ddress_binding ip_mac ports 2 arp_inspection strict ip_inspection enable protocol ipv4 allow_zeroip enable forward_dhcppkt enabl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ктивизируем функцию на требуемых портах и указываем режимы работы портов.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612720" y="3610080"/>
            <a:ext cx="7991640" cy="2340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1" name="Рисунок 5" descr="impb2.PNG"/>
          <p:cNvPicPr/>
          <p:nvPr/>
        </p:nvPicPr>
        <p:blipFill>
          <a:blip r:embed="rId1"/>
          <a:stretch/>
        </p:blipFill>
        <p:spPr>
          <a:xfrm>
            <a:off x="684360" y="3681360"/>
            <a:ext cx="792000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IP-MAC-Port Bind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Дополнительные параметры </a:t>
            </a:r>
            <a:r>
              <a:rPr b="0" lang="en-US" sz="1600" spc="-1" strike="noStrike">
                <a:solidFill>
                  <a:srgbClr val="0087a9"/>
                </a:solidFill>
                <a:latin typeface="Arial Unicode MS"/>
                <a:ea typeface="Arial Unicode MS"/>
              </a:rPr>
              <a:t>IMPB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Прямоугольник 2"/>
          <p:cNvSpPr/>
          <p:nvPr/>
        </p:nvSpPr>
        <p:spPr>
          <a:xfrm>
            <a:off x="611280" y="920880"/>
            <a:ext cx="7848360" cy="55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i="1" lang="en-US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max_entry … limit 1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аксимальное кол-во записей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которые может изучить коммутатор на порту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режиме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Snooping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Возможные значения зависят от модели коммутатора и версии прошивки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i="1" lang="en-US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allow_zeroip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зможность пропуска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Discovery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ов при включённой функции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urce_IP = 0.0.0.0.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обходима для полноценный работы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S: Vista, Win 7, MAC OS 10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старше и т.д.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по протоколу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 использовании функции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B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i="1" lang="en-US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forward_dhcppkt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пробрасывает все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 по умолчанию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на порту задан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ict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режим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се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 будут отброшены.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этом случае, включаем опцию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orward_dhcppkt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чтобы коммутатор пробрасывал клиентские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ключение этой функции также гарантирует, что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snooping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ботает правильно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1" i="1" lang="en-US" sz="18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top_learning_threshold &lt;value 0-500&gt; 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то ограничение кол-ва заносимых записей в FDB, при использовании IMPB. При использовании IMPB коммутатор блокирует записи не подходящие под сконфигурированую связку, но побочным эффектом становиться занесение в FDB таблицу всех обработанных пакетов. Для предотвращения переполнения FDB при использовании IMPB, был введён новый параметр threshold, который наблюдает за кол-ом заблокированных записей и при превышении этого параметра, вводит порт в disable learning с соответствующим оповещением и созданием записи в лог. Использование функции позволит избежать атак со стороны пользователей и подвергать нарушителя административному взысканию, потому как порт придётся поднимать вручную. Значение 0 означает, что изучение МАС адресов не имеет ограничения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1"/>
          <p:cNvSpPr/>
          <p:nvPr/>
        </p:nvSpPr>
        <p:spPr>
          <a:xfrm>
            <a:off x="539640" y="2133720"/>
            <a:ext cx="80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Статическая и динамическая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маршрутизаци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1"/>
          <p:cNvSpPr/>
          <p:nvPr/>
        </p:nvSpPr>
        <p:spPr>
          <a:xfrm>
            <a:off x="539640" y="2133720"/>
            <a:ext cx="80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Unicode MS"/>
                <a:ea typeface="新細明體"/>
              </a:rPr>
              <a:t>ACL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Unicode MS"/>
                <a:ea typeface="新細明體"/>
              </a:rPr>
              <a:t>Списки управления доступом</a:t>
            </a:r>
            <a:r>
              <a:rPr b="1" lang="en-US" sz="4000" spc="-1" strike="noStrike">
                <a:solidFill>
                  <a:srgbClr val="ffffff"/>
                </a:solidFill>
                <a:latin typeface="Arial Unicode MS"/>
                <a:ea typeface="新細明體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Unicode MS"/>
                <a:ea typeface="新細明體"/>
              </a:rPr>
              <a:t>Классификация трафика</a:t>
            </a:r>
            <a:r>
              <a:rPr b="1" lang="en-US" sz="4000" spc="-1" strike="noStrike">
                <a:solidFill>
                  <a:srgbClr val="ffffff"/>
                </a:solidFill>
                <a:latin typeface="Arial Unicode MS"/>
                <a:ea typeface="新細明體"/>
              </a:rPr>
              <a:t>, </a:t>
            </a:r>
            <a:r>
              <a:rPr b="1" lang="ru-RU" sz="4000" spc="-1" strike="noStrike">
                <a:solidFill>
                  <a:srgbClr val="ffffff"/>
                </a:solidFill>
                <a:latin typeface="Arial Unicode MS"/>
                <a:ea typeface="新細明體"/>
              </a:rPr>
              <a:t>маркировка</a:t>
            </a:r>
            <a:r>
              <a:rPr b="1" lang="en-US" sz="4000" spc="-1" strike="noStrike">
                <a:solidFill>
                  <a:srgbClr val="ffffff"/>
                </a:solidFill>
                <a:latin typeface="Arial Unicode MS"/>
                <a:ea typeface="新細明體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 Unicode MS"/>
                <a:ea typeface="新細明體"/>
              </a:rPr>
              <a:t>и отбрасывани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7a9"/>
                </a:solidFill>
                <a:latin typeface="Arial"/>
                <a:ea typeface="Arial"/>
              </a:rPr>
              <a:t>Контроль сетевых приложени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06" name="Object 1"/>
          <p:cNvGraphicFramePr/>
          <p:nvPr/>
        </p:nvGraphicFramePr>
        <p:xfrm>
          <a:off x="950760" y="3489480"/>
          <a:ext cx="2340000" cy="25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3489480"/>
                    <a:ext cx="234000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Rectangle 3"/>
          <p:cNvSpPr/>
          <p:nvPr/>
        </p:nvSpPr>
        <p:spPr>
          <a:xfrm>
            <a:off x="793800" y="2117880"/>
            <a:ext cx="77436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5840">
              <a:lnSpc>
                <a:spcPct val="100000"/>
              </a:lnSpc>
              <a:tabLst>
                <a:tab algn="l" pos="0"/>
                <a:tab algn="l" pos="287280"/>
                <a:tab algn="l" pos="73512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540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927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L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в коммутаторах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-Link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огут фильтровать пакеты, основываясь на информации разных уровней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5840">
              <a:lnSpc>
                <a:spcPct val="100000"/>
              </a:lnSpc>
              <a:spcBef>
                <a:spcPts val="176"/>
              </a:spcBef>
              <a:buClr>
                <a:srgbClr val="0070c0"/>
              </a:buClr>
              <a:buFont typeface="Wingdings" charset="2"/>
              <a:buChar char=""/>
              <a:tabLst>
                <a:tab algn="l" pos="287280"/>
                <a:tab algn="l" pos="73512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540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927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Порт коммутатор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5840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287280"/>
                <a:tab algn="l" pos="73512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540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927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MAC/ IPv4/ IPv6</a:t>
            </a:r>
            <a:r>
              <a:rPr b="0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-адрес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5840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287280"/>
                <a:tab algn="l" pos="73512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540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927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Тип </a:t>
            </a:r>
            <a:r>
              <a:rPr b="0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thernet/ </a:t>
            </a:r>
            <a:r>
              <a:rPr b="0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Тип протокол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5840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287280"/>
                <a:tab algn="l" pos="73512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540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927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VLA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5840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287280"/>
                <a:tab algn="l" pos="73512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540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927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802.1p/ DSCP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5840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287280"/>
                <a:tab algn="l" pos="73512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540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927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TCP/ UDP</a:t>
            </a:r>
            <a:r>
              <a:rPr b="0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-порт</a:t>
            </a:r>
            <a:r>
              <a:rPr b="0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[</a:t>
            </a:r>
            <a:r>
              <a:rPr b="0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тип приложения</a:t>
            </a:r>
            <a:r>
              <a:rPr b="0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]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5840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287280"/>
                <a:tab algn="l" pos="73512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540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927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Содержание пакета</a:t>
            </a:r>
            <a:r>
              <a:rPr b="0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[</a:t>
            </a:r>
            <a:r>
              <a:rPr b="0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поле данных приложения</a:t>
            </a:r>
            <a:r>
              <a:rPr b="0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]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9" name="Group 4"/>
          <p:cNvGrpSpPr/>
          <p:nvPr/>
        </p:nvGrpSpPr>
        <p:grpSpPr>
          <a:xfrm>
            <a:off x="1898640" y="4834080"/>
            <a:ext cx="6170760" cy="505080"/>
            <a:chOff x="1898640" y="4834080"/>
            <a:chExt cx="6170760" cy="505080"/>
          </a:xfrm>
        </p:grpSpPr>
        <p:sp>
          <p:nvSpPr>
            <p:cNvPr id="310" name="AutoShape 5"/>
            <p:cNvSpPr/>
            <p:nvPr/>
          </p:nvSpPr>
          <p:spPr>
            <a:xfrm>
              <a:off x="1898640" y="4834080"/>
              <a:ext cx="6170760" cy="480960"/>
            </a:xfrm>
            <a:prstGeom prst="parallelogram">
              <a:avLst>
                <a:gd name="adj" fmla="val 32075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1" name="Text Box 6"/>
            <p:cNvSpPr/>
            <p:nvPr/>
          </p:nvSpPr>
          <p:spPr>
            <a:xfrm>
              <a:off x="3371760" y="5062680"/>
              <a:ext cx="158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Сетевой трафик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12" name="Rectangle 8"/>
          <p:cNvSpPr/>
          <p:nvPr/>
        </p:nvSpPr>
        <p:spPr>
          <a:xfrm>
            <a:off x="781200" y="1123920"/>
            <a:ext cx="7743600" cy="10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5840">
              <a:lnSpc>
                <a:spcPct val="95000"/>
              </a:lnSpc>
              <a:tabLst>
                <a:tab algn="l" pos="0"/>
                <a:tab algn="l" pos="287280"/>
                <a:tab algn="l" pos="73512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540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927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ы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-Link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едоставляют наиболее полный набор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L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помогающих сетевому администратору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уществлять контроль над приложениями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 этом не будет потерь производительности, поскольку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верка осуществляется на аппаратном уровне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793800" y="836640"/>
            <a:ext cx="45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87280"/>
                <a:tab algn="l" pos="73512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540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927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L2/3/4 ACL ( Access Control List 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4" name="Picture 10" descr=""/>
          <p:cNvPicPr/>
          <p:nvPr/>
        </p:nvPicPr>
        <p:blipFill>
          <a:blip r:embed="rId3"/>
          <a:stretch/>
        </p:blipFill>
        <p:spPr>
          <a:xfrm>
            <a:off x="4870440" y="3429000"/>
            <a:ext cx="849240" cy="72864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11"/>
          <p:cNvSpPr/>
          <p:nvPr/>
        </p:nvSpPr>
        <p:spPr>
          <a:xfrm>
            <a:off x="4438800" y="4402080"/>
            <a:ext cx="876240" cy="224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Online</a:t>
            </a:r>
            <a:r>
              <a:rPr b="1" lang="ru-RU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-игры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4438800" y="4681440"/>
            <a:ext cx="1942920" cy="376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Неразрешённые приложения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5343480" y="4402080"/>
            <a:ext cx="1041480" cy="224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Вирусы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Freeform 14"/>
          <p:cNvSpPr/>
          <p:nvPr/>
        </p:nvSpPr>
        <p:spPr>
          <a:xfrm>
            <a:off x="5022720" y="4325760"/>
            <a:ext cx="609840" cy="622440"/>
          </a:xfrm>
          <a:custGeom>
            <a:avLst/>
            <a:gdLst>
              <a:gd name="textAreaLeft" fmla="*/ 89280 w 609840"/>
              <a:gd name="textAreaRight" fmla="*/ 520560 w 609840"/>
              <a:gd name="textAreaTop" fmla="*/ 91080 h 622440"/>
              <a:gd name="textAreaBottom" fmla="*/ 531360 h 622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Text Box 15"/>
          <p:cNvSpPr/>
          <p:nvPr/>
        </p:nvSpPr>
        <p:spPr>
          <a:xfrm>
            <a:off x="6627960" y="3327480"/>
            <a:ext cx="213336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Инфицированные        клиенты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Неисправные сервера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/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точки доступ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Компьютеры злоумышленников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Несанкционированные пользователи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Freeform 16"/>
          <p:cNvSpPr/>
          <p:nvPr/>
        </p:nvSpPr>
        <p:spPr>
          <a:xfrm>
            <a:off x="5010120" y="3475080"/>
            <a:ext cx="609480" cy="622080"/>
          </a:xfrm>
          <a:custGeom>
            <a:avLst/>
            <a:gdLst>
              <a:gd name="textAreaLeft" fmla="*/ 89280 w 609480"/>
              <a:gd name="textAreaRight" fmla="*/ 520200 w 609480"/>
              <a:gd name="textAreaTop" fmla="*/ 91080 h 622080"/>
              <a:gd name="textAreaBottom" fmla="*/ 531000 h 622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1" name="Group 17"/>
          <p:cNvGrpSpPr/>
          <p:nvPr/>
        </p:nvGrpSpPr>
        <p:grpSpPr>
          <a:xfrm>
            <a:off x="4413240" y="2560680"/>
            <a:ext cx="2550600" cy="235800"/>
            <a:chOff x="4413240" y="2560680"/>
            <a:chExt cx="2550600" cy="235800"/>
          </a:xfrm>
        </p:grpSpPr>
        <p:sp>
          <p:nvSpPr>
            <p:cNvPr id="322" name="Text Box 18"/>
            <p:cNvSpPr/>
            <p:nvPr/>
          </p:nvSpPr>
          <p:spPr>
            <a:xfrm>
              <a:off x="4413240" y="2571840"/>
              <a:ext cx="907560" cy="2246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0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ICMP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323" name="Text Box 19" descr=""/>
            <p:cNvPicPr/>
            <p:nvPr/>
          </p:nvPicPr>
          <p:blipFill>
            <a:blip r:embed="rId4"/>
            <a:stretch/>
          </p:blipFill>
          <p:spPr>
            <a:xfrm>
              <a:off x="5309640" y="2560680"/>
              <a:ext cx="1654200" cy="226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4" name="Group 20" descr=""/>
          <p:cNvPicPr/>
          <p:nvPr/>
        </p:nvPicPr>
        <p:blipFill>
          <a:blip r:embed="rId5"/>
          <a:stretch/>
        </p:blipFill>
        <p:spPr>
          <a:xfrm>
            <a:off x="4400640" y="2865600"/>
            <a:ext cx="2585880" cy="25560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23"/>
          <p:cNvSpPr/>
          <p:nvPr/>
        </p:nvSpPr>
        <p:spPr>
          <a:xfrm>
            <a:off x="7080120" y="2560680"/>
            <a:ext cx="2006640" cy="9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ACL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могут проверять содержимое пакетов на предмет наличия новых изменённых потоков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Freeform 24"/>
          <p:cNvSpPr/>
          <p:nvPr/>
        </p:nvSpPr>
        <p:spPr>
          <a:xfrm>
            <a:off x="5022720" y="2535120"/>
            <a:ext cx="609840" cy="622440"/>
          </a:xfrm>
          <a:custGeom>
            <a:avLst/>
            <a:gdLst>
              <a:gd name="textAreaLeft" fmla="*/ 89280 w 609840"/>
              <a:gd name="textAreaRight" fmla="*/ 520560 w 609840"/>
              <a:gd name="textAreaTop" fmla="*/ 91080 h 622440"/>
              <a:gd name="textAreaBottom" fmla="*/ 531360 h 622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Text Box 25"/>
          <p:cNvSpPr/>
          <p:nvPr/>
        </p:nvSpPr>
        <p:spPr>
          <a:xfrm>
            <a:off x="611280" y="5373720"/>
            <a:ext cx="7456320" cy="12484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1f8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правляемые коммутаторы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-Link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огут эффективно предотвращать проникновение вредоносного трафика в сет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3"/>
          <p:cNvSpPr/>
          <p:nvPr/>
        </p:nvSpPr>
        <p:spPr>
          <a:xfrm>
            <a:off x="457200" y="1009800"/>
            <a:ext cx="838188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анализируйте задачи фильтрации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определитесь с типом профиля доступ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thernet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Pv4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ли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v6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фиксируйте стратегию фильтраци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новываясь на этой стратегии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пределите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кая необходима маска профиля доступа (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cess profile mask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 и создайте её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(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анд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eate access_profil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обавьте правило профиля доступ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cess profile rule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, связанное с этой маской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анд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вила профиля доступ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веряются в соответствии с номером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ccess_id.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Чем меньше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D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ем раньше проверяется правило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не одно правило не сработало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 пропускается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 необходимости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гда срабатывает правило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иты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802.1p/DSC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огут быть заменены на новые значения перед отправкой пакет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ыступая в качестве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“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аркер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”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одели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SCP PHB (Per-Hop Behavior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– пошаговое поведение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Настройка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профилей и прави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179280" y="1187280"/>
            <a:ext cx="25923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1. Ethernet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C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точник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C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значени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02.1p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ип Е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rne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2411280" y="1187280"/>
            <a:ext cx="38163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2. IPv4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точник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назначени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SCP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токол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ICMP, IGMP, TCP, UDP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CP/UDP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порт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539640" y="4265640"/>
            <a:ext cx="76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4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.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Фильтрация по содержимому пакета (первые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 80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 или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128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*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байт пакета)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6084720" y="1187280"/>
            <a:ext cx="2592720" cy="27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3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.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IPv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affic class (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оритет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точник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DejaVu Sans Condensed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назначения*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lo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 label (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етка потока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токол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TCP, UDP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539640" y="556272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*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зависимости от модел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Типы профил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657360" y="1262160"/>
            <a:ext cx="7831080" cy="433368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Ethernet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профиль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Создание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Ethernet </a:t>
            </a: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профиля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AC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Ethernet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профиль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Настройка правил в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Ethernet </a:t>
            </a: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профил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1544760" y="907920"/>
            <a:ext cx="59068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468360" y="981000"/>
            <a:ext cx="8381880" cy="50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ние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thernet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филя доступа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access_profile [ </a:t>
            </a:r>
            <a:r>
              <a:rPr b="1" i="1" lang="en-US" sz="13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thernet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{</a:t>
            </a:r>
            <a:r>
              <a:rPr b="1" i="1" lang="en-US" sz="13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vlan {&lt;hex 0x0-0x0fff&gt;}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| </a:t>
            </a:r>
            <a:r>
              <a:rPr b="1" i="1" lang="en-US" sz="13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source_mac &lt;macmask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| </a:t>
            </a:r>
            <a:r>
              <a:rPr b="1" i="1" lang="en-US" sz="13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destination_mac &lt;macmask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| </a:t>
            </a:r>
            <a:r>
              <a:rPr b="1" i="1" lang="en-US" sz="13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802.1p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| </a:t>
            </a:r>
            <a:r>
              <a:rPr b="1" i="1" lang="en-US" sz="13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ethernet_type}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] profile_id &lt;value 1-512&gt;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даление профиля доступа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delete access_profile [profile_id &lt;value 1-512&gt; | all]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ние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даление правила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thernet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филя доступа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[profile_id &lt;value 1-512&gt;] [add access_id [auto_assign | &lt;value 1-65535&gt;] [</a:t>
            </a:r>
            <a:r>
              <a:rPr b="1" i="1" lang="en-US" sz="13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ethernet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{[</a:t>
            </a:r>
            <a:r>
              <a:rPr b="1" i="1" lang="en-US" sz="13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vlan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en-US" sz="13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&lt;vlan_name 32&gt; | vlan_id &lt;vid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] {</a:t>
            </a:r>
            <a:r>
              <a:rPr b="1" i="1" lang="en-US" sz="13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mask &lt;hex 0x0-0x0fff&gt;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} | </a:t>
            </a:r>
            <a:r>
              <a:rPr b="1" i="1" lang="en-US" sz="13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source_mac &lt;macaddr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{</a:t>
            </a:r>
            <a:r>
              <a:rPr b="1" i="1" lang="en-US" sz="13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mask &lt;macmask&gt;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} | </a:t>
            </a:r>
            <a:r>
              <a:rPr b="1" i="1" lang="en-US" sz="13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destination_mac &lt;macaddr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{</a:t>
            </a:r>
            <a:r>
              <a:rPr b="1" i="1" lang="en-US" sz="13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mask &lt;macmask&gt;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} | </a:t>
            </a:r>
            <a:r>
              <a:rPr b="1" i="1" lang="en-US" sz="13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802.1p &lt;value 0-7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| </a:t>
            </a:r>
            <a:r>
              <a:rPr b="1" i="1" lang="en-US" sz="13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ethernet_type &lt;hex 0x0-0xffff&gt;</a:t>
            </a:r>
            <a:r>
              <a:rPr b="1" i="1" lang="ru-RU" sz="13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}] [port [&lt;portlist&gt;|all]] [permit {priority&lt;value 0-7&gt; {replace_priority} | replace_dscp_with &lt;value0-63&gt;| counter [enable | disable] } | deny | mirror ] { time_range &lt;range_name 32&gt;} | delete access_id &lt;value 1-65535&gt;]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смотр имеющихся на коммутаторе профилей доступа и правил профилей доступа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how access_profile {profile_id &lt;value 1-512&gt;}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Ethernet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профиль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Синтаксис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CLI </a:t>
            </a: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создание и настройка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Ethernet </a:t>
            </a: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профил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468360" y="907920"/>
            <a:ext cx="83818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к видно из предыдущего слайда,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thernet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профили доступа позволяют анализировать пакеты на основании поля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thernet Type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ли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thertype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ле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thertype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казывает на протокол, инкапсулированный в кадр Ethernet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иже приведен пример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 Request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а, для которого значение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thertype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вно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x0806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что и указывает на протокол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2071800" y="2133720"/>
            <a:ext cx="5019480" cy="106668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2"/>
          <p:cNvSpPr/>
          <p:nvPr/>
        </p:nvSpPr>
        <p:spPr>
          <a:xfrm>
            <a:off x="324000" y="3325680"/>
            <a:ext cx="8381880" cy="26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аким образом, при помощи правил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L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ожно ограничить трафик в сети для определенных сетевых протоколов, либо вообще запретить клиенту использование определенных протоколов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иже приведен список значений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thertype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иболее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спространенного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”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в сети трафика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x0800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net Protocol, Version 4 (IPv4)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x86DD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net Protocol, Version 6 (IPv6)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x0806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ddress Resolution Protocol (ARP)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x0842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ke-on-LAN Magic Packet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x8809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low Protocols (IEEE 802.3) -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пользуется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CP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x8863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PPoE Discovery Stage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x8864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PPoE Session Stage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x88CC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LDP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x9000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uration Test Protocol (Loop)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Ethernet type - Ethertyp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IP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профиль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Создание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IP </a:t>
            </a: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профиля в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AC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1252440" y="909720"/>
            <a:ext cx="66326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IP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профиль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Настройка правил в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IP </a:t>
            </a: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профил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1673280" y="909720"/>
            <a:ext cx="570708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87a9"/>
                </a:solidFill>
                <a:latin typeface="Arial"/>
                <a:ea typeface="Arial"/>
              </a:rPr>
              <a:t>Статическая маршрутизац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Пример использования статической маршрутизаци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039680" y="907920"/>
            <a:ext cx="6845400" cy="86544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971640" y="1844640"/>
            <a:ext cx="6345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а маршрутизации 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12-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 ipif System  ipaddress 10.1.1.1/24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eate ipif Int1 100.1.1.1/24 Vlan1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eate iproute  200.1.1.0/24 10.1.1.2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076400" y="2697120"/>
          <a:ext cx="5871960" cy="1236600"/>
        </p:xfrm>
        <a:graphic>
          <a:graphicData uri="http://schemas.openxmlformats.org/drawingml/2006/table">
            <a:tbl>
              <a:tblPr/>
              <a:tblGrid>
                <a:gridCol w="1800000"/>
                <a:gridCol w="1282680"/>
                <a:gridCol w="1189080"/>
                <a:gridCol w="639720"/>
                <a:gridCol w="960480"/>
              </a:tblGrid>
              <a:tr h="487440">
                <a:tc gridSpan="5"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DES-3612:5#</a:t>
                      </a: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h iproute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  ← Проверка состояния интерфейс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Command: show iprout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outing Tabl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160"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P Address/Netmas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---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.1.1.0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0.1.1.0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200.1.1.0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Gatewa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0.0.0.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0.0.0.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.1.1.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nterfac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yste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nt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yste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Cos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Protoco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Loc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Loc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Static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600">
                      <a:solidFill>
                        <a:srgbClr val="000000"/>
                      </a:solidFill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076400" y="4856040"/>
          <a:ext cx="5871960" cy="1236960"/>
        </p:xfrm>
        <a:graphic>
          <a:graphicData uri="http://schemas.openxmlformats.org/drawingml/2006/table">
            <a:tbl>
              <a:tblPr/>
              <a:tblGrid>
                <a:gridCol w="1800000"/>
                <a:gridCol w="1282680"/>
                <a:gridCol w="1189080"/>
                <a:gridCol w="639720"/>
                <a:gridCol w="960480"/>
              </a:tblGrid>
              <a:tr h="487440">
                <a:tc gridSpan="5"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DES-3612:5#</a:t>
                      </a: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h iproute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  ← Проверка состояния интерфейс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Command: show iprout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outing Tabl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520"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P Address/Netmas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---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.1.1.0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2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00.1.1.0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00.1.1.0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Gatewa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0.0.0.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0.0.0.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.1.1.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nterfac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yste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nt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yste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Cos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Protoco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Loc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Loc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Static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600">
                      <a:solidFill>
                        <a:srgbClr val="000000"/>
                      </a:solidFill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1" name="Прямоугольник 6"/>
          <p:cNvSpPr/>
          <p:nvPr/>
        </p:nvSpPr>
        <p:spPr>
          <a:xfrm>
            <a:off x="971640" y="4076640"/>
            <a:ext cx="626436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а маршрутизации 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12-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 ipif System  ipaddress 10.1.1.2/24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eate ipif Int2 200.1.1.1/24 Vlan2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eate iproute  100.1.1.0/24 10.1.1.1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428760" y="1054080"/>
            <a:ext cx="838188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ние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филя доступа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access_profile [ </a:t>
            </a:r>
            <a:r>
              <a:rPr b="1" i="1" lang="en-US" sz="13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ip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{</a:t>
            </a:r>
            <a:r>
              <a:rPr b="1" i="1" lang="en-US" sz="13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vlan {&lt;hex 0x0-0x0fff&gt;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} | </a:t>
            </a:r>
            <a:r>
              <a:rPr b="1" i="1" lang="en-US" sz="13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source_ip_mask &lt;netmask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| </a:t>
            </a:r>
            <a:r>
              <a:rPr b="1" i="1" lang="en-US" sz="13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destination_ip_mask &lt;netmask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| </a:t>
            </a:r>
            <a:r>
              <a:rPr b="1" i="1" lang="en-US" sz="13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dscp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| [ icmp {type | code} | igmp {type} | </a:t>
            </a:r>
            <a:r>
              <a:rPr b="1" i="1" lang="en-US" sz="1300" spc="-1" strike="noStrike">
                <a:solidFill>
                  <a:srgbClr val="da1afa"/>
                </a:solidFill>
                <a:latin typeface="Arial Unicode MS"/>
                <a:ea typeface="Arial Unicode MS"/>
              </a:rPr>
              <a:t>tcp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{</a:t>
            </a:r>
            <a:r>
              <a:rPr b="1" i="1" lang="en-US" sz="1300" spc="-1" strike="noStrike">
                <a:solidFill>
                  <a:srgbClr val="da1afa"/>
                </a:solidFill>
                <a:latin typeface="Arial Unicode MS"/>
                <a:ea typeface="Arial Unicode MS"/>
              </a:rPr>
              <a:t>src_port_mask &lt;hex 0x0-0xffff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| </a:t>
            </a:r>
            <a:r>
              <a:rPr b="1" i="1" lang="en-US" sz="13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dst_port_mask &lt;hex 0x0-0xffff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| flag_mask [ all | {urg | ack | psh | rst | syn | fin} (1) ] } | </a:t>
            </a:r>
            <a:r>
              <a:rPr b="1" i="1" lang="en-US" sz="1300" spc="-1" strike="noStrike">
                <a:solidFill>
                  <a:srgbClr val="da1afa"/>
                </a:solidFill>
                <a:latin typeface="Arial Unicode MS"/>
                <a:ea typeface="Arial Unicode MS"/>
              </a:rPr>
              <a:t>udp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{</a:t>
            </a:r>
            <a:r>
              <a:rPr b="1" i="1" lang="en-US" sz="1300" spc="-1" strike="noStrike">
                <a:solidFill>
                  <a:srgbClr val="da1afa"/>
                </a:solidFill>
                <a:latin typeface="Arial Unicode MS"/>
                <a:ea typeface="Arial Unicode MS"/>
              </a:rPr>
              <a:t>src_port_mask &lt;hex 0x0-0xffff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| </a:t>
            </a:r>
            <a:r>
              <a:rPr b="1" i="1" lang="en-US" sz="13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dst_port_mask &lt;hex 0x0-0xffff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} | protocol_id_mask&lt;0x0-0xff&gt; ] } ] profile_id &lt;value 1-512&gt;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даление профиля доступа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delete access_profile [profile_id &lt;value 1-512&gt; | all]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ние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даление правила </a:t>
            </a:r>
            <a:r>
              <a:rPr b="0" lang="en-US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филя доступа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[profile_id &lt;value 1-512&gt;] [add access_id [auto_assign | &lt;value 1-65535&gt;] [</a:t>
            </a:r>
            <a:r>
              <a:rPr b="1" i="1" lang="en-US" sz="13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ip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{[</a:t>
            </a:r>
            <a:r>
              <a:rPr b="1" i="1" lang="en-US" sz="13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vlan &lt;vlan_name 32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| </a:t>
            </a:r>
            <a:r>
              <a:rPr b="1" i="1" lang="en-US" sz="13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vlan_id &lt;vid&gt;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] {</a:t>
            </a:r>
            <a:r>
              <a:rPr b="1" i="1" lang="en-US" sz="13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mask &lt;hex 0x0-0x0fff&gt;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} | </a:t>
            </a:r>
            <a:r>
              <a:rPr b="1" i="1" lang="en-US" sz="13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source_ip &lt;ipaddr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{</a:t>
            </a:r>
            <a:r>
              <a:rPr b="1" i="1" lang="en-US" sz="13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mask &lt;netmask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} | </a:t>
            </a:r>
            <a:r>
              <a:rPr b="1" i="1" lang="en-US" sz="13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destination_ip &lt;ipaddr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{</a:t>
            </a:r>
            <a:r>
              <a:rPr b="1" i="1" lang="en-US" sz="13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mask &lt;netmask&gt;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} | </a:t>
            </a:r>
            <a:r>
              <a:rPr b="1" i="1" lang="en-US" sz="13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dscp &lt;value 0-63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| [ icmp {type &lt;value 0-255&gt; code &lt;value 0-255&gt;} | igmp {type &lt;value 0-255&gt;} | </a:t>
            </a:r>
            <a:r>
              <a:rPr b="1" i="1" lang="en-US" sz="1300" spc="-1" strike="noStrike">
                <a:solidFill>
                  <a:srgbClr val="da1afa"/>
                </a:solidFill>
                <a:latin typeface="Arial Unicode MS"/>
                <a:ea typeface="Arial Unicode MS"/>
              </a:rPr>
              <a:t>tcp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{</a:t>
            </a:r>
            <a:r>
              <a:rPr b="1" i="1" lang="en-US" sz="1300" spc="-1" strike="noStrike">
                <a:solidFill>
                  <a:srgbClr val="da1afa"/>
                </a:solidFill>
                <a:latin typeface="Arial Unicode MS"/>
                <a:ea typeface="Arial Unicode MS"/>
              </a:rPr>
              <a:t>src_port &lt;value 0-65535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{</a:t>
            </a:r>
            <a:r>
              <a:rPr b="1" i="1" lang="en-US" sz="1300" spc="-1" strike="noStrike">
                <a:solidFill>
                  <a:srgbClr val="da1afa"/>
                </a:solidFill>
                <a:latin typeface="Arial Unicode MS"/>
                <a:ea typeface="Arial Unicode MS"/>
              </a:rPr>
              <a:t>mask &lt;hex 0x0-0xffff&gt;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} | </a:t>
            </a:r>
            <a:r>
              <a:rPr b="1" i="1" lang="en-US" sz="13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dst_port &lt;value 0-65535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{</a:t>
            </a:r>
            <a:r>
              <a:rPr b="1" i="1" lang="en-US" sz="13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mask &lt;hex 0x0-0xffff&gt;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} | flag [all | { urg | ack | psh | rst | syn | fin } (1) ] } | </a:t>
            </a:r>
            <a:r>
              <a:rPr b="1" i="1" lang="en-US" sz="1300" spc="-1" strike="noStrike">
                <a:solidFill>
                  <a:srgbClr val="da1afa"/>
                </a:solidFill>
                <a:latin typeface="Arial Unicode MS"/>
                <a:ea typeface="Arial Unicode MS"/>
              </a:rPr>
              <a:t>udp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{</a:t>
            </a:r>
            <a:r>
              <a:rPr b="1" i="1" lang="en-US" sz="1300" spc="-1" strike="noStrike">
                <a:solidFill>
                  <a:srgbClr val="da1afa"/>
                </a:solidFill>
                <a:latin typeface="Arial Unicode MS"/>
                <a:ea typeface="Arial Unicode MS"/>
              </a:rPr>
              <a:t>src_port &lt;value 0-65535&gt;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| </a:t>
            </a:r>
            <a:r>
              <a:rPr b="1" i="1" lang="en-US" sz="1300" spc="-1" strike="noStrike">
                <a:solidFill>
                  <a:srgbClr val="7030a0"/>
                </a:solidFill>
                <a:latin typeface="Arial Unicode MS"/>
                <a:ea typeface="Arial Unicode MS"/>
              </a:rPr>
              <a:t>dst_port &lt;value 0-65535&gt; </a:t>
            </a: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} | protocol_id &lt;value 0-255&gt; } (1) ] }] [port [&lt;portlist&gt;|all]] [permit {priority&lt;value 0-7&gt; {replace_priority} | replace_dscp_with &lt;value0-63&gt;| counter [enable | disable] } | deny | mirror ] { time_range &lt;range_name 32&gt;} | delete access_id &lt;value 1-65535&gt;]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смотр имеющихся на коммутаторе профилей доступа и правил профилей доступа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show access_profile {profile_id &lt;value 1-512&gt;}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IP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профиль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Синтаксис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CLI </a:t>
            </a: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создание и настройка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IP </a:t>
            </a: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профил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5334120" y="1743120"/>
            <a:ext cx="3200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люз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ne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0.254.254.251/8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0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0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99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99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99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решён доступ в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net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:10.1.1.1/8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0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0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1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:10.2.2.2/8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0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0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2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2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люз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0.254.254.25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ругие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C (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оступ в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net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прещён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: 10.x.x.x/8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762120" y="9810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мер: Разрешить некоторым пользователям выход в Internet по MAC- адреса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Line 4"/>
          <p:cNvSpPr/>
          <p:nvPr/>
        </p:nvSpPr>
        <p:spPr>
          <a:xfrm>
            <a:off x="1403280" y="2606760"/>
            <a:ext cx="180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5" name="Group 5"/>
          <p:cNvGrpSpPr/>
          <p:nvPr/>
        </p:nvGrpSpPr>
        <p:grpSpPr>
          <a:xfrm>
            <a:off x="539640" y="2533680"/>
            <a:ext cx="2230560" cy="2230200"/>
            <a:chOff x="539640" y="2533680"/>
            <a:chExt cx="2230560" cy="2230200"/>
          </a:xfrm>
        </p:grpSpPr>
        <p:graphicFrame>
          <p:nvGraphicFramePr>
            <p:cNvPr id="356" name="Object 6"/>
            <p:cNvGraphicFramePr/>
            <p:nvPr/>
          </p:nvGraphicFramePr>
          <p:xfrm>
            <a:off x="539640" y="2533680"/>
            <a:ext cx="2230560" cy="2230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7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9640" y="2533680"/>
                      <a:ext cx="2230560" cy="223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8" name="Text Box 7"/>
            <p:cNvSpPr/>
            <p:nvPr/>
          </p:nvSpPr>
          <p:spPr>
            <a:xfrm>
              <a:off x="539640" y="2533680"/>
              <a:ext cx="2230560" cy="22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59" name="Line 8"/>
          <p:cNvSpPr/>
          <p:nvPr/>
        </p:nvSpPr>
        <p:spPr>
          <a:xfrm flipH="1">
            <a:off x="1185840" y="3759120"/>
            <a:ext cx="65088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0" name="Picture 9" descr=""/>
          <p:cNvPicPr/>
          <p:nvPr/>
        </p:nvPicPr>
        <p:blipFill>
          <a:blip r:embed="rId3"/>
          <a:srcRect l="0" t="8486" r="0" b="12861"/>
          <a:stretch/>
        </p:blipFill>
        <p:spPr>
          <a:xfrm>
            <a:off x="539640" y="4694400"/>
            <a:ext cx="820800" cy="645840"/>
          </a:xfrm>
          <a:prstGeom prst="rect">
            <a:avLst/>
          </a:prstGeom>
          <a:ln w="0">
            <a:noFill/>
          </a:ln>
        </p:spPr>
      </p:pic>
      <p:sp>
        <p:nvSpPr>
          <p:cNvPr id="361" name="Freeform 10"/>
          <p:cNvSpPr/>
          <p:nvPr/>
        </p:nvSpPr>
        <p:spPr>
          <a:xfrm flipH="1">
            <a:off x="1905120" y="2529000"/>
            <a:ext cx="1218960" cy="226800"/>
          </a:xfrm>
          <a:custGeom>
            <a:avLst/>
            <a:gdLst>
              <a:gd name="textAreaLeft" fmla="*/ 360 w 1218960"/>
              <a:gd name="textAreaRight" fmla="*/ 1219680 w 121896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808" h="272">
                <a:moveTo>
                  <a:pt x="0" y="69"/>
                </a:moveTo>
                <a:lnTo>
                  <a:pt x="1081" y="0"/>
                </a:lnTo>
                <a:lnTo>
                  <a:pt x="910" y="159"/>
                </a:lnTo>
                <a:lnTo>
                  <a:pt x="1807" y="123"/>
                </a:lnTo>
                <a:lnTo>
                  <a:pt x="648" y="271"/>
                </a:lnTo>
                <a:lnTo>
                  <a:pt x="915" y="98"/>
                </a:lnTo>
                <a:lnTo>
                  <a:pt x="0" y="69"/>
                </a:lnTo>
              </a:path>
            </a:pathLst>
          </a:custGeom>
          <a:gradFill rotWithShape="0">
            <a:gsLst>
              <a:gs pos="0">
                <a:srgbClr val="e3e3f8"/>
              </a:gs>
              <a:gs pos="50000">
                <a:srgbClr val="3333cc"/>
              </a:gs>
              <a:gs pos="100000">
                <a:srgbClr val="e3e3f8"/>
              </a:gs>
            </a:gsLst>
            <a:lin ang="0"/>
          </a:gradFill>
          <a:ln w="6480">
            <a:solidFill>
              <a:srgbClr val="3333cc"/>
            </a:solidFill>
            <a:round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Line 11"/>
          <p:cNvSpPr/>
          <p:nvPr/>
        </p:nvSpPr>
        <p:spPr>
          <a:xfrm>
            <a:off x="2050920" y="3686040"/>
            <a:ext cx="57636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Line 12"/>
          <p:cNvSpPr/>
          <p:nvPr/>
        </p:nvSpPr>
        <p:spPr>
          <a:xfrm>
            <a:off x="2340000" y="3614760"/>
            <a:ext cx="15843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64" name="Group 13"/>
          <p:cNvGrpSpPr/>
          <p:nvPr/>
        </p:nvGrpSpPr>
        <p:grpSpPr>
          <a:xfrm>
            <a:off x="3203640" y="2030400"/>
            <a:ext cx="1511280" cy="1128600"/>
            <a:chOff x="3203640" y="2030400"/>
            <a:chExt cx="1511280" cy="1128600"/>
          </a:xfrm>
        </p:grpSpPr>
        <p:pic>
          <p:nvPicPr>
            <p:cNvPr id="365" name="Picture 14" descr=""/>
            <p:cNvPicPr/>
            <p:nvPr/>
          </p:nvPicPr>
          <p:blipFill>
            <a:blip r:embed="rId4"/>
            <a:srcRect l="10573" t="18465" r="0" b="14612"/>
            <a:stretch/>
          </p:blipFill>
          <p:spPr>
            <a:xfrm>
              <a:off x="3203640" y="2030400"/>
              <a:ext cx="1511280" cy="11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Rectangle 15"/>
            <p:cNvSpPr/>
            <p:nvPr/>
          </p:nvSpPr>
          <p:spPr>
            <a:xfrm>
              <a:off x="3485520" y="2462040"/>
              <a:ext cx="854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367" name="Picture 16" descr=""/>
          <p:cNvPicPr/>
          <p:nvPr/>
        </p:nvPicPr>
        <p:blipFill>
          <a:blip r:embed="rId5"/>
          <a:srcRect l="0" t="14894" r="0" b="17524"/>
          <a:stretch/>
        </p:blipFill>
        <p:spPr>
          <a:xfrm>
            <a:off x="755640" y="2246400"/>
            <a:ext cx="1260360" cy="85248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17"/>
          <p:cNvSpPr/>
          <p:nvPr/>
        </p:nvSpPr>
        <p:spPr>
          <a:xfrm>
            <a:off x="3132000" y="5343480"/>
            <a:ext cx="152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тальным запрещено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Text Box 18"/>
          <p:cNvSpPr/>
          <p:nvPr/>
        </p:nvSpPr>
        <p:spPr>
          <a:xfrm>
            <a:off x="539640" y="5343480"/>
            <a:ext cx="230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         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решено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Text Box 19"/>
          <p:cNvSpPr/>
          <p:nvPr/>
        </p:nvSpPr>
        <p:spPr>
          <a:xfrm>
            <a:off x="684360" y="195912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люз Interne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20" descr=""/>
          <p:cNvPicPr/>
          <p:nvPr/>
        </p:nvPicPr>
        <p:blipFill>
          <a:blip r:embed="rId6"/>
          <a:srcRect l="0" t="8486" r="0" b="12861"/>
          <a:stretch/>
        </p:blipFill>
        <p:spPr>
          <a:xfrm>
            <a:off x="1979640" y="4694400"/>
            <a:ext cx="820800" cy="6458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1" descr=""/>
          <p:cNvPicPr/>
          <p:nvPr/>
        </p:nvPicPr>
        <p:blipFill>
          <a:blip r:embed="rId7"/>
          <a:srcRect l="0" t="8486" r="0" b="12861"/>
          <a:stretch/>
        </p:blipFill>
        <p:spPr>
          <a:xfrm>
            <a:off x="3348000" y="4694400"/>
            <a:ext cx="820800" cy="64584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22"/>
          <p:cNvSpPr/>
          <p:nvPr/>
        </p:nvSpPr>
        <p:spPr>
          <a:xfrm>
            <a:off x="539640" y="4287960"/>
            <a:ext cx="152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 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Text Box 23"/>
          <p:cNvSpPr/>
          <p:nvPr/>
        </p:nvSpPr>
        <p:spPr>
          <a:xfrm>
            <a:off x="1619280" y="4287960"/>
            <a:ext cx="152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 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Text Box 24"/>
          <p:cNvSpPr/>
          <p:nvPr/>
        </p:nvSpPr>
        <p:spPr>
          <a:xfrm>
            <a:off x="3419640" y="4262400"/>
            <a:ext cx="152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ы 3-24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Text Box 25"/>
          <p:cNvSpPr/>
          <p:nvPr/>
        </p:nvSpPr>
        <p:spPr>
          <a:xfrm>
            <a:off x="539640" y="3038400"/>
            <a:ext cx="152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 25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Ethernet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в коммутаторах. Пример 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Ethernet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в коммутаторах. Пример 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324000" y="1125360"/>
            <a:ext cx="8351640" cy="80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вила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вило 1: Если MAC назначения = Шлюз, то запретить (на портах 3-24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вило 2: В противном случае разрешить всё остальное (по умолчанию)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324000" y="2205000"/>
            <a:ext cx="835164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# Правило 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eate access_profile ethernet destination_mac FF-FF-FF-FF-FF-FF profile_id 1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10 add access_id 10 ethernet destination_mac 00-50-ba-99-99-99 port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4 den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# Правило 2: Другие пакеты разрешены по умолчанию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324000" y="4005360"/>
            <a:ext cx="8423280" cy="200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верка: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пьютеры кроме PC1 и PC2 не могут получить доступ в Internet (в соответствии с правилом 1 обращение к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C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у шлюза запрещено на портах 3-24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, PC2 могут получить доступ в Internet (так как в правиле 1 не указаны порты 1 и 2, к которым они подключены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1, PC2 и другие могут получить доступ друг к другу (Intranet OK, в соответствии с тем, что в правиле 1 запрещено обращение только к MAC адресу шлюза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4932360" y="2924280"/>
            <a:ext cx="379584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оступ в Internet разрешён:  192.168.1.1 ~ 192.168.1.6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тальные пользуются только Intrane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0" y="9381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мер: Разрешить некоторым пользователям выход в Internet по I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Line 4"/>
          <p:cNvSpPr/>
          <p:nvPr/>
        </p:nvSpPr>
        <p:spPr>
          <a:xfrm>
            <a:off x="1547640" y="2347920"/>
            <a:ext cx="72072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Freeform 5"/>
          <p:cNvSpPr/>
          <p:nvPr/>
        </p:nvSpPr>
        <p:spPr>
          <a:xfrm flipH="1">
            <a:off x="2122560" y="1987560"/>
            <a:ext cx="1218960" cy="227160"/>
          </a:xfrm>
          <a:custGeom>
            <a:avLst/>
            <a:gdLst>
              <a:gd name="textAreaLeft" fmla="*/ 360 w 1218960"/>
              <a:gd name="textAreaRight" fmla="*/ 1219680 w 121896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808" h="272">
                <a:moveTo>
                  <a:pt x="0" y="69"/>
                </a:moveTo>
                <a:lnTo>
                  <a:pt x="1081" y="0"/>
                </a:lnTo>
                <a:lnTo>
                  <a:pt x="910" y="159"/>
                </a:lnTo>
                <a:lnTo>
                  <a:pt x="1807" y="123"/>
                </a:lnTo>
                <a:lnTo>
                  <a:pt x="648" y="271"/>
                </a:lnTo>
                <a:lnTo>
                  <a:pt x="915" y="98"/>
                </a:lnTo>
                <a:lnTo>
                  <a:pt x="0" y="69"/>
                </a:lnTo>
              </a:path>
            </a:pathLst>
          </a:custGeom>
          <a:gradFill rotWithShape="0">
            <a:gsLst>
              <a:gs pos="0">
                <a:srgbClr val="e3e3f8"/>
              </a:gs>
              <a:gs pos="50000">
                <a:srgbClr val="3333cc"/>
              </a:gs>
              <a:gs pos="100000">
                <a:srgbClr val="e3e3f8"/>
              </a:gs>
            </a:gsLst>
            <a:lin ang="0"/>
          </a:gradFill>
          <a:ln w="6480">
            <a:solidFill>
              <a:srgbClr val="3333cc"/>
            </a:solidFill>
            <a:round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86" name="Group 6"/>
          <p:cNvGrpSpPr/>
          <p:nvPr/>
        </p:nvGrpSpPr>
        <p:grpSpPr>
          <a:xfrm>
            <a:off x="3492360" y="1484280"/>
            <a:ext cx="1511280" cy="1128600"/>
            <a:chOff x="3492360" y="1484280"/>
            <a:chExt cx="1511280" cy="1128600"/>
          </a:xfrm>
        </p:grpSpPr>
        <p:pic>
          <p:nvPicPr>
            <p:cNvPr id="387" name="Picture 7" descr=""/>
            <p:cNvPicPr/>
            <p:nvPr/>
          </p:nvPicPr>
          <p:blipFill>
            <a:blip r:embed="rId1"/>
            <a:srcRect l="10573" t="18465" r="0" b="14612"/>
            <a:stretch/>
          </p:blipFill>
          <p:spPr>
            <a:xfrm>
              <a:off x="3492360" y="1484280"/>
              <a:ext cx="1511280" cy="11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Rectangle 8"/>
            <p:cNvSpPr/>
            <p:nvPr/>
          </p:nvSpPr>
          <p:spPr>
            <a:xfrm>
              <a:off x="3774240" y="1915920"/>
              <a:ext cx="854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389" name="Picture 9" descr=""/>
          <p:cNvPicPr/>
          <p:nvPr/>
        </p:nvPicPr>
        <p:blipFill>
          <a:blip r:embed="rId2"/>
          <a:srcRect l="0" t="14894" r="0" b="17524"/>
          <a:stretch/>
        </p:blipFill>
        <p:spPr>
          <a:xfrm>
            <a:off x="826920" y="1628640"/>
            <a:ext cx="1260720" cy="85248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10"/>
          <p:cNvSpPr/>
          <p:nvPr/>
        </p:nvSpPr>
        <p:spPr>
          <a:xfrm>
            <a:off x="468360" y="133992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люз Internet (IP: 192.168.1.254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Text Box 11"/>
          <p:cNvSpPr/>
          <p:nvPr/>
        </p:nvSpPr>
        <p:spPr>
          <a:xfrm>
            <a:off x="539640" y="5229360"/>
            <a:ext cx="1728720" cy="7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1 ~ .63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решен выход в </a:t>
            </a:r>
            <a:r>
              <a:rPr b="0" lang="fr-FR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net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Text Box 12"/>
          <p:cNvSpPr/>
          <p:nvPr/>
        </p:nvSpPr>
        <p:spPr>
          <a:xfrm>
            <a:off x="1619280" y="587700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ть 192.168.1.</a:t>
            </a:r>
            <a:r>
              <a:rPr b="0" lang="fr-FR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/24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3" name="Group 13"/>
          <p:cNvGrpSpPr/>
          <p:nvPr/>
        </p:nvGrpSpPr>
        <p:grpSpPr>
          <a:xfrm>
            <a:off x="468360" y="1987560"/>
            <a:ext cx="3987720" cy="3308400"/>
            <a:chOff x="468360" y="1987560"/>
            <a:chExt cx="3987720" cy="3308400"/>
          </a:xfrm>
        </p:grpSpPr>
        <p:sp>
          <p:nvSpPr>
            <p:cNvPr id="394" name="Line 14"/>
            <p:cNvSpPr/>
            <p:nvPr/>
          </p:nvSpPr>
          <p:spPr>
            <a:xfrm>
              <a:off x="2700360" y="3211560"/>
              <a:ext cx="86364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aphicFrame>
          <p:nvGraphicFramePr>
            <p:cNvPr id="395" name="Object 15"/>
            <p:cNvGraphicFramePr/>
            <p:nvPr/>
          </p:nvGraphicFramePr>
          <p:xfrm>
            <a:off x="1260360" y="1987560"/>
            <a:ext cx="2230560" cy="2230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6" name="Object 1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60360" y="1987560"/>
                      <a:ext cx="2230560" cy="223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7" name="Line 16"/>
            <p:cNvSpPr/>
            <p:nvPr/>
          </p:nvSpPr>
          <p:spPr>
            <a:xfrm flipH="1">
              <a:off x="1979640" y="3283200"/>
              <a:ext cx="64944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98" name="Group 17"/>
            <p:cNvGrpSpPr/>
            <p:nvPr/>
          </p:nvGrpSpPr>
          <p:grpSpPr>
            <a:xfrm>
              <a:off x="2844720" y="4075200"/>
              <a:ext cx="1611360" cy="1220760"/>
              <a:chOff x="2844720" y="4075200"/>
              <a:chExt cx="1611360" cy="1220760"/>
            </a:xfrm>
          </p:grpSpPr>
          <p:pic>
            <p:nvPicPr>
              <p:cNvPr id="399" name="Picture 18" descr=""/>
              <p:cNvPicPr/>
              <p:nvPr/>
            </p:nvPicPr>
            <p:blipFill>
              <a:blip r:embed="rId5"/>
              <a:srcRect l="0" t="8486" r="0" b="12861"/>
              <a:stretch/>
            </p:blipFill>
            <p:spPr>
              <a:xfrm>
                <a:off x="2844720" y="4362480"/>
                <a:ext cx="819360" cy="64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0" name="Picture 19" descr=""/>
              <p:cNvPicPr/>
              <p:nvPr/>
            </p:nvPicPr>
            <p:blipFill>
              <a:blip r:embed="rId6"/>
              <a:srcRect l="0" t="8486" r="0" b="12861"/>
              <a:stretch/>
            </p:blipFill>
            <p:spPr>
              <a:xfrm>
                <a:off x="3492360" y="4651560"/>
                <a:ext cx="819360" cy="64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1" name="Picture 20" descr=""/>
              <p:cNvPicPr/>
              <p:nvPr/>
            </p:nvPicPr>
            <p:blipFill>
              <a:blip r:embed="rId7"/>
              <a:srcRect l="0" t="8486" r="0" b="12861"/>
              <a:stretch/>
            </p:blipFill>
            <p:spPr>
              <a:xfrm>
                <a:off x="3637080" y="4075200"/>
                <a:ext cx="819000" cy="644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02" name="Group 21"/>
            <p:cNvGrpSpPr/>
            <p:nvPr/>
          </p:nvGrpSpPr>
          <p:grpSpPr>
            <a:xfrm>
              <a:off x="468360" y="4003920"/>
              <a:ext cx="1611360" cy="1220760"/>
              <a:chOff x="468360" y="4003920"/>
              <a:chExt cx="1611360" cy="1220760"/>
            </a:xfrm>
          </p:grpSpPr>
          <p:pic>
            <p:nvPicPr>
              <p:cNvPr id="403" name="Picture 22" descr=""/>
              <p:cNvPicPr/>
              <p:nvPr/>
            </p:nvPicPr>
            <p:blipFill>
              <a:blip r:embed="rId8"/>
              <a:srcRect l="0" t="8486" r="0" b="12861"/>
              <a:stretch/>
            </p:blipFill>
            <p:spPr>
              <a:xfrm>
                <a:off x="468360" y="4291200"/>
                <a:ext cx="819000" cy="64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4" name="Picture 23" descr=""/>
              <p:cNvPicPr/>
              <p:nvPr/>
            </p:nvPicPr>
            <p:blipFill>
              <a:blip r:embed="rId9"/>
              <a:srcRect l="0" t="8486" r="0" b="12861"/>
              <a:stretch/>
            </p:blipFill>
            <p:spPr>
              <a:xfrm>
                <a:off x="1116000" y="4579920"/>
                <a:ext cx="819000" cy="64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5" name="Picture 24" descr=""/>
              <p:cNvPicPr/>
              <p:nvPr/>
            </p:nvPicPr>
            <p:blipFill>
              <a:blip r:embed="rId10"/>
              <a:srcRect l="0" t="8486" r="0" b="12861"/>
              <a:stretch/>
            </p:blipFill>
            <p:spPr>
              <a:xfrm>
                <a:off x="1260360" y="4003920"/>
                <a:ext cx="819360" cy="64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06" name="Text Box 25"/>
          <p:cNvSpPr/>
          <p:nvPr/>
        </p:nvSpPr>
        <p:spPr>
          <a:xfrm>
            <a:off x="2771640" y="5229360"/>
            <a:ext cx="1729080" cy="7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се остальны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прещен выход в </a:t>
            </a:r>
            <a:r>
              <a:rPr b="0" lang="fr-FR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net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Text Box 26"/>
          <p:cNvSpPr/>
          <p:nvPr/>
        </p:nvSpPr>
        <p:spPr>
          <a:xfrm>
            <a:off x="971640" y="256392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 25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Text Box 27"/>
          <p:cNvSpPr/>
          <p:nvPr/>
        </p:nvSpPr>
        <p:spPr>
          <a:xfrm>
            <a:off x="2124000" y="386064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ы 1-24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IP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в коммутаторах. Пример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IP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в коммутаторах. Пример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395280" y="5153040"/>
            <a:ext cx="8277120" cy="62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верка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 192.168.1.1 - 192.168.1.63 могут получить доступ к Internet  и ко всем остальным PC .64 - .253 (правило 1)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 PC .64 - .253 могут иметь доступ к PC .1 - .253 (правило 2), но не могут выйти в Internet (правило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395280" y="1052640"/>
            <a:ext cx="8280360" cy="116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вила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вило 1: Если IP источника = 192.168.1.0/26 и IP назначения = 192.168.1.254/32, то разрешить (для .1 - .63 разрешить доступ в Internet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вило 2: Если IP источника = 192.168.1.0/24 и IP назначения = 192.168.1.254/32, то запретить (для .1 - .254 запретить доступ в Internet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98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вило 3: В противном случае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се запретить  остальное по умолчанию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395280" y="2421000"/>
            <a:ext cx="8277120" cy="259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# Правило 1: Разрешить для .1 - .63 доступ в Interne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eate access_profile ip source_ip_mask 255.255.255.192 destination_ip_mask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0.0.0 profile_id 10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10 add access_id auto_assign ip source_ip 192.168.1.0 destination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_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0.0.0.0 port 1-24 permi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# Правило 2: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решить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для .1 - .254 доступ в Intranet(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окальную сеть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eate access_profile ip source_ip_mask 255.255.255.0 destination_ip_mask 255.255.255.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rofile_id 20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20 add access_id auto_assign ip source_ip 192.168.1.0 destination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_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192.168.1.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rt 1-24 permi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# Правило 3: Вс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остальное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претить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eate access_profile ip source_ip_mask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0.0.0 profile_id 30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30 add access_id auto_assign ip source_ip 0.0.0.0 port 1-24 den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611280" y="1197000"/>
            <a:ext cx="7993080" cy="67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1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.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 Фильтрация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TCP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потров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 135, 137, 138, 139, 445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анды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I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eate access_profile ip tcp dst_port_mask 0xFFFF profile_id 30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30 add access_id auto_assign ip tcp dst_port 135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30 add access_id auto_assign ip tcp dst_port 137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30 add access_id auto_assign ip tcp dst_port 138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30 add access_id auto_assign ip tcp dst_port 139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30 add access_id auto_assign ip tcp dst_port 445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2. Фильтрация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UDP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портов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 135, 137, 138, 139, 44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анды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I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eate access_profile ip udp dst_port_mask 0xFFFF profile_id 40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40 add access_id auto_assign ip udp dst_port 135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40 add access_id auto_assign ip udp dst_port 137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40 add access_id auto_assign ip udp dst_port 138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40 add access_id auto_assign ip udp dst_port 139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40 add access_id auto_assign ip udp dst_port 445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Блокировка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SMB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трафика. Пример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3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3"/>
          <p:cNvSpPr/>
          <p:nvPr/>
        </p:nvSpPr>
        <p:spPr>
          <a:xfrm>
            <a:off x="395280" y="907920"/>
            <a:ext cx="843588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нцип работы Packet content filtering (PCF) на примере </a:t>
            </a:r>
            <a:r>
              <a:rPr b="1" lang="fr-FR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C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P echo request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новные части пакета, которыми можно оперировать при составлении правила PCF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stination_mac — MAC-адрес назначения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urce_mac — MAC-адрес источника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_tag — внешний тег (при использовании Q-in-Q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c_tag — тег 802.1Q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L2 — часть, начинающаяся сразу после тега 802.1Q (или от начала ether type)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92d050"/>
                </a:solidFill>
                <a:latin typeface="Arial Unicode MS"/>
                <a:ea typeface="Arial Unicode MS"/>
              </a:rPr>
              <a:t>L3 — часть, начинающаяся по окончании ether type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L4 — часть, начинающаяся по окончании IP заголовка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7" name="Picture 5" descr=""/>
          <p:cNvPicPr/>
          <p:nvPr/>
        </p:nvPicPr>
        <p:blipFill>
          <a:blip r:embed="rId1"/>
          <a:stretch/>
        </p:blipFill>
        <p:spPr>
          <a:xfrm>
            <a:off x="395280" y="1401840"/>
            <a:ext cx="8424720" cy="195588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Packet Content Filtering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профиль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3"/>
          <p:cNvSpPr/>
          <p:nvPr/>
        </p:nvSpPr>
        <p:spPr>
          <a:xfrm>
            <a:off x="468360" y="907920"/>
            <a:ext cx="822636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дача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Запрет ICMP echo request трафик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ведем соответствующий пакет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ыборку будем осуществлять по ether type (IP), протоколу (icmp) и по типу icmp 8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request)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рассматриваемом нами пакете ether type находится в L2 части в 1 и 2 байте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смещение 0), информация о протоколе (icmp) находится в L3 части в 10 байте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смещение 8), тип icmp находится в первом байте L4 части (смещение 0)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нализируемые значения выделены красным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Rectangle 8"/>
          <p:cNvSpPr/>
          <p:nvPr/>
        </p:nvSpPr>
        <p:spPr>
          <a:xfrm>
            <a:off x="433800" y="2164320"/>
            <a:ext cx="827748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14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1" name="Picture 9" descr="DES-3200_pcf_02"/>
          <p:cNvPicPr/>
          <p:nvPr/>
        </p:nvPicPr>
        <p:blipFill>
          <a:blip r:embed="rId1"/>
          <a:stretch/>
        </p:blipFill>
        <p:spPr>
          <a:xfrm>
            <a:off x="1979640" y="1633680"/>
            <a:ext cx="5040360" cy="273204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Запрет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ICMP 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трафика с помощью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PCF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. Пример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3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457200" y="907920"/>
            <a:ext cx="836280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дим сначала профиль: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access_profile packet_content_mask offset1 l2 0 0xffff offset2 l3 8 0x00ff offset3 l4 0 0xff00</a:t>
            </a:r>
            <a:r>
              <a:rPr b="1" i="1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ru-RU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rofile_id 1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веденная выше команда означает, что первым обрабатываемым полем (offset1) в нашем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лучае будет нулевое смещение в L2 части. Маску значений задаем равной 0xffff ,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то означает,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что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создаваемых в этом профиле правилах, манипулировать мы будем 1 и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 байтами L2 части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торое обрабатываемое поле (offset2) будет находиться по восьмому смещению в L3 части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аску значений задаем равной 0x00ff , в итоге вместе со смещением это означает, что в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ваемых в этом профиле правилах, манипулировать мы будем 10-м байтом L3 части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наконец, третье обрабатываемое поле (offset3) будет находиться по нулевому смещению в L4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части. Маску значений задаем равной 0xff00 , это означает, что в создаваемых в этом профиле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вилах, манипулировать мы будем 1-м байтом L4 части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дим и само правило с учетом приведенных выше значений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auto_assign packet_content offset1 0x0800</a:t>
            </a:r>
            <a:r>
              <a:rPr b="1" i="1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o</a:t>
            </a:r>
            <a:r>
              <a:rPr b="1" i="1" lang="ru-RU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ffset2 0x0001 offset3 0x0800 port 1 deny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общем виде получим следующее: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access_profile packet_content_mask offset1 l2 0 0xffff offset2 l3 8 0x00ff offset3 l4 0 0xff00</a:t>
            </a:r>
            <a:r>
              <a:rPr b="1" i="1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ru-RU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rofile_id 1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auto_assign packet_content offset1 0x0800 </a:t>
            </a:r>
            <a:r>
              <a:rPr b="1" i="1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o</a:t>
            </a:r>
            <a:r>
              <a:rPr b="1" i="1" lang="ru-RU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ffset2</a:t>
            </a:r>
            <a:r>
              <a:rPr b="1" i="1" lang="en-US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ru-RU" sz="10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x0001 offset3 0x0800 port 1 deny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зультат: указанное выше правило запретит ICMP реквесты на 1 порту коммутатора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Запрет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ICMP 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трафика с помощью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PCF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. Пример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3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4"/>
          <p:cNvSpPr/>
          <p:nvPr/>
        </p:nvSpPr>
        <p:spPr>
          <a:xfrm>
            <a:off x="468360" y="907920"/>
            <a:ext cx="822636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дача: Заблокировать SMB трафик (порты 135, 137, 138, 139, 445) на физических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ах коммутатора 1-24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ссмотрим такой пакет, взятый из Ethereal: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ыборку будем осуществлять по порту назначения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рассматриваемом нами пакете такая информация находится в L4 части в 3 и 4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айте (смещение 2). Анализируемые значения выделены красным. В данном случае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начение — 008b (шестнадцатиричная СС), что соответствует числу 139 в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есятичной системе счисления, а значит блокировать мы будем 139 порт.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6" name="Picture 5" descr=""/>
          <p:cNvPicPr/>
          <p:nvPr/>
        </p:nvPicPr>
        <p:blipFill>
          <a:blip r:embed="rId1"/>
          <a:stretch/>
        </p:blipFill>
        <p:spPr>
          <a:xfrm>
            <a:off x="2411280" y="1916280"/>
            <a:ext cx="4546800" cy="281916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Запрет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SMB 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трафика с помощью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PCF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. Пример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4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87a9"/>
                </a:solidFill>
                <a:latin typeface="Arial"/>
                <a:ea typeface="Arial"/>
              </a:rPr>
              <a:t>Статическая маршрутизац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Inter-VLAN </a:t>
            </a: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маршрутизаци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Прямоугольник 3"/>
          <p:cNvSpPr/>
          <p:nvPr/>
        </p:nvSpPr>
        <p:spPr>
          <a:xfrm>
            <a:off x="539640" y="1341360"/>
            <a:ext cx="8604360" cy="40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-VLAN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аршрутизация – это маршрутизация между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ами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нными  на одном коммутатор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анный тип маршрутизации работает по-умолчанию на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3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ах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-Link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ля работы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-VLAN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аршрутизации достаточно: создать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ы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настроить порты для них, создать интерфейсы для данных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ов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торые будут шлюзами для своих подсете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ля запрета маршрутизации между подсетями на коммутаторах используется механизм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L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4"/>
          <p:cNvSpPr/>
          <p:nvPr/>
        </p:nvSpPr>
        <p:spPr>
          <a:xfrm>
            <a:off x="468360" y="907920"/>
            <a:ext cx="83516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дим сначала профиль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правило, согласно оговоренному ранее условию: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5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access_profile packet_content_mask offset1 l4 2 0xFFFF profile_id 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1 packet_content offset1 0x008b</a:t>
            </a:r>
            <a:r>
              <a:rPr b="1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5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 аналогии создадим правила, блокирующие другие порты: 135 (87h), 137 (89h), 138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8ah),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45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1bdh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5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2 packet_content offset1 0x0087 port</a:t>
            </a:r>
            <a:r>
              <a:rPr b="1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3 packet_content offset1 0x0089 port</a:t>
            </a:r>
            <a:r>
              <a:rPr b="1" i="1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4 packet_content offset1 0x008a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5 packet_content offset1 0x01bd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5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аким образом, общий вид правил будет следующим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5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access_profile packet_content_mask offset1 l4 2 0xFFFF profile_id 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1 packet_content offset1 0x008b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2 packet_content offset1 0x0087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3 packet_content offset1 0x0089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4 packet_content offset1 0x008a port 1-24 den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17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5 packet_content offset1 0x01bd port 1-24 deny</a:t>
            </a:r>
            <a:r>
              <a:rPr b="1" lang="ru-RU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Запрет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SMB 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трафика с помощью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PCF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. Пример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4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3"/>
          <p:cNvSpPr/>
          <p:nvPr/>
        </p:nvSpPr>
        <p:spPr>
          <a:xfrm>
            <a:off x="457200" y="907920"/>
            <a:ext cx="8362800" cy="50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нцип работы Packet content filtering (PCF) на серии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xx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иден из описания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интаксиса команд </a:t>
            </a:r>
            <a:r>
              <a:rPr b="0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I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r>
              <a:rPr b="0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пользуемых при создании правил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access_profile packet_content_mask { offset_chunk_1 &lt;value 0-31&gt; &lt;hex 0x0-0xffffffff&gt; |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offset_chunk_2 &lt;value 0-31&gt; &lt;hex 0x0-0xffffffff&gt; | offset_chunk_3 &lt;value 0-31&gt; &lt;hex 0x0-0xffffffff&gt; |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offset_chunk_4 &lt;value 0-31&gt; &lt;hex 0x0-0xffffffff&gt;} profile_id &lt;value 1-14&gt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&lt;value 1-14&gt; add access_id [auto_assign | &lt;value 1-128&gt;]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acket_content {offset_chunk_1 &lt;hex 0x0-0xffffffff&gt; | offset_chunk_2 &lt;hex 0x0-0xffffffff&gt; |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offset_chunk_3 &lt;hex 0x0-0xffffffff&gt; | offset_chunk_4 &lt;hex 0x0-0xffffffff&gt;} port [&lt;portlist&gt; | all]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[permit</a:t>
            </a:r>
            <a:r>
              <a:rPr b="1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1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{priority &lt;value 0-7&gt; {replace_priority} | rx_rate [no_limit | &lt;value 1-156249&gt;] |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replace_dscp &lt;value 0-63&gt; | counter [enable | disable]} | mirror {group_id &lt;value 1-4&gt;} | deny]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к видно, при помощи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-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х ячеек </a:t>
            </a:r>
            <a:r>
              <a:rPr b="1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unk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можно анализировать первые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28 байт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а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аждая ячейка </a:t>
            </a:r>
            <a:r>
              <a:rPr b="0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unk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зволяет осуществлять выборку до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-х байт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ответствие каждого из 128 байт пакета номеру </a:t>
            </a:r>
            <a:r>
              <a:rPr b="0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unk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ведено на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ледующем слайде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PCF ACL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в коммутаторах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серии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DGS-3600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4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280360" cy="400680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5"/>
          <p:cNvSpPr/>
          <p:nvPr/>
        </p:nvSpPr>
        <p:spPr>
          <a:xfrm>
            <a:off x="457200" y="1197000"/>
            <a:ext cx="78598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8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ответствие каждого из 128 байт пакета номеру </a:t>
            </a:r>
            <a:r>
              <a:rPr b="0" lang="fr-F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unk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PCF ACL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в коммутаторах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серии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DGS-3600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4"/>
          <p:cNvSpPr/>
          <p:nvPr/>
        </p:nvSpPr>
        <p:spPr>
          <a:xfrm>
            <a:off x="468360" y="1052640"/>
            <a:ext cx="82263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дача : Заблокировать  SMB трафик (порты 135, 137, 138, 139, 445) на физических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ах коммутатора 1-24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новь рассмотрим пакет, взятый из Ethereal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формация о порте назначения содержится в байтах 24h и 25h (36 и 37 в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есятичной СС соответственно). Обратимся к таблице, приведенной выше. Байты 3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37 входят в chunk9. Создадим профиль на коммутаторе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6" name="Picture 5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4546800" cy="281952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Запрет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SMB 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трафика с помощью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PCF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. Пример 5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Запрет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SMB 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трафика с помощью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PCF</a:t>
            </a: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. Пример 5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Rectangle 4"/>
          <p:cNvSpPr/>
          <p:nvPr/>
        </p:nvSpPr>
        <p:spPr>
          <a:xfrm>
            <a:off x="468360" y="981000"/>
            <a:ext cx="8351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дим профиль на коммутаторе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access_profile profile_id 1 packet_content_mask offset_chunk_1 9 0x0000ffff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веденная выше команда означает, что первым обрабатываемым chunk (offset_chunk_1) в  нашем случае будет chunk9. Маску значений задаем равной  0x0000ffff , это означает, что в создаваемых в этом профил правилах, манипулировать мы будем 36 и 37 байтами (вторая половина chunk)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алее создадим правило в нашем профиле: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auto_assign packet_content offset_chunk_1 0x1BD port 1-24 deny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этом правиле указан номер созданного выше профиля (profile_id 1). Значение, принимаемое обрабатываемым нами offset_chunk_1, задаем равным  0x008b (139 порт в десятичной СС). Физические порты коммутатора для которых 139 порт будет блокироваться: 1-24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 аналогии создадим правила, блокирующие другие порты: 135 (87h), 137 (89h), 138 (8Ah), 445 (1BDh)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кончательный вид правил для блокировки SMB выглядит следующим образом: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access_profile profile_id 1 packet_content_mask offset_chunk_1 9 0x0000ffff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auto_assign packet_content offset_chunk_1 0x87 port 1-24 deny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auto_assign packet_content offset_chunk_1 0x89 port 1-24 deny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auto_assign packet_content offset_chunk_1 0x8A port 1-24 deny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auto_assign packet_content offset_chunk_1 0x8B port 1-24 deny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78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auto_assign packet_content offset_chunk_1 0x1BD port 1-24 deny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2"/>
          <p:cNvSpPr/>
          <p:nvPr/>
        </p:nvSpPr>
        <p:spPr>
          <a:xfrm>
            <a:off x="611280" y="1052640"/>
            <a:ext cx="799308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12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 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оритизировать можно любой трафик, попадающий под правило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L.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аким образом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первым шагом является создание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I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филя доступ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12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 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ледующим шагом является написание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“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вило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профиля доступ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”.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 попадании пакета под правило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ы можем: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12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ассоциировать пакет с очередью приоритетов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802.1p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параметр </a:t>
            </a:r>
            <a:r>
              <a:rPr b="1" i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ority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12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заменить значение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02.1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еред передачей пакет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алее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раметр </a:t>
            </a:r>
            <a:r>
              <a:rPr b="1" i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lace_</a:t>
            </a:r>
            <a:r>
              <a:rPr b="1" i="1" lang="fr-F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iority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12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дать пакету новое значение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SCP (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раметр </a:t>
            </a:r>
            <a:r>
              <a:rPr b="1" i="1" lang="fr-F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pl</a:t>
            </a:r>
            <a:r>
              <a:rPr b="1" i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e_dscp_with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12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. 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пакет проассоциирован с очередью приоритетов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802.1p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н, затем, будет обработан в соответствии с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“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льзовательским приоритетом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02.1p”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для проведения соответствия приоритета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02.1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дной из очередей приоритет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Приоритезация трафика с помощью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4829040" cy="26002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3851280" y="3141720"/>
            <a:ext cx="4629240" cy="260964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Приоритезация трафика с помощью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Line 1"/>
          <p:cNvSpPr/>
          <p:nvPr/>
        </p:nvSpPr>
        <p:spPr>
          <a:xfrm>
            <a:off x="5410080" y="2387520"/>
            <a:ext cx="1033560" cy="68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Line 2"/>
          <p:cNvSpPr/>
          <p:nvPr/>
        </p:nvSpPr>
        <p:spPr>
          <a:xfrm flipH="1">
            <a:off x="3201840" y="2347920"/>
            <a:ext cx="5083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Line 3"/>
          <p:cNvSpPr/>
          <p:nvPr/>
        </p:nvSpPr>
        <p:spPr>
          <a:xfrm>
            <a:off x="5181480" y="2378160"/>
            <a:ext cx="18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Line 4"/>
          <p:cNvSpPr/>
          <p:nvPr/>
        </p:nvSpPr>
        <p:spPr>
          <a:xfrm>
            <a:off x="3924360" y="234792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Line 5"/>
          <p:cNvSpPr/>
          <p:nvPr/>
        </p:nvSpPr>
        <p:spPr>
          <a:xfrm>
            <a:off x="5257800" y="1195560"/>
            <a:ext cx="1440" cy="102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Line 6"/>
          <p:cNvSpPr/>
          <p:nvPr/>
        </p:nvSpPr>
        <p:spPr>
          <a:xfrm>
            <a:off x="3886200" y="1052640"/>
            <a:ext cx="1440" cy="117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51" name="Object 8"/>
          <p:cNvGraphicFramePr/>
          <p:nvPr/>
        </p:nvGraphicFramePr>
        <p:xfrm>
          <a:off x="3132000" y="981000"/>
          <a:ext cx="298296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981000"/>
                    <a:ext cx="29829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Text Box 11"/>
          <p:cNvSpPr/>
          <p:nvPr/>
        </p:nvSpPr>
        <p:spPr>
          <a:xfrm>
            <a:off x="539640" y="3638520"/>
            <a:ext cx="807084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мер: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маркировать пакеты с определённым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SCP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пределённым приоритетом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02.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p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поставить в соответствующую очередь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следующие правила промаркируют пакеты следующим образом: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чередь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1 -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данные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scp =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0  =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оритет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02.1p = 3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чередь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2 –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анные с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scp =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0  =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оритет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02.1p = 5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чередь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3 –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анные с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scp =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0  = </a:t>
            </a:r>
            <a:r>
              <a:rPr b="0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оритет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02.1p = 7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eate access_profile ip dscp profile_id 10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10 add access_id 10 ip dscp 30 port 1 permit priority 7 replace_priority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10 add access_id 20 ip dscp 30 port 24 permit priority 7 replace_priority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10 add access_id 30 ip dscp 20 port 1 permit priority 5 replace_priority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10 add access_id 40 ip dscp 20 port 24 permit priority 5 replace_priority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10 add access_id 50 ip dscp 10 port 1 permit priority 3 replace_priority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access_profile profile_id 10 add access_id 60 ip dscp 10 port 24 permit priority 3 replace_priority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Text Box 13"/>
          <p:cNvSpPr/>
          <p:nvPr/>
        </p:nvSpPr>
        <p:spPr>
          <a:xfrm>
            <a:off x="1332000" y="9795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Text Box 14"/>
          <p:cNvSpPr/>
          <p:nvPr/>
        </p:nvSpPr>
        <p:spPr>
          <a:xfrm>
            <a:off x="3643200" y="18874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Text Box 15"/>
          <p:cNvSpPr/>
          <p:nvPr/>
        </p:nvSpPr>
        <p:spPr>
          <a:xfrm>
            <a:off x="3643200" y="14968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Text Box 16"/>
          <p:cNvSpPr/>
          <p:nvPr/>
        </p:nvSpPr>
        <p:spPr>
          <a:xfrm>
            <a:off x="2771640" y="328464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P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Text Box 17"/>
          <p:cNvSpPr/>
          <p:nvPr/>
        </p:nvSpPr>
        <p:spPr>
          <a:xfrm>
            <a:off x="5214960" y="1854360"/>
            <a:ext cx="24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Text Box 18"/>
          <p:cNvSpPr/>
          <p:nvPr/>
        </p:nvSpPr>
        <p:spPr>
          <a:xfrm>
            <a:off x="5214960" y="1496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Line 19"/>
          <p:cNvSpPr/>
          <p:nvPr/>
        </p:nvSpPr>
        <p:spPr>
          <a:xfrm flipV="1">
            <a:off x="3714840" y="1711080"/>
            <a:ext cx="1440" cy="30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Line 20"/>
          <p:cNvSpPr/>
          <p:nvPr/>
        </p:nvSpPr>
        <p:spPr>
          <a:xfrm flipV="1">
            <a:off x="5429160" y="1711080"/>
            <a:ext cx="1800" cy="30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Text Box 21"/>
          <p:cNvSpPr/>
          <p:nvPr/>
        </p:nvSpPr>
        <p:spPr>
          <a:xfrm>
            <a:off x="214200" y="2131920"/>
            <a:ext cx="30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: DES-3200-26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Text Box 22"/>
          <p:cNvSpPr/>
          <p:nvPr/>
        </p:nvSpPr>
        <p:spPr>
          <a:xfrm>
            <a:off x="6084720" y="328464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P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Text Box 23"/>
          <p:cNvSpPr/>
          <p:nvPr/>
        </p:nvSpPr>
        <p:spPr>
          <a:xfrm>
            <a:off x="6084720" y="213192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: DES-3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00-26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Text Box 24"/>
          <p:cNvSpPr/>
          <p:nvPr/>
        </p:nvSpPr>
        <p:spPr>
          <a:xfrm>
            <a:off x="6396480" y="979560"/>
            <a:ext cx="12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27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Text Box 25"/>
          <p:cNvSpPr/>
          <p:nvPr/>
        </p:nvSpPr>
        <p:spPr>
          <a:xfrm>
            <a:off x="3500280" y="149688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Text Box 26"/>
          <p:cNvSpPr/>
          <p:nvPr/>
        </p:nvSpPr>
        <p:spPr>
          <a:xfrm>
            <a:off x="5364000" y="14875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2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Text Box 27"/>
          <p:cNvSpPr/>
          <p:nvPr/>
        </p:nvSpPr>
        <p:spPr>
          <a:xfrm>
            <a:off x="539640" y="5700600"/>
            <a:ext cx="828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Основываясь на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соответствии 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“802.1p User Priority”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пакет будет поставлен в очередь с наивысшим приоритетом и будет обработан первым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69" name="Group 28"/>
          <p:cNvGrpSpPr/>
          <p:nvPr/>
        </p:nvGrpSpPr>
        <p:grpSpPr>
          <a:xfrm>
            <a:off x="3492360" y="2779560"/>
            <a:ext cx="1006560" cy="790560"/>
            <a:chOff x="3492360" y="2779560"/>
            <a:chExt cx="1006560" cy="790560"/>
          </a:xfrm>
        </p:grpSpPr>
        <p:pic>
          <p:nvPicPr>
            <p:cNvPr id="470" name="Picture 29" descr=""/>
            <p:cNvPicPr/>
            <p:nvPr/>
          </p:nvPicPr>
          <p:blipFill>
            <a:blip r:embed="rId3"/>
            <a:srcRect l="0" t="8463" r="0" b="12864"/>
            <a:stretch/>
          </p:blipFill>
          <p:spPr>
            <a:xfrm>
              <a:off x="3492360" y="2965320"/>
              <a:ext cx="51120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30" descr=""/>
            <p:cNvPicPr/>
            <p:nvPr/>
          </p:nvPicPr>
          <p:blipFill>
            <a:blip r:embed="rId4"/>
            <a:srcRect l="0" t="8463" r="0" b="12864"/>
            <a:stretch/>
          </p:blipFill>
          <p:spPr>
            <a:xfrm>
              <a:off x="3897360" y="3152520"/>
              <a:ext cx="51120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31" descr=""/>
            <p:cNvPicPr/>
            <p:nvPr/>
          </p:nvPicPr>
          <p:blipFill>
            <a:blip r:embed="rId5"/>
            <a:srcRect l="0" t="8463" r="0" b="12864"/>
            <a:stretch/>
          </p:blipFill>
          <p:spPr>
            <a:xfrm>
              <a:off x="3987720" y="2779560"/>
              <a:ext cx="511200" cy="417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3" name="Picture 32" descr=""/>
          <p:cNvPicPr/>
          <p:nvPr/>
        </p:nvPicPr>
        <p:blipFill>
          <a:blip r:embed="rId6"/>
          <a:srcRect l="0" t="8463" r="0" b="12864"/>
          <a:stretch/>
        </p:blipFill>
        <p:spPr>
          <a:xfrm>
            <a:off x="4788000" y="2965320"/>
            <a:ext cx="512640" cy="4194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33" descr=""/>
          <p:cNvPicPr/>
          <p:nvPr/>
        </p:nvPicPr>
        <p:blipFill>
          <a:blip r:embed="rId7"/>
          <a:srcRect l="0" t="8463" r="0" b="12864"/>
          <a:stretch/>
        </p:blipFill>
        <p:spPr>
          <a:xfrm>
            <a:off x="5192640" y="3152880"/>
            <a:ext cx="513000" cy="4190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4" descr=""/>
          <p:cNvPicPr/>
          <p:nvPr/>
        </p:nvPicPr>
        <p:blipFill>
          <a:blip r:embed="rId8"/>
          <a:srcRect l="0" t="8463" r="0" b="12864"/>
          <a:stretch/>
        </p:blipFill>
        <p:spPr>
          <a:xfrm>
            <a:off x="5283360" y="2779560"/>
            <a:ext cx="512640" cy="4194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5" descr=""/>
          <p:cNvPicPr/>
          <p:nvPr/>
        </p:nvPicPr>
        <p:blipFill>
          <a:blip r:embed="rId9"/>
          <a:srcRect l="0" t="8463" r="0" b="12864"/>
          <a:stretch/>
        </p:blipFill>
        <p:spPr>
          <a:xfrm>
            <a:off x="6084720" y="2924280"/>
            <a:ext cx="513000" cy="4190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36" descr=""/>
          <p:cNvPicPr/>
          <p:nvPr/>
        </p:nvPicPr>
        <p:blipFill>
          <a:blip r:embed="rId10"/>
          <a:srcRect l="0" t="8463" r="0" b="12864"/>
          <a:stretch/>
        </p:blipFill>
        <p:spPr>
          <a:xfrm>
            <a:off x="2771640" y="2924280"/>
            <a:ext cx="513000" cy="4190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39" descr=""/>
          <p:cNvPicPr/>
          <p:nvPr/>
        </p:nvPicPr>
        <p:blipFill>
          <a:blip r:embed="rId11"/>
          <a:stretch/>
        </p:blipFill>
        <p:spPr>
          <a:xfrm>
            <a:off x="3000240" y="2139840"/>
            <a:ext cx="1521000" cy="3571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9" descr=""/>
          <p:cNvPicPr/>
          <p:nvPr/>
        </p:nvPicPr>
        <p:blipFill>
          <a:blip r:embed="rId12"/>
          <a:stretch/>
        </p:blipFill>
        <p:spPr>
          <a:xfrm>
            <a:off x="4572000" y="2139840"/>
            <a:ext cx="1521000" cy="35712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Приоритезация трафика с помощью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Прямая соединительная линия 11"/>
          <p:cNvSpPr/>
          <p:nvPr/>
        </p:nvSpPr>
        <p:spPr>
          <a:xfrm>
            <a:off x="4788000" y="2060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Прямая соединительная линия 6"/>
          <p:cNvSpPr/>
          <p:nvPr/>
        </p:nvSpPr>
        <p:spPr>
          <a:xfrm>
            <a:off x="1763640" y="2060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Приоритезация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IPTV </a:t>
            </a:r>
            <a:r>
              <a:rPr b="0" lang="ru-RU" sz="3200" spc="-1" strike="noStrike">
                <a:solidFill>
                  <a:srgbClr val="0087a9"/>
                </a:solidFill>
                <a:latin typeface="Arial"/>
                <a:ea typeface="Arial"/>
              </a:rPr>
              <a:t>трафика с помощью </a:t>
            </a:r>
            <a:r>
              <a:rPr b="0" lang="en-US" sz="3200" spc="-1" strike="noStrike">
                <a:solidFill>
                  <a:srgbClr val="0087a9"/>
                </a:solidFill>
                <a:latin typeface="Arial"/>
                <a:ea typeface="Arial"/>
              </a:rPr>
              <a:t>AC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84" name="Object 8"/>
          <p:cNvGraphicFramePr/>
          <p:nvPr/>
        </p:nvGraphicFramePr>
        <p:xfrm>
          <a:off x="2843280" y="1916280"/>
          <a:ext cx="266364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1916280"/>
                    <a:ext cx="266364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6" name="Picture 15" descr="C:\Users\06075\Desktop\Icons for Topology\Computer 01.jpg"/>
          <p:cNvPicPr/>
          <p:nvPr/>
        </p:nvPicPr>
        <p:blipFill>
          <a:blip r:embed="rId3"/>
          <a:stretch/>
        </p:blipFill>
        <p:spPr>
          <a:xfrm>
            <a:off x="1403280" y="1628640"/>
            <a:ext cx="581040" cy="792360"/>
          </a:xfrm>
          <a:prstGeom prst="rect">
            <a:avLst/>
          </a:prstGeom>
          <a:ln w="0">
            <a:noFill/>
          </a:ln>
        </p:spPr>
      </p:pic>
      <p:sp>
        <p:nvSpPr>
          <p:cNvPr id="487" name="Прямоугольник 8"/>
          <p:cNvSpPr/>
          <p:nvPr/>
        </p:nvSpPr>
        <p:spPr>
          <a:xfrm>
            <a:off x="1169640" y="119700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treamer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488" name="Прямая со стрелкой 8"/>
          <p:cNvCxnSpPr/>
          <p:nvPr/>
        </p:nvCxnSpPr>
        <p:spPr>
          <a:xfrm>
            <a:off x="2050920" y="1988640"/>
            <a:ext cx="721440" cy="252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489" name="Прямоугольник 8"/>
          <p:cNvSpPr/>
          <p:nvPr/>
        </p:nvSpPr>
        <p:spPr>
          <a:xfrm>
            <a:off x="2031120" y="1557360"/>
            <a:ext cx="781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Multicast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1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поток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Облако 12"/>
          <p:cNvSpPr/>
          <p:nvPr/>
        </p:nvSpPr>
        <p:spPr>
          <a:xfrm>
            <a:off x="5796000" y="1628640"/>
            <a:ext cx="2305080" cy="936720"/>
          </a:xfrm>
          <a:custGeom>
            <a:avLst/>
            <a:gdLst>
              <a:gd name="textAreaLeft" fmla="*/ 317520 w 2305080"/>
              <a:gd name="textAreaRight" fmla="*/ 1823400 w 2305080"/>
              <a:gd name="textAreaTop" fmla="*/ 141480 h 936720"/>
              <a:gd name="textAreaBottom" fmla="*/ 752040 h 93672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Прямоугольник 8"/>
          <p:cNvSpPr/>
          <p:nvPr/>
        </p:nvSpPr>
        <p:spPr>
          <a:xfrm>
            <a:off x="5961960" y="1844640"/>
            <a:ext cx="18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Intrane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Local Area Networ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Прямоугольник 8"/>
          <p:cNvSpPr/>
          <p:nvPr/>
        </p:nvSpPr>
        <p:spPr>
          <a:xfrm>
            <a:off x="-83880" y="2852640"/>
            <a:ext cx="933696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дача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маркировать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 на входе с помощью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L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дим сначала профиль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правило, согласно оговоренному ранее условию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access_profile profile_id 1 ip destination_ip_mask 2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40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0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.0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1 ip destination_ip 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224.0.0.0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port  1 permit 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priority 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4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replace_priorit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зультат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маркиру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lt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, обрабатывает его в соответствующей очереди и далее пробрасывает с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даной меткой  802.1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Если в сети нет 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VoIP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сервиса, то 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Multicast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трафик можно промаркировать  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QoS 5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, если есть, тогда  рекомендуется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VoIP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трафик маркировать  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QoS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5, а 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Multicast 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трафик 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QoS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4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Прямоугольник 8"/>
          <p:cNvSpPr/>
          <p:nvPr/>
        </p:nvSpPr>
        <p:spPr>
          <a:xfrm>
            <a:off x="2618280" y="2205000"/>
            <a:ext cx="76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т 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Прямоугольник 1"/>
          <p:cNvSpPr/>
          <p:nvPr/>
        </p:nvSpPr>
        <p:spPr>
          <a:xfrm>
            <a:off x="395280" y="907920"/>
            <a:ext cx="8353440" cy="54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дача: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граничить весь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rane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лосой пропускания в 20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bps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ля подсети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2.168.1.x/24 c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мощью   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L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здаем профиль и правило с ограничением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access_profile profile_id 1 ip destination_ip_mask 255.255.255.0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access_profile profile_id 1 add access_id 1 ip destination_ip 192.168.1.0 port  1-24 permit rx_rate 320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верка настроек с помощью программы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erf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erf -c 192.168.1.20 -i 1 -t 1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-----------------------------------------------------------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lient connecting to 192.168.1.20, TCP port 5001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CP window size: 8.00 KByte (default)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-----------------------------------------------------------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1912] local 192.168.1.15 port 2870 connected with 192.168.1.20 port 5001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 ID]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val      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ansfer    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ndwidth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1912]  0.0- 1.0 sec   3.35 MBytes  28.1 Mbits/sec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1912]  1.0- 2.0 sec   2.09 MBytes  17.5 Mbits/sec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1912]  2.0- 3.0 sec   2.58 MBytes  21.6 Mbits/sec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1912]  3.0- 4.0 sec   2.53 MBytes  21.2 Mbits/sec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1912]  4.0- 5.0 sec   2.34 MBytes  19.6 Mbits/sec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1912]  5.0- 6.0 sec   2.02 MBytes  17.0 Mbits/sec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1912]  6.0- 7.0 sec   2.82 MBytes  23.7 Mbits/sec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1912]  7.0- 8.0 sec   2.05 MBytes  17.2 Mbits/sec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1912]  8.0- 9.0 sec   2.60 MBytes  21.8 Mbits/sec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1912]  9.0-10.0 sec  1.92 MBytes  16.1 Mbits/sec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1912]  0.0-10.1 sec  24.3 MBytes  20.2 Mbits/sec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*   </a:t>
            </a:r>
            <a:r>
              <a:rPr b="0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320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шагов * 64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kbps = 20480kbps = </a:t>
            </a: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20Mbp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87a9"/>
                </a:solidFill>
                <a:latin typeface="Arial"/>
                <a:ea typeface="Arial"/>
              </a:rPr>
              <a:t>Контроль полосы пропускания с помощью </a:t>
            </a:r>
            <a:r>
              <a:rPr b="0" lang="en-US" sz="2800" spc="-1" strike="noStrike">
                <a:solidFill>
                  <a:srgbClr val="0087a9"/>
                </a:solidFill>
                <a:latin typeface="Arial"/>
                <a:ea typeface="Arial"/>
              </a:rPr>
              <a:t>AC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87a9"/>
                </a:solidFill>
                <a:latin typeface="Arial"/>
                <a:ea typeface="Arial"/>
              </a:rPr>
              <a:t>Динамическая маршрутизац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Пример использования протокола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RIPv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039680" y="907920"/>
            <a:ext cx="6845400" cy="8654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"/>
          <p:cNvSpPr/>
          <p:nvPr/>
        </p:nvSpPr>
        <p:spPr>
          <a:xfrm>
            <a:off x="1035000" y="1825560"/>
            <a:ext cx="6345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ключение RIPv1 на обоих коммутаторах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able rip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rip all tx_mode v1_only rx_mode v1_only state enable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076400" y="2624040"/>
          <a:ext cx="5871960" cy="1236600"/>
        </p:xfrm>
        <a:graphic>
          <a:graphicData uri="http://schemas.openxmlformats.org/drawingml/2006/table">
            <a:tbl>
              <a:tblPr/>
              <a:tblGrid>
                <a:gridCol w="1800000"/>
                <a:gridCol w="1282680"/>
                <a:gridCol w="1189080"/>
                <a:gridCol w="639720"/>
                <a:gridCol w="960480"/>
              </a:tblGrid>
              <a:tr h="487440">
                <a:tc gridSpan="5"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DES-3612:5#</a:t>
                      </a: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h iproute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  ← Проверка состояния интерфейс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Command: show iprout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outing Tabl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160"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P Address/Netmas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---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.1.1.0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0.1.1.0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200.1.1.0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Gatewa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0.0.0.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0.0.0.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.1.1.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nterfac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yste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nt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yste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Cos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Protoco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Loc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Loc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RIP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600">
                      <a:solidFill>
                        <a:srgbClr val="000000"/>
                      </a:solidFill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042920" y="4005360"/>
          <a:ext cx="6072120" cy="1920600"/>
        </p:xfrm>
        <a:graphic>
          <a:graphicData uri="http://schemas.openxmlformats.org/drawingml/2006/table">
            <a:tbl>
              <a:tblPr/>
              <a:tblGrid>
                <a:gridCol w="819360"/>
                <a:gridCol w="1158840"/>
                <a:gridCol w="887400"/>
                <a:gridCol w="819000"/>
                <a:gridCol w="1227240"/>
                <a:gridCol w="1160280"/>
              </a:tblGrid>
              <a:tr h="952560">
                <a:tc gridSpan="6"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DES-3612:5#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h rip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←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Проверка версии и статус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IP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Command: sh rip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IP Global State : En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IP Interface Setting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2160"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nterfac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yste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nt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P Addres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.1.1.1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0.1.1.1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TX Mod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V1 Onl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V1 Onl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X Mod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V1 Onl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V1 Onl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Authentic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Dis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Dis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tat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En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En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880">
                <a:tc grid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Total Entries : 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1"/>
          <p:cNvSpPr/>
          <p:nvPr/>
        </p:nvSpPr>
        <p:spPr>
          <a:xfrm>
            <a:off x="1187280" y="2997360"/>
            <a:ext cx="676944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CPU Interface Filter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Содержимое 2"/>
          <p:cNvSpPr/>
          <p:nvPr/>
        </p:nvSpPr>
        <p:spPr>
          <a:xfrm>
            <a:off x="457200" y="1125360"/>
            <a:ext cx="822636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PU Interface Filtering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ли иначе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ftware ACL –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то списки доступа, предназначенные для фильтрации пакетов, которые не могут быть отброшены аппаратными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L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 таким пакетам относится трафик, обрабатываемый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PU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 управления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telnet, SSH)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а также весь трафик к 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ystem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терфейсу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NMP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ироковещательный трафик во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,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котором находится управляющий интерфейс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ногоадресная рассылка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multicast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комендуется применять для снижения загрузки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PU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в случаях «подвисаний» управления и для фильтрации нежелательных многоадресных рассыло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CPU Interface Filter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Содержимое 2"/>
          <p:cNvSpPr/>
          <p:nvPr/>
        </p:nvSpPr>
        <p:spPr>
          <a:xfrm>
            <a:off x="376200" y="1052640"/>
            <a:ext cx="822816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обходимо ограничить доступ к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ystem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терфейсу коммутатор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идит по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CM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К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не видит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if Syst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Содержимое 2"/>
          <p:cNvSpPr/>
          <p:nvPr/>
        </p:nvSpPr>
        <p:spPr>
          <a:xfrm>
            <a:off x="380880" y="1828800"/>
            <a:ext cx="7810560" cy="15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8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а коммутатор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enable cpu_interface_filtering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reate cpu access_profile profile_id 1 ip source_ip_mask 255.255.255.128 icmp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3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cpu access_profile profile_id 1 add access_id 1 ip source_ip 10.90.90.91 icmp port 1 deny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Содержимое 2"/>
          <p:cNvSpPr/>
          <p:nvPr/>
        </p:nvSpPr>
        <p:spPr>
          <a:xfrm>
            <a:off x="468360" y="3265560"/>
            <a:ext cx="497844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" bIns="0" anchor="t">
            <a:noAutofit/>
          </a:bodyPr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терфейс коммутатора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ystem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гражден от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CM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ов ПК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очно так же можно запретить любой вид трафик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8000"/>
              </a:lnSpc>
              <a:spcAft>
                <a:spcPts val="12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PU access_profile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 отображаются в общем списке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CL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посмотреть их можно командой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show cpu access_profi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02" name="Picture 7" descr=""/>
          <p:cNvPicPr/>
          <p:nvPr/>
        </p:nvPicPr>
        <p:blipFill>
          <a:blip r:embed="rId1"/>
          <a:stretch/>
        </p:blipFill>
        <p:spPr>
          <a:xfrm>
            <a:off x="5526000" y="3067200"/>
            <a:ext cx="3156120" cy="283680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ример использования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CPU Interface Filter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1"/>
          <p:cNvSpPr/>
          <p:nvPr/>
        </p:nvSpPr>
        <p:spPr>
          <a:xfrm>
            <a:off x="1187280" y="2997360"/>
            <a:ext cx="676944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新細明體"/>
              </a:rPr>
              <a:t>Safeguard Engin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DGS-1224T"/>
          <p:cNvPicPr/>
          <p:nvPr/>
        </p:nvPicPr>
        <p:blipFill>
          <a:blip r:embed="rId1"/>
          <a:stretch/>
        </p:blipFill>
        <p:spPr>
          <a:xfrm>
            <a:off x="3024360" y="3378240"/>
            <a:ext cx="2738160" cy="1225440"/>
          </a:xfrm>
          <a:prstGeom prst="rect">
            <a:avLst/>
          </a:prstGeom>
          <a:ln w="0">
            <a:noFill/>
          </a:ln>
        </p:spPr>
      </p:pic>
      <p:sp>
        <p:nvSpPr>
          <p:cNvPr id="506" name="Line 9"/>
          <p:cNvSpPr/>
          <p:nvPr/>
        </p:nvSpPr>
        <p:spPr>
          <a:xfrm flipH="1" flipV="1">
            <a:off x="4716000" y="3860640"/>
            <a:ext cx="1430280" cy="1090800"/>
          </a:xfrm>
          <a:prstGeom prst="line">
            <a:avLst/>
          </a:prstGeom>
          <a:ln w="7632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AutoShape 3"/>
          <p:cNvSpPr/>
          <p:nvPr/>
        </p:nvSpPr>
        <p:spPr>
          <a:xfrm rot="13216800">
            <a:off x="4458960" y="4025160"/>
            <a:ext cx="2268360" cy="1150920"/>
          </a:xfrm>
          <a:custGeom>
            <a:avLst/>
            <a:gdLst>
              <a:gd name="textAreaLeft" fmla="*/ 0 w 2268360"/>
              <a:gd name="textAreaRight" fmla="*/ 2268720 w 226836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7" y="0"/>
                </a:lnTo>
                <a:lnTo>
                  <a:pt x="21600" y="10800"/>
                </a:lnTo>
                <a:lnTo>
                  <a:pt x="1774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83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08" name="Picture 4" descr="icon2"/>
          <p:cNvPicPr/>
          <p:nvPr/>
        </p:nvPicPr>
        <p:blipFill>
          <a:blip r:embed="rId2"/>
          <a:stretch/>
        </p:blipFill>
        <p:spPr>
          <a:xfrm rot="300600">
            <a:off x="4214520" y="3614400"/>
            <a:ext cx="468360" cy="18108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5"/>
          <p:cNvSpPr/>
          <p:nvPr/>
        </p:nvSpPr>
        <p:spPr>
          <a:xfrm>
            <a:off x="825480" y="981000"/>
            <a:ext cx="79120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Safeguard Engine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TM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работан для того, чтобы повысить надёжность новых коммутаторов и общую доступность и отказоустойчивость сети.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4905360" y="1630440"/>
            <a:ext cx="376560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PU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а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едназначен для обработки управляющей информации, такой как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TP, SNMP,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оступ по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EB-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терфейсу и т.д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акж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PU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рабатывает некоторый специфичный трафик, такой как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ироковещание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 с неизвестным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-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ом назначения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ироковещание и т.д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836640" y="4994280"/>
            <a:ext cx="398304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о в современных сетях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остаточно много вирусов и вредоносного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. Обычно они генерируют много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интересного» для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PU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такого как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R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ироковещание например)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841320" y="2000160"/>
            <a:ext cx="330984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есь этот трафик загружает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PU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не дает ему возможности обрабатывать более важные задачи, такие как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министративный доступ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STP, SNM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прос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Line 10"/>
          <p:cNvSpPr/>
          <p:nvPr/>
        </p:nvSpPr>
        <p:spPr>
          <a:xfrm flipH="1">
            <a:off x="4714560" y="3301920"/>
            <a:ext cx="1095480" cy="274680"/>
          </a:xfrm>
          <a:prstGeom prst="line">
            <a:avLst/>
          </a:prstGeom>
          <a:ln w="7632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Line 11"/>
          <p:cNvSpPr/>
          <p:nvPr/>
        </p:nvSpPr>
        <p:spPr>
          <a:xfrm flipV="1">
            <a:off x="2260440" y="3745080"/>
            <a:ext cx="1797120" cy="496800"/>
          </a:xfrm>
          <a:prstGeom prst="line">
            <a:avLst/>
          </a:prstGeom>
          <a:ln w="7632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Line 12"/>
          <p:cNvSpPr/>
          <p:nvPr/>
        </p:nvSpPr>
        <p:spPr>
          <a:xfrm>
            <a:off x="3586320" y="3084480"/>
            <a:ext cx="690480" cy="426960"/>
          </a:xfrm>
          <a:prstGeom prst="line">
            <a:avLst/>
          </a:prstGeom>
          <a:ln w="7632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AutoShape 13"/>
          <p:cNvSpPr/>
          <p:nvPr/>
        </p:nvSpPr>
        <p:spPr>
          <a:xfrm>
            <a:off x="4067280" y="3500280"/>
            <a:ext cx="720720" cy="432000"/>
          </a:xfrm>
          <a:custGeom>
            <a:avLst/>
            <a:gdLst>
              <a:gd name="textAreaLeft" fmla="*/ 105480 w 720720"/>
              <a:gd name="textAreaRight" fmla="*/ 615240 w 720720"/>
              <a:gd name="textAreaTop" fmla="*/ 63000 h 432000"/>
              <a:gd name="textAreaBottom" fmla="*/ 369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Text Box 14"/>
          <p:cNvSpPr/>
          <p:nvPr/>
        </p:nvSpPr>
        <p:spPr>
          <a:xfrm>
            <a:off x="5853240" y="3049560"/>
            <a:ext cx="208728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Пакеты </a:t>
            </a: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BPDU </a:t>
            </a: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протокола </a:t>
            </a: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STP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IGMP snoopin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Text Box 15"/>
          <p:cNvSpPr/>
          <p:nvPr/>
        </p:nvSpPr>
        <p:spPr>
          <a:xfrm>
            <a:off x="1279440" y="4270320"/>
            <a:ext cx="11509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Доступ к </a:t>
            </a: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WEB </a:t>
            </a: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интерфейсу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Text Box 16"/>
          <p:cNvSpPr/>
          <p:nvPr/>
        </p:nvSpPr>
        <p:spPr>
          <a:xfrm>
            <a:off x="2851200" y="2854440"/>
            <a:ext cx="1125360" cy="1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SNMP </a:t>
            </a: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опрос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Text Box 17"/>
          <p:cNvSpPr/>
          <p:nvPr/>
        </p:nvSpPr>
        <p:spPr>
          <a:xfrm>
            <a:off x="5864400" y="4940280"/>
            <a:ext cx="189036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ARP </a:t>
            </a: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широковещание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Пакеты с неизвестным </a:t>
            </a: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IP-</a:t>
            </a: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адресом назначения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IP </a:t>
            </a: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широковещание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Line 18"/>
          <p:cNvSpPr/>
          <p:nvPr/>
        </p:nvSpPr>
        <p:spPr>
          <a:xfrm flipV="1">
            <a:off x="4417920" y="1767960"/>
            <a:ext cx="9720" cy="187668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Line 19"/>
          <p:cNvSpPr/>
          <p:nvPr/>
        </p:nvSpPr>
        <p:spPr>
          <a:xfrm flipH="1">
            <a:off x="4427280" y="1762200"/>
            <a:ext cx="36036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очему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Safeguard Engin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DGS-1224T"/>
          <p:cNvPicPr/>
          <p:nvPr/>
        </p:nvPicPr>
        <p:blipFill>
          <a:blip r:embed="rId1"/>
          <a:stretch/>
        </p:blipFill>
        <p:spPr>
          <a:xfrm>
            <a:off x="3025800" y="3378240"/>
            <a:ext cx="2738520" cy="1225440"/>
          </a:xfrm>
          <a:prstGeom prst="rect">
            <a:avLst/>
          </a:prstGeom>
          <a:ln w="0">
            <a:noFill/>
          </a:ln>
        </p:spPr>
      </p:pic>
      <p:sp>
        <p:nvSpPr>
          <p:cNvPr id="525" name="AutoShape 3"/>
          <p:cNvSpPr/>
          <p:nvPr/>
        </p:nvSpPr>
        <p:spPr>
          <a:xfrm rot="13216800">
            <a:off x="4458960" y="4025160"/>
            <a:ext cx="2268360" cy="1150920"/>
          </a:xfrm>
          <a:custGeom>
            <a:avLst/>
            <a:gdLst>
              <a:gd name="textAreaLeft" fmla="*/ 0 w 2268360"/>
              <a:gd name="textAreaRight" fmla="*/ 2268720 w 226836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47" y="0"/>
                </a:lnTo>
                <a:lnTo>
                  <a:pt x="21600" y="10800"/>
                </a:lnTo>
                <a:lnTo>
                  <a:pt x="1774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83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6" name="Picture 4" descr="icon2"/>
          <p:cNvPicPr/>
          <p:nvPr/>
        </p:nvPicPr>
        <p:blipFill>
          <a:blip r:embed="rId2"/>
          <a:stretch/>
        </p:blipFill>
        <p:spPr>
          <a:xfrm rot="300600">
            <a:off x="4215960" y="3614400"/>
            <a:ext cx="468360" cy="1810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5" descr="icon"/>
          <p:cNvPicPr/>
          <p:nvPr/>
        </p:nvPicPr>
        <p:blipFill>
          <a:blip r:embed="rId3"/>
          <a:stretch/>
        </p:blipFill>
        <p:spPr>
          <a:xfrm rot="268200">
            <a:off x="4130640" y="3528720"/>
            <a:ext cx="719280" cy="28404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6"/>
          <p:cNvSpPr/>
          <p:nvPr/>
        </p:nvSpPr>
        <p:spPr>
          <a:xfrm>
            <a:off x="838080" y="4994280"/>
            <a:ext cx="398304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о в современных сетях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остаточно много вирусов и вредоносного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. Обычно они генерируют много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интересного» для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PU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а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такого как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R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ироковещание например)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Text Box 7"/>
          <p:cNvSpPr/>
          <p:nvPr/>
        </p:nvSpPr>
        <p:spPr>
          <a:xfrm>
            <a:off x="843120" y="2000160"/>
            <a:ext cx="3398760" cy="11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есь этот трафик загружает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PU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не даёт ему возможности обрабатывать более важные задачи, такие как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министративный доступ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STP, SNM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прос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Line 8"/>
          <p:cNvSpPr/>
          <p:nvPr/>
        </p:nvSpPr>
        <p:spPr>
          <a:xfrm flipH="1">
            <a:off x="4716000" y="3301920"/>
            <a:ext cx="1095480" cy="274680"/>
          </a:xfrm>
          <a:prstGeom prst="line">
            <a:avLst/>
          </a:prstGeom>
          <a:ln w="7632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Line 9"/>
          <p:cNvSpPr/>
          <p:nvPr/>
        </p:nvSpPr>
        <p:spPr>
          <a:xfrm flipV="1">
            <a:off x="2262240" y="3745080"/>
            <a:ext cx="1797120" cy="496800"/>
          </a:xfrm>
          <a:prstGeom prst="line">
            <a:avLst/>
          </a:prstGeom>
          <a:ln w="7632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Line 10"/>
          <p:cNvSpPr/>
          <p:nvPr/>
        </p:nvSpPr>
        <p:spPr>
          <a:xfrm>
            <a:off x="3587760" y="3084480"/>
            <a:ext cx="690480" cy="426960"/>
          </a:xfrm>
          <a:prstGeom prst="line">
            <a:avLst/>
          </a:prstGeom>
          <a:ln w="76320">
            <a:solidFill>
              <a:srgbClr val="00b0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AutoShape 11"/>
          <p:cNvSpPr/>
          <p:nvPr/>
        </p:nvSpPr>
        <p:spPr>
          <a:xfrm>
            <a:off x="4068720" y="3500280"/>
            <a:ext cx="719280" cy="433440"/>
          </a:xfrm>
          <a:custGeom>
            <a:avLst/>
            <a:gdLst>
              <a:gd name="textAreaLeft" fmla="*/ 105120 w 719280"/>
              <a:gd name="textAreaRight" fmla="*/ 614160 w 719280"/>
              <a:gd name="textAreaTop" fmla="*/ 63360 h 433440"/>
              <a:gd name="textAreaBottom" fmla="*/ 3700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Text Box 12"/>
          <p:cNvSpPr/>
          <p:nvPr/>
        </p:nvSpPr>
        <p:spPr>
          <a:xfrm>
            <a:off x="5854680" y="3176640"/>
            <a:ext cx="2100240" cy="4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Пакеты </a:t>
            </a: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BPDU </a:t>
            </a: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протокола </a:t>
            </a: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STP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IGMP snoopin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Text Box 13"/>
          <p:cNvSpPr/>
          <p:nvPr/>
        </p:nvSpPr>
        <p:spPr>
          <a:xfrm>
            <a:off x="1281240" y="4270320"/>
            <a:ext cx="11509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Доступ к </a:t>
            </a: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WEB </a:t>
            </a: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интерфейсу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Text Box 14"/>
          <p:cNvSpPr/>
          <p:nvPr/>
        </p:nvSpPr>
        <p:spPr>
          <a:xfrm>
            <a:off x="2852640" y="2854440"/>
            <a:ext cx="1125720" cy="1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SNMP </a:t>
            </a: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опрос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Line 15"/>
          <p:cNvSpPr/>
          <p:nvPr/>
        </p:nvSpPr>
        <p:spPr>
          <a:xfrm flipV="1">
            <a:off x="4581360" y="1796760"/>
            <a:ext cx="9720" cy="180972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Line 16"/>
          <p:cNvSpPr/>
          <p:nvPr/>
        </p:nvSpPr>
        <p:spPr>
          <a:xfrm flipH="1">
            <a:off x="4590720" y="1790640"/>
            <a:ext cx="2365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AutoShape 17"/>
          <p:cNvSpPr/>
          <p:nvPr/>
        </p:nvSpPr>
        <p:spPr>
          <a:xfrm rot="13216800">
            <a:off x="4420800" y="4409640"/>
            <a:ext cx="2281320" cy="370080"/>
          </a:xfrm>
          <a:custGeom>
            <a:avLst/>
            <a:gdLst>
              <a:gd name="textAreaLeft" fmla="*/ 0 w 2281320"/>
              <a:gd name="textAreaRight" fmla="*/ 2281680 w 228132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296" y="0"/>
                </a:lnTo>
                <a:lnTo>
                  <a:pt x="21600" y="10800"/>
                </a:lnTo>
                <a:lnTo>
                  <a:pt x="1429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83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Text Box 18"/>
          <p:cNvSpPr/>
          <p:nvPr/>
        </p:nvSpPr>
        <p:spPr>
          <a:xfrm>
            <a:off x="4859280" y="1698480"/>
            <a:ext cx="416232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-Link Safeguard Engine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зволяет идентифицировать и приоритезировать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тот «интересный» для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PU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фик с целью отбрасывания ненужных пакетов для сохранения функциональности коммутатора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Text Box 19"/>
          <p:cNvSpPr/>
          <p:nvPr/>
        </p:nvSpPr>
        <p:spPr>
          <a:xfrm>
            <a:off x="5865840" y="4940280"/>
            <a:ext cx="200484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ARP </a:t>
            </a: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широковещание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Пакеты с неизвестным </a:t>
            </a: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IP-</a:t>
            </a: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адресом назначения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IP </a:t>
            </a:r>
            <a:r>
              <a:rPr b="0" lang="ru-RU" sz="1000" spc="-1" strike="noStrike">
                <a:solidFill>
                  <a:srgbClr val="777777"/>
                </a:solidFill>
                <a:latin typeface="Arial Unicode MS"/>
                <a:ea typeface="Arial Unicode MS"/>
              </a:rPr>
              <a:t>широковещание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Text Box 20"/>
          <p:cNvSpPr/>
          <p:nvPr/>
        </p:nvSpPr>
        <p:spPr>
          <a:xfrm>
            <a:off x="4859280" y="2433600"/>
            <a:ext cx="400068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 Unicode MS"/>
                <a:ea typeface="Arial Unicode MS"/>
              </a:rPr>
              <a:t>Таким образом с применением</a:t>
            </a:r>
            <a:r>
              <a:rPr b="0" lang="en-US" sz="1200" spc="-1" strike="noStrike">
                <a:solidFill>
                  <a:srgbClr val="ff6600"/>
                </a:solidFill>
                <a:latin typeface="Arial Unicode MS"/>
                <a:ea typeface="Arial Unicode MS"/>
              </a:rPr>
              <a:t> Safeguard Engine, </a:t>
            </a:r>
            <a:r>
              <a:rPr b="0" lang="ru-RU" sz="1200" spc="-1" strike="noStrike">
                <a:solidFill>
                  <a:srgbClr val="ff6600"/>
                </a:solidFill>
                <a:latin typeface="Arial Unicode MS"/>
                <a:ea typeface="Arial Unicode MS"/>
              </a:rPr>
              <a:t>коммутатор</a:t>
            </a:r>
            <a:r>
              <a:rPr b="0" lang="en-US" sz="1200" spc="-1" strike="noStrike">
                <a:solidFill>
                  <a:srgbClr val="ff6600"/>
                </a:solidFill>
                <a:latin typeface="Arial Unicode MS"/>
                <a:ea typeface="Arial Unicode MS"/>
              </a:rPr>
              <a:t> D-Link </a:t>
            </a:r>
            <a:r>
              <a:rPr b="0" lang="ru-RU" sz="1200" spc="-1" strike="noStrike">
                <a:solidFill>
                  <a:srgbClr val="ff6600"/>
                </a:solidFill>
                <a:latin typeface="Arial Unicode MS"/>
                <a:ea typeface="Arial Unicode MS"/>
              </a:rPr>
              <a:t>будет обладать отказоустойчивостью, особенно при вирусных атаках или сканирования сети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Text Box 21"/>
          <p:cNvSpPr/>
          <p:nvPr/>
        </p:nvSpPr>
        <p:spPr>
          <a:xfrm>
            <a:off x="826920" y="981000"/>
            <a:ext cx="791244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Safeguard Engine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TM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работан для того, чтобы повысить надёжность новых коммутаторов и общую доступность и отказоустойчивость сет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Почему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Safeguard Engin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0" dur="10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2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Содержимое 2"/>
          <p:cNvSpPr/>
          <p:nvPr/>
        </p:nvSpPr>
        <p:spPr>
          <a:xfrm>
            <a:off x="468360" y="907920"/>
            <a:ext cx="8227800" cy="50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загрузк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CPU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тановится выше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рога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Rising Threshold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20-100%)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войдёт в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Exhausted Mode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режим высокой загрузки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загрузк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CPU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тановится ниже порог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Falling Threshold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20-100%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выйдет из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Exhausted Mode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механизм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Safeguard Engine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отключитс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ействия коммутатора при работе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Safeguard Engin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граничение полосы пропускания для широковещательных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ARP-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ов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Strict-mode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перестает получать 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ar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Fuzzy-mode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граничивается полоса пропускания для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ar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ов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граничение полосы пропускания для широковещательных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IP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ов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Strict-mode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перестает получать все широковещательный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Fuzzy-mode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инамически ограничивается полоса пропускания для широковещательных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ов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Interval -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двоенного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ремени переключения в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Exhausted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жим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 использовании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”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двоенного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ремени переключения в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Exhausted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жим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”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 может избежать постоянного переключения в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exhausted mode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ез надобности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аксимальное значение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того времени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320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кунд.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ситуации, когда коммутатор постоянно входит в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exhausted mode,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когда это время достигает максимального значения, коммутатор не выйдет за это значение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Safeguard Eng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3778200" cy="45864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3"/>
          <p:cNvSpPr/>
          <p:nvPr/>
        </p:nvSpPr>
        <p:spPr>
          <a:xfrm>
            <a:off x="4427640" y="981000"/>
            <a:ext cx="374472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стоянно посылает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RP-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пример со скоростью 1000 пакетов в секунду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грузка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PU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 этом изменяется от нормальной до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00%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прекратить генерацию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RP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ов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, 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грузка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PU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пять станет в пределах нормы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стройки коммутатора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Text Box 23"/>
          <p:cNvSpPr/>
          <p:nvPr/>
        </p:nvSpPr>
        <p:spPr>
          <a:xfrm>
            <a:off x="1332000" y="4075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Text Box 24"/>
          <p:cNvSpPr/>
          <p:nvPr/>
        </p:nvSpPr>
        <p:spPr>
          <a:xfrm>
            <a:off x="3708360" y="385128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Line 25"/>
          <p:cNvSpPr/>
          <p:nvPr/>
        </p:nvSpPr>
        <p:spPr>
          <a:xfrm>
            <a:off x="1692360" y="2346480"/>
            <a:ext cx="0" cy="122544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Text Box 26"/>
          <p:cNvSpPr/>
          <p:nvPr/>
        </p:nvSpPr>
        <p:spPr>
          <a:xfrm>
            <a:off x="0" y="5589720"/>
            <a:ext cx="91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дача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низить загрузку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PU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 помощи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feguard Engin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Text Box 27"/>
          <p:cNvSpPr/>
          <p:nvPr/>
        </p:nvSpPr>
        <p:spPr>
          <a:xfrm>
            <a:off x="971640" y="1484280"/>
            <a:ext cx="28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-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 коммутатора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10.31.3.254/8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Text Box 28"/>
          <p:cNvSpPr/>
          <p:nvPr/>
        </p:nvSpPr>
        <p:spPr>
          <a:xfrm>
            <a:off x="108000" y="429264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-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2: 10.31.3.2/8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55" name="Picture 20" descr=""/>
          <p:cNvPicPr/>
          <p:nvPr/>
        </p:nvPicPr>
        <p:blipFill>
          <a:blip r:embed="rId2"/>
          <a:srcRect l="0" t="8458" r="18051" b="12842"/>
          <a:stretch/>
        </p:blipFill>
        <p:spPr>
          <a:xfrm>
            <a:off x="1042920" y="3213000"/>
            <a:ext cx="978120" cy="936720"/>
          </a:xfrm>
          <a:prstGeom prst="rect">
            <a:avLst/>
          </a:prstGeom>
          <a:ln w="0">
            <a:noFill/>
          </a:ln>
        </p:spPr>
      </p:pic>
      <p:sp>
        <p:nvSpPr>
          <p:cNvPr id="556" name="Прямоугольник 29"/>
          <p:cNvSpPr/>
          <p:nvPr/>
        </p:nvSpPr>
        <p:spPr>
          <a:xfrm>
            <a:off x="4932360" y="4221000"/>
            <a:ext cx="4032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8000"/>
              </a:lnSpc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safeguard_engine state enable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8000"/>
              </a:lnSpc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config safeguard_engine utilization rising </a:t>
            </a:r>
            <a:r>
              <a:rPr b="0" i="1" lang="ru-RU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80</a:t>
            </a:r>
            <a:r>
              <a:rPr b="0" i="1" lang="en-US" sz="12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 falling 50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Пример использования функции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</a:rPr>
              <a:t>Safeguard Eng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2"/>
          <p:cNvSpPr/>
          <p:nvPr/>
        </p:nvSpPr>
        <p:spPr>
          <a:xfrm>
            <a:off x="250920" y="1546200"/>
            <a:ext cx="8640720" cy="393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S-3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00-28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4#show safeguard_engi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mand: show safeguard_engi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fe Guard Engine State          : Enabl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afe Guard Engine Current Status : Normal mo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===============================================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PU utilization informatio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terval                                      : 5 se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ising Threshold(20-100)         :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0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%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alling Threshold(20-100)        :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%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rap/Log                                   : Disabl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Пример использования функции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</a:rPr>
              <a:t>Safeguard Eng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900000" y="982800"/>
            <a:ext cx="727236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зультаты тест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еред активацией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Safeguard Engine,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 генерации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PC2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большого количеств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AR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ов, загрузка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CPU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удет держаться в районе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100%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сле включения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ункции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Safeguard Engine, PC2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должает генерировать большое количество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AR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ов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грузк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CPU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низиться до значения нижнего предел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 коммутатор будет держать интервал между переключениями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5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кунд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значение по умолчанию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ывод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ункция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SafeGuard Engine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ункционирует следующим образом. При превышении загрузкой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CPU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верхнего предела, коммутатор отбрасывает все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AR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. При значении загрузки между двумя пределами, коммутатор обрабатывает только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AR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, предназначенные ему. При снижении загрузки ниже нижнего предела коммутатор обрабатывает все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ARP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Пример использования функции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</a:rPr>
              <a:t>Safeguard Eng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039680" y="907920"/>
            <a:ext cx="6845400" cy="8654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87a9"/>
                </a:solidFill>
                <a:latin typeface="Arial"/>
                <a:ea typeface="Arial"/>
              </a:rPr>
              <a:t>Динамическая маршрутизац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Пример использования протокола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RIPv</a:t>
            </a: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035000" y="1825560"/>
            <a:ext cx="6345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ключение RIPv2 на обоих коммутаторах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able rip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rip all tx_mode v2_only rx_mode v2_only state enable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076400" y="2624040"/>
          <a:ext cx="5871960" cy="1236600"/>
        </p:xfrm>
        <a:graphic>
          <a:graphicData uri="http://schemas.openxmlformats.org/drawingml/2006/table">
            <a:tbl>
              <a:tblPr/>
              <a:tblGrid>
                <a:gridCol w="1800000"/>
                <a:gridCol w="1282680"/>
                <a:gridCol w="1189080"/>
                <a:gridCol w="639720"/>
                <a:gridCol w="960480"/>
              </a:tblGrid>
              <a:tr h="487440">
                <a:tc gridSpan="5"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DES-3612:5#</a:t>
                      </a: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h iproute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  ← Проверка состояния интерфейс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Command: show iprout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outing Tabl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160"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P Address/Netmas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---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.1.1.0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0.1.1.0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200.1.1.0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Gatewa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0.0.0.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0.0.0.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.1.1.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nterfac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yste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nt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yste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Cos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Protoco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Loc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Loc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RIP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600">
                      <a:solidFill>
                        <a:srgbClr val="000000"/>
                      </a:solidFill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1042920" y="4005360"/>
          <a:ext cx="6072120" cy="1920600"/>
        </p:xfrm>
        <a:graphic>
          <a:graphicData uri="http://schemas.openxmlformats.org/drawingml/2006/table">
            <a:tbl>
              <a:tblPr/>
              <a:tblGrid>
                <a:gridCol w="819360"/>
                <a:gridCol w="1158840"/>
                <a:gridCol w="887400"/>
                <a:gridCol w="819000"/>
                <a:gridCol w="1227240"/>
                <a:gridCol w="1160280"/>
              </a:tblGrid>
              <a:tr h="952560">
                <a:tc gridSpan="6"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DES-3612:5#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h rip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←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Проверка версии и статус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IP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Command: sh rip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IP Global State : En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IP Interface Setting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2160"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nterfac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yste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nt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P Addres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.1.1.1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0.1.1.1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TX Mod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V</a:t>
                      </a:r>
                      <a:r>
                        <a:rPr b="1" lang="ru-RU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2</a:t>
                      </a: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 Onl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V</a:t>
                      </a:r>
                      <a:r>
                        <a:rPr b="1" lang="ru-RU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2</a:t>
                      </a: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 Onl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X Mod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V</a:t>
                      </a:r>
                      <a:r>
                        <a:rPr b="1" lang="ru-RU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2</a:t>
                      </a: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 Onl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V</a:t>
                      </a:r>
                      <a:r>
                        <a:rPr b="1" lang="ru-RU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2</a:t>
                      </a: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 Onl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Authentic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Dis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Dis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tat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En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En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880">
                <a:tc grid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Total Entries : 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3"/>
          <p:cNvSpPr/>
          <p:nvPr/>
        </p:nvSpPr>
        <p:spPr>
          <a:xfrm>
            <a:off x="324000" y="1268280"/>
            <a:ext cx="849600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сле того как коммутатор переключится в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жим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exhausted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 настроенном строгом режиме,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министративный доступ к коммутатору будет недоступен, так как в этом режиме отбрасываются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се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ARP-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просы.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качестве решения можно предложить указать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MAC-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 коммутатора в статической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ARP-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аблице управляющей рабочей станции, для того чтобы она могла напрямую обратиться к интерфейсу управления коммутатором без отсылки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ARP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запрос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ля коммутаторов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L2/L3,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ереход в режим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exhausted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 будет влиять на коммутацию пакетов на уровне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L2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ля коммутатора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L3,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 переходе в строгий режим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exhausted,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 только административный доступ будет недоступен,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о и связь между подсетями может быть нарушена тоже, поскольку будут отбрасываться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ARP-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просы на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IP-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терфейсы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а тоже.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еимуществом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строгого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жима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exhausted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является то, что в нём он не просто отбрасыв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ю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ся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все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ARP-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ли пакеты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IP-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ироковещания, а динамически изменяется полоса пропускания для них.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аким образом даже при серьёзной вирусной эпидемии,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L2/L3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будет доступен по управлению, а коммутатор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新細明體"/>
              </a:rPr>
              <a:t> L3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может обеспечивать взаимодействие между подсетям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  <a:ea typeface="Arial Unicode MS"/>
              </a:rPr>
              <a:t>Возможные побочные эффект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1"/>
          <p:cNvSpPr/>
          <p:nvPr/>
        </p:nvSpPr>
        <p:spPr>
          <a:xfrm>
            <a:off x="1187280" y="1989000"/>
            <a:ext cx="67694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新細明體"/>
              </a:rPr>
              <a:t>DHCP Relay Option 8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新細明體"/>
              </a:rPr>
              <a:t>–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新細明體"/>
              </a:rPr>
              <a:t>информация от агента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新細明體"/>
              </a:rPr>
              <a:t>DHCP Rela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Информация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</a:rPr>
              <a:t>DHCP Relay Agent  (Option 82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468360" y="1052640"/>
            <a:ext cx="8077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Aft>
                <a:spcPts val="1287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Option 82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используется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Relay Agent (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агентом перенаправления запросов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для добавления дополнительной информации в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HCP –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запрос клиента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Эта информация может быть использована для применения политик, направленных на увеличение уровня безопасности и эффективности сети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 algn="just">
              <a:lnSpc>
                <a:spcPct val="100000"/>
              </a:lnSpc>
              <a:spcAft>
                <a:spcPts val="1287"/>
              </a:spcAft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Она описана в стандарте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RFC 3046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Line 6"/>
          <p:cNvSpPr/>
          <p:nvPr/>
        </p:nvSpPr>
        <p:spPr>
          <a:xfrm flipV="1">
            <a:off x="1258920" y="2401920"/>
            <a:ext cx="3348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8" name="Picture 26" descr="des-3828"/>
          <p:cNvPicPr/>
          <p:nvPr/>
        </p:nvPicPr>
        <p:blipFill>
          <a:blip r:embed="rId1"/>
          <a:stretch/>
        </p:blipFill>
        <p:spPr>
          <a:xfrm>
            <a:off x="468360" y="3552840"/>
            <a:ext cx="1601640" cy="3603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5" descr="C:\Users\06075\Desktop\Icons for Topology\Computer 01.jpg"/>
          <p:cNvPicPr/>
          <p:nvPr/>
        </p:nvPicPr>
        <p:blipFill>
          <a:blip r:embed="rId2"/>
          <a:stretch/>
        </p:blipFill>
        <p:spPr>
          <a:xfrm>
            <a:off x="971640" y="1897200"/>
            <a:ext cx="581040" cy="7920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0" descr=""/>
          <p:cNvPicPr/>
          <p:nvPr/>
        </p:nvPicPr>
        <p:blipFill>
          <a:blip r:embed="rId3"/>
          <a:srcRect l="0" t="8458" r="18051" b="12842"/>
          <a:stretch/>
        </p:blipFill>
        <p:spPr>
          <a:xfrm>
            <a:off x="684360" y="4633920"/>
            <a:ext cx="893520" cy="855720"/>
          </a:xfrm>
          <a:prstGeom prst="rect">
            <a:avLst/>
          </a:prstGeom>
          <a:ln w="0">
            <a:noFill/>
          </a:ln>
        </p:spPr>
      </p:pic>
      <p:sp>
        <p:nvSpPr>
          <p:cNvPr id="571" name="Прямоугольник 6"/>
          <p:cNvSpPr/>
          <p:nvPr/>
        </p:nvSpPr>
        <p:spPr>
          <a:xfrm>
            <a:off x="2009520" y="3429000"/>
            <a:ext cx="118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HCP Rela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гент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Прямоугольник 7"/>
          <p:cNvSpPr/>
          <p:nvPr/>
        </p:nvSpPr>
        <p:spPr>
          <a:xfrm>
            <a:off x="1060560" y="542592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К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Прямоугольник 8"/>
          <p:cNvSpPr/>
          <p:nvPr/>
        </p:nvSpPr>
        <p:spPr>
          <a:xfrm>
            <a:off x="614880" y="1557360"/>
            <a:ext cx="13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HCP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ервер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74" name="Группа 30"/>
          <p:cNvGrpSpPr/>
          <p:nvPr/>
        </p:nvGrpSpPr>
        <p:grpSpPr>
          <a:xfrm>
            <a:off x="1403280" y="4075920"/>
            <a:ext cx="1584360" cy="576720"/>
            <a:chOff x="1403280" y="4075920"/>
            <a:chExt cx="1584360" cy="576720"/>
          </a:xfrm>
        </p:grpSpPr>
        <p:cxnSp>
          <p:nvCxnSpPr>
            <p:cNvPr id="575" name="Прямая со стрелкой 24"/>
            <p:cNvCxnSpPr/>
            <p:nvPr/>
          </p:nvCxnSpPr>
          <p:spPr>
            <a:xfrm flipV="1">
              <a:off x="1403280" y="4075920"/>
              <a:ext cx="2160" cy="577080"/>
            </a:xfrm>
            <a:prstGeom prst="straightConnector1">
              <a:avLst/>
            </a:prstGeom>
            <a:ln w="12600">
              <a:solidFill>
                <a:srgbClr val="0070c0"/>
              </a:solidFill>
              <a:miter/>
              <a:tailEnd len="med" type="triangle" w="med"/>
            </a:ln>
          </p:spPr>
        </p:cxnSp>
        <p:sp>
          <p:nvSpPr>
            <p:cNvPr id="576" name="Rectangle 11"/>
            <p:cNvSpPr/>
            <p:nvPr/>
          </p:nvSpPr>
          <p:spPr>
            <a:xfrm>
              <a:off x="1475280" y="4148640"/>
              <a:ext cx="1512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新細明體"/>
                </a:rPr>
                <a:t>DHCP Discovery Broadcast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77" name="Группа 31"/>
          <p:cNvGrpSpPr/>
          <p:nvPr/>
        </p:nvGrpSpPr>
        <p:grpSpPr>
          <a:xfrm>
            <a:off x="3635280" y="1413000"/>
            <a:ext cx="5257800" cy="428760"/>
            <a:chOff x="3635280" y="1413000"/>
            <a:chExt cx="5257800" cy="428760"/>
          </a:xfrm>
        </p:grpSpPr>
        <p:sp>
          <p:nvSpPr>
            <p:cNvPr id="578" name="Rectangle 11"/>
            <p:cNvSpPr/>
            <p:nvPr/>
          </p:nvSpPr>
          <p:spPr>
            <a:xfrm>
              <a:off x="3995280" y="1413000"/>
              <a:ext cx="4897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100" spc="-1" strike="noStrike">
                  <a:solidFill>
                    <a:srgbClr val="0070c0"/>
                  </a:solidFill>
                  <a:latin typeface="Arial Unicode MS"/>
                </a:rPr>
                <a:t>Компьютер в сети</a:t>
              </a:r>
              <a:r>
                <a:rPr b="0" lang="en-US" sz="1100" spc="-1" strike="noStrike">
                  <a:solidFill>
                    <a:srgbClr val="0070c0"/>
                  </a:solidFill>
                  <a:latin typeface="Arial Unicode MS"/>
                </a:rPr>
                <a:t> (DHCP - </a:t>
              </a:r>
              <a:r>
                <a:rPr b="0" lang="ru-RU" sz="1100" spc="-1" strike="noStrike">
                  <a:solidFill>
                    <a:srgbClr val="0070c0"/>
                  </a:solidFill>
                  <a:latin typeface="Arial Unicode MS"/>
                </a:rPr>
                <a:t>клиент</a:t>
              </a:r>
              <a:r>
                <a:rPr b="0" lang="en-US" sz="1100" spc="-1" strike="noStrike">
                  <a:solidFill>
                    <a:srgbClr val="0070c0"/>
                  </a:solidFill>
                  <a:latin typeface="Arial Unicode MS"/>
                </a:rPr>
                <a:t>)</a:t>
              </a:r>
              <a:r>
                <a:rPr b="0" lang="ru-RU" sz="1100" spc="-1" strike="noStrike">
                  <a:solidFill>
                    <a:srgbClr val="0070c0"/>
                  </a:solidFill>
                  <a:latin typeface="Arial Unicode MS"/>
                </a:rPr>
                <a:t> генерирует</a:t>
              </a:r>
              <a:r>
                <a:rPr b="0" lang="en-US" sz="1100" spc="-1" strike="noStrike">
                  <a:solidFill>
                    <a:srgbClr val="0070c0"/>
                  </a:solidFill>
                  <a:latin typeface="Arial Unicode MS"/>
                </a:rPr>
                <a:t> DHCP -</a:t>
              </a:r>
              <a:r>
                <a:rPr b="0" lang="ru-RU" sz="1100" spc="-1" strike="noStrike">
                  <a:solidFill>
                    <a:srgbClr val="0070c0"/>
                  </a:solidFill>
                  <a:latin typeface="Arial Unicode MS"/>
                </a:rPr>
                <a:t> запросы</a:t>
              </a:r>
              <a:r>
                <a:rPr b="0" lang="en-US" sz="1100" spc="-1" strike="noStrike">
                  <a:solidFill>
                    <a:srgbClr val="0070c0"/>
                  </a:solidFill>
                  <a:latin typeface="Arial Unicode MS"/>
                </a:rPr>
                <a:t> </a:t>
              </a:r>
              <a:r>
                <a:rPr b="0" lang="ru-RU" sz="1100" spc="-1" strike="noStrike">
                  <a:solidFill>
                    <a:srgbClr val="0070c0"/>
                  </a:solidFill>
                  <a:latin typeface="Arial Unicode MS"/>
                </a:rPr>
                <a:t>и </a:t>
              </a:r>
              <a:r>
                <a:rPr b="0" lang="ru-RU" sz="1100" spc="-1" strike="noStrike" u="sng">
                  <a:solidFill>
                    <a:srgbClr val="0070c0"/>
                  </a:solidFill>
                  <a:uFillTx/>
                  <a:latin typeface="Arial Unicode MS"/>
                </a:rPr>
                <a:t>широковещательно</a:t>
              </a:r>
              <a:r>
                <a:rPr b="0" lang="ru-RU" sz="1100" spc="-1" strike="noStrike">
                  <a:solidFill>
                    <a:srgbClr val="0070c0"/>
                  </a:solidFill>
                  <a:latin typeface="Arial Unicode MS"/>
                </a:rPr>
                <a:t> рассылает их в сеть</a:t>
              </a:r>
              <a:r>
                <a:rPr b="0" lang="en-US" sz="1100" spc="-1" strike="noStrike">
                  <a:solidFill>
                    <a:srgbClr val="0070c0"/>
                  </a:solidFill>
                  <a:latin typeface="Arial Unicode MS"/>
                </a:rPr>
                <a:t>.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9" name="Овал 45"/>
            <p:cNvSpPr/>
            <p:nvPr/>
          </p:nvSpPr>
          <p:spPr>
            <a:xfrm>
              <a:off x="3635280" y="1484640"/>
              <a:ext cx="287280" cy="286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70c0"/>
                  </a:solidFill>
                  <a:latin typeface="Arial Unicode MS"/>
                  <a:ea typeface="Arial Unicode MS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80" name="Группа 32"/>
          <p:cNvGrpSpPr/>
          <p:nvPr/>
        </p:nvGrpSpPr>
        <p:grpSpPr>
          <a:xfrm>
            <a:off x="1403280" y="2781000"/>
            <a:ext cx="1621080" cy="713520"/>
            <a:chOff x="1403280" y="2781000"/>
            <a:chExt cx="1621080" cy="713520"/>
          </a:xfrm>
        </p:grpSpPr>
        <p:cxnSp>
          <p:nvCxnSpPr>
            <p:cNvPr id="581" name="Прямая со стрелкой 27"/>
            <p:cNvCxnSpPr/>
            <p:nvPr/>
          </p:nvCxnSpPr>
          <p:spPr>
            <a:xfrm flipV="1">
              <a:off x="1403280" y="2781000"/>
              <a:ext cx="2160" cy="612000"/>
            </a:xfrm>
            <a:prstGeom prst="straightConnector1">
              <a:avLst/>
            </a:prstGeom>
            <a:ln w="12600">
              <a:solidFill>
                <a:srgbClr val="92d050"/>
              </a:solidFill>
              <a:miter/>
              <a:tailEnd len="med" type="triangle" w="med"/>
            </a:ln>
          </p:spPr>
        </p:cxnSp>
        <p:sp>
          <p:nvSpPr>
            <p:cNvPr id="582" name="Rectangle 11"/>
            <p:cNvSpPr/>
            <p:nvPr/>
          </p:nvSpPr>
          <p:spPr>
            <a:xfrm>
              <a:off x="1475280" y="2853000"/>
              <a:ext cx="1549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92d050"/>
                  </a:solidFill>
                  <a:latin typeface="Arial Unicode MS"/>
                  <a:ea typeface="新細明體"/>
                </a:rPr>
                <a:t>DHCP Discovery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92d050"/>
                  </a:solidFill>
                  <a:latin typeface="Arial Unicode MS"/>
                  <a:ea typeface="新細明體"/>
                </a:rPr>
                <a:t>Unicast + Option 82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83" name="Группа 33"/>
          <p:cNvGrpSpPr/>
          <p:nvPr/>
        </p:nvGrpSpPr>
        <p:grpSpPr>
          <a:xfrm>
            <a:off x="3635280" y="1909800"/>
            <a:ext cx="5329440" cy="1600560"/>
            <a:chOff x="3635280" y="1909800"/>
            <a:chExt cx="5329440" cy="1600560"/>
          </a:xfrm>
        </p:grpSpPr>
        <p:sp>
          <p:nvSpPr>
            <p:cNvPr id="584" name="Овал 47"/>
            <p:cNvSpPr/>
            <p:nvPr/>
          </p:nvSpPr>
          <p:spPr>
            <a:xfrm>
              <a:off x="3635280" y="1988280"/>
              <a:ext cx="288720" cy="287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5" name="Rectangle 11"/>
            <p:cNvSpPr/>
            <p:nvPr/>
          </p:nvSpPr>
          <p:spPr>
            <a:xfrm>
              <a:off x="3996000" y="1909800"/>
              <a:ext cx="4968720" cy="16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100" spc="-1" strike="noStrike" u="sng">
                  <a:solidFill>
                    <a:srgbClr val="92d050"/>
                  </a:solidFill>
                  <a:uFillTx/>
                  <a:latin typeface="Arial Unicode MS"/>
                </a:rPr>
                <a:t>Коммутатор</a:t>
              </a:r>
              <a:r>
                <a:rPr b="0" lang="en-US" sz="1100" spc="-1" strike="noStrike" u="sng">
                  <a:solidFill>
                    <a:srgbClr val="92d050"/>
                  </a:solidFill>
                  <a:uFillTx/>
                  <a:latin typeface="Arial Unicode MS"/>
                </a:rPr>
                <a:t> (DHCP Relay Agent) </a:t>
              </a:r>
              <a:r>
                <a:rPr b="0" lang="ru-RU" sz="1100" spc="-1" strike="noStrike" u="sng">
                  <a:solidFill>
                    <a:srgbClr val="92d050"/>
                  </a:solidFill>
                  <a:uFillTx/>
                  <a:latin typeface="Arial Unicode MS"/>
                </a:rPr>
                <a:t>перехватывает</a:t>
              </a:r>
              <a:r>
                <a:rPr b="0" lang="en-US" sz="1100" spc="-1" strike="noStrike" u="sng">
                  <a:solidFill>
                    <a:srgbClr val="92d050"/>
                  </a:solidFill>
                  <a:uFillTx/>
                  <a:latin typeface="Arial Unicode MS"/>
                </a:rPr>
                <a:t> DHCP - </a:t>
              </a:r>
              <a:r>
                <a:rPr b="0" lang="ru-RU" sz="1100" spc="-1" strike="noStrike" u="sng">
                  <a:solidFill>
                    <a:srgbClr val="92d050"/>
                  </a:solidFill>
                  <a:uFillTx/>
                  <a:latin typeface="Arial Unicode MS"/>
                </a:rPr>
                <a:t>запрос</a:t>
              </a:r>
              <a:r>
                <a:rPr b="0" lang="en-US" sz="1100" spc="-1" strike="noStrike" u="sng">
                  <a:solidFill>
                    <a:srgbClr val="92d050"/>
                  </a:solidFill>
                  <a:uFillTx/>
                  <a:latin typeface="Arial Unicode MS"/>
                </a:rPr>
                <a:t> packet </a:t>
              </a:r>
              <a:r>
                <a:rPr b="0" lang="ru-RU" sz="1100" spc="-1" strike="noStrike" u="sng">
                  <a:solidFill>
                    <a:srgbClr val="92d050"/>
                  </a:solidFill>
                  <a:uFillTx/>
                  <a:latin typeface="Arial Unicode MS"/>
                </a:rPr>
                <a:t>и добавляет в него информацию</a:t>
              </a:r>
              <a:r>
                <a:rPr b="0" lang="en-US" sz="1100" spc="-1" strike="noStrike" u="sng">
                  <a:solidFill>
                    <a:srgbClr val="92d050"/>
                  </a:solidFill>
                  <a:uFillTx/>
                  <a:latin typeface="Arial Unicode MS"/>
                </a:rPr>
                <a:t> Relay Agent Information Option (</a:t>
              </a:r>
              <a:r>
                <a:rPr b="1" lang="en-US" sz="1100" spc="-1" strike="noStrike" u="sng">
                  <a:solidFill>
                    <a:srgbClr val="92d050"/>
                  </a:solidFill>
                  <a:uFillTx/>
                  <a:latin typeface="Arial Unicode MS"/>
                </a:rPr>
                <a:t>Option 82</a:t>
              </a:r>
              <a:r>
                <a:rPr b="0" lang="en-US" sz="1100" spc="-1" strike="noStrike" u="sng">
                  <a:solidFill>
                    <a:srgbClr val="92d050"/>
                  </a:solidFill>
                  <a:uFillTx/>
                  <a:latin typeface="Arial Unicode MS"/>
                </a:rPr>
                <a:t>).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 </a:t>
              </a:r>
              <a:r>
                <a:rPr b="0" lang="ru-RU" sz="1100" spc="-1" strike="noStrike">
                  <a:solidFill>
                    <a:srgbClr val="92d050"/>
                  </a:solidFill>
                  <a:latin typeface="Arial Unicode MS"/>
                </a:rPr>
                <a:t>Эта информация содержит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 MAC</a:t>
              </a:r>
              <a:r>
                <a:rPr b="0" lang="ru-RU" sz="1100" spc="-1" strike="noStrike">
                  <a:solidFill>
                    <a:srgbClr val="92d050"/>
                  </a:solidFill>
                  <a:latin typeface="Arial Unicode MS"/>
                </a:rPr>
                <a:t> 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–</a:t>
              </a:r>
              <a:r>
                <a:rPr b="0" lang="ru-RU" sz="1100" spc="-1" strike="noStrike">
                  <a:solidFill>
                    <a:srgbClr val="92d050"/>
                  </a:solidFill>
                  <a:latin typeface="Arial Unicode MS"/>
                </a:rPr>
                <a:t> адрес коммутатора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 (</a:t>
              </a:r>
              <a:r>
                <a:rPr b="0" lang="ru-RU" sz="1100" spc="-1" strike="noStrike">
                  <a:solidFill>
                    <a:srgbClr val="92d050"/>
                  </a:solidFill>
                  <a:latin typeface="Arial Unicode MS"/>
                </a:rPr>
                <a:t>поле опции</a:t>
              </a:r>
              <a:r>
                <a:rPr b="1" lang="en-US" sz="1100" spc="-1" strike="noStrike">
                  <a:solidFill>
                    <a:srgbClr val="92d050"/>
                  </a:solidFill>
                  <a:latin typeface="Arial Unicode MS"/>
                </a:rPr>
                <a:t> Remote ID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) </a:t>
              </a:r>
              <a:r>
                <a:rPr b="0" lang="ru-RU" sz="1100" spc="-1" strike="noStrike">
                  <a:solidFill>
                    <a:srgbClr val="92d050"/>
                  </a:solidFill>
                  <a:latin typeface="Arial Unicode MS"/>
                </a:rPr>
                <a:t>и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 VLAN ID</a:t>
              </a:r>
              <a:r>
                <a:rPr b="0" lang="ru-RU" sz="1100" spc="-1" strike="noStrike">
                  <a:solidFill>
                    <a:srgbClr val="92d050"/>
                  </a:solidFill>
                  <a:latin typeface="Arial Unicode MS"/>
                </a:rPr>
                <a:t>, в котором находится 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DHCP </a:t>
              </a:r>
              <a:r>
                <a:rPr b="0" lang="ru-RU" sz="1100" spc="-1" strike="noStrike">
                  <a:solidFill>
                    <a:srgbClr val="92d050"/>
                  </a:solidFill>
                  <a:latin typeface="Arial Unicode MS"/>
                </a:rPr>
                <a:t>-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 </a:t>
              </a:r>
              <a:r>
                <a:rPr b="0" lang="ru-RU" sz="1100" spc="-1" strike="noStrike">
                  <a:solidFill>
                    <a:srgbClr val="92d050"/>
                  </a:solidFill>
                  <a:latin typeface="Arial Unicode MS"/>
                </a:rPr>
                <a:t>клиент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 </a:t>
              </a:r>
              <a:r>
                <a:rPr b="0" lang="ru-RU" sz="1100" spc="-1" strike="noStrike">
                  <a:solidFill>
                    <a:srgbClr val="92d050"/>
                  </a:solidFill>
                  <a:latin typeface="Arial Unicode MS"/>
                </a:rPr>
                <a:t>и 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SNMP ifindex </a:t>
              </a:r>
              <a:r>
                <a:rPr b="0" lang="ru-RU" sz="1100" spc="-1" strike="noStrike">
                  <a:solidFill>
                    <a:srgbClr val="92d050"/>
                  </a:solidFill>
                  <a:latin typeface="Arial Unicode MS"/>
                </a:rPr>
                <a:t>порта, с которого получен запрос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 (</a:t>
              </a:r>
              <a:r>
                <a:rPr b="0" lang="ru-RU" sz="1100" spc="-1" strike="noStrike">
                  <a:solidFill>
                    <a:srgbClr val="92d050"/>
                  </a:solidFill>
                  <a:latin typeface="Arial Unicode MS"/>
                </a:rPr>
                <a:t>поле опции 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C</a:t>
              </a:r>
              <a:r>
                <a:rPr b="1" lang="en-US" sz="1100" spc="-1" strike="noStrike">
                  <a:solidFill>
                    <a:srgbClr val="92d050"/>
                  </a:solidFill>
                  <a:latin typeface="Arial Unicode MS"/>
                </a:rPr>
                <a:t>ircuit ID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).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100" spc="-1" strike="noStrike">
                  <a:solidFill>
                    <a:srgbClr val="92d050"/>
                  </a:solidFill>
                  <a:latin typeface="Arial Unicode MS"/>
                </a:rPr>
                <a:t>Коммутатор </a:t>
              </a:r>
              <a:r>
                <a:rPr b="0" lang="ru-RU" sz="1100" spc="-1" strike="noStrike" u="sng">
                  <a:solidFill>
                    <a:srgbClr val="92d050"/>
                  </a:solidFill>
                  <a:uFillTx/>
                  <a:latin typeface="Arial Unicode MS"/>
                </a:rPr>
                <a:t>перенаправляет</a:t>
              </a:r>
              <a:r>
                <a:rPr b="0" lang="en-US" sz="1100" spc="-1" strike="noStrike" u="sng">
                  <a:solidFill>
                    <a:srgbClr val="92d050"/>
                  </a:solidFill>
                  <a:uFillTx/>
                  <a:latin typeface="Arial Unicode MS"/>
                </a:rPr>
                <a:t> DHCP - </a:t>
              </a:r>
              <a:r>
                <a:rPr b="0" lang="ru-RU" sz="1100" spc="-1" strike="noStrike" u="sng">
                  <a:solidFill>
                    <a:srgbClr val="92d050"/>
                  </a:solidFill>
                  <a:uFillTx/>
                  <a:latin typeface="Arial Unicode MS"/>
                </a:rPr>
                <a:t>запрос с полями опции</a:t>
              </a:r>
              <a:r>
                <a:rPr b="0" lang="en-US" sz="1100" spc="-1" strike="noStrike" u="sng">
                  <a:solidFill>
                    <a:srgbClr val="92d050"/>
                  </a:solidFill>
                  <a:uFillTx/>
                  <a:latin typeface="Arial Unicode MS"/>
                </a:rPr>
                <a:t> Option 82 </a:t>
              </a:r>
              <a:r>
                <a:rPr b="0" lang="ru-RU" sz="1100" spc="-1" strike="noStrike">
                  <a:solidFill>
                    <a:srgbClr val="92d050"/>
                  </a:solidFill>
                  <a:latin typeface="Arial Unicode MS"/>
                </a:rPr>
                <a:t>на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 DHCP -</a:t>
              </a:r>
              <a:r>
                <a:rPr b="0" lang="ru-RU" sz="1100" spc="-1" strike="noStrike">
                  <a:solidFill>
                    <a:srgbClr val="92d050"/>
                  </a:solidFill>
                  <a:latin typeface="Arial Unicode MS"/>
                </a:rPr>
                <a:t> сервер</a:t>
              </a:r>
              <a:r>
                <a:rPr b="0" lang="en-US" sz="1100" spc="-1" strike="noStrike">
                  <a:solidFill>
                    <a:srgbClr val="92d050"/>
                  </a:solidFill>
                  <a:latin typeface="Arial Unicode MS"/>
                </a:rPr>
                <a:t>.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86" name="Прямоугольник 18"/>
          <p:cNvSpPr/>
          <p:nvPr/>
        </p:nvSpPr>
        <p:spPr>
          <a:xfrm>
            <a:off x="179280" y="927000"/>
            <a:ext cx="87854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 algn="ctr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Когда вы включаете опцию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DHCP Relay Agent Option 82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на коммутаторе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 D-link,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происходит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следующее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a3a3"/>
                </a:solidFill>
                <a:latin typeface="Arial Unicode MS"/>
              </a:rPr>
              <a:t>Пример работы </a:t>
            </a:r>
            <a:r>
              <a:rPr b="1" lang="en-US" sz="2400" spc="-1" strike="noStrike">
                <a:solidFill>
                  <a:srgbClr val="33a3a3"/>
                </a:solidFill>
                <a:latin typeface="Arial Unicode MS"/>
              </a:rPr>
              <a:t>DHCP Relay Agent </a:t>
            </a:r>
            <a:r>
              <a:rPr b="1" lang="ru-RU" sz="2400" spc="-1" strike="noStrike">
                <a:solidFill>
                  <a:srgbClr val="33a3a3"/>
                </a:solidFill>
                <a:latin typeface="Arial Unicode MS"/>
              </a:rPr>
              <a:t>и добавление </a:t>
            </a:r>
            <a:r>
              <a:rPr b="1" lang="en-US" sz="2400" spc="-1" strike="noStrike">
                <a:solidFill>
                  <a:srgbClr val="33a3a3"/>
                </a:solidFill>
                <a:latin typeface="Arial Unicode MS"/>
              </a:rPr>
              <a:t>Option 8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8" name="Группа 34"/>
          <p:cNvGrpSpPr/>
          <p:nvPr/>
        </p:nvGrpSpPr>
        <p:grpSpPr>
          <a:xfrm>
            <a:off x="108000" y="2781000"/>
            <a:ext cx="1079280" cy="684000"/>
            <a:chOff x="108000" y="2781000"/>
            <a:chExt cx="1079280" cy="684000"/>
          </a:xfrm>
        </p:grpSpPr>
        <p:cxnSp>
          <p:nvCxnSpPr>
            <p:cNvPr id="589" name="Прямая со стрелкой 33"/>
            <p:cNvCxnSpPr/>
            <p:nvPr/>
          </p:nvCxnSpPr>
          <p:spPr>
            <a:xfrm flipH="1">
              <a:off x="1185480" y="2781000"/>
              <a:ext cx="2160" cy="57708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590" name="Rectangle 11"/>
            <p:cNvSpPr/>
            <p:nvPr/>
          </p:nvSpPr>
          <p:spPr>
            <a:xfrm>
              <a:off x="108000" y="2823480"/>
              <a:ext cx="1007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b050"/>
                  </a:solidFill>
                  <a:latin typeface="Arial Unicode MS"/>
                  <a:ea typeface="新細明體"/>
                </a:rPr>
                <a:t>DHCP Offer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00b050"/>
                  </a:solidFill>
                  <a:latin typeface="Arial Unicode MS"/>
                  <a:ea typeface="新細明體"/>
                </a:rPr>
                <a:t>c  Option 82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91" name="Группа 35"/>
          <p:cNvGrpSpPr/>
          <p:nvPr/>
        </p:nvGrpSpPr>
        <p:grpSpPr>
          <a:xfrm>
            <a:off x="3635280" y="3346560"/>
            <a:ext cx="5113440" cy="1935360"/>
            <a:chOff x="3635280" y="3346560"/>
            <a:chExt cx="5113440" cy="1935360"/>
          </a:xfrm>
        </p:grpSpPr>
        <p:sp>
          <p:nvSpPr>
            <p:cNvPr id="592" name="Овал 49"/>
            <p:cNvSpPr/>
            <p:nvPr/>
          </p:nvSpPr>
          <p:spPr>
            <a:xfrm>
              <a:off x="3635280" y="3429360"/>
              <a:ext cx="28872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00b050"/>
                  </a:solidFill>
                  <a:latin typeface="Arial Unicode MS"/>
                  <a:ea typeface="Arial Unicode MS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3" name="Rectangle 11"/>
            <p:cNvSpPr/>
            <p:nvPr/>
          </p:nvSpPr>
          <p:spPr>
            <a:xfrm>
              <a:off x="3995280" y="3346560"/>
              <a:ext cx="4753440" cy="19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DHCP -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сервер получает пакет.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Если сервер поддерживает опцию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 Option 82, </a:t>
              </a:r>
              <a:r>
                <a:rPr b="0" lang="ru-RU" sz="1100" spc="-1" strike="noStrike" u="sng">
                  <a:solidFill>
                    <a:srgbClr val="00b050"/>
                  </a:solidFill>
                  <a:uFillTx/>
                  <a:latin typeface="Arial Unicode MS"/>
                </a:rPr>
                <a:t>он может использовать поля</a:t>
              </a:r>
              <a:r>
                <a:rPr b="0" lang="en-US" sz="1100" spc="-1" strike="noStrike" u="sng">
                  <a:solidFill>
                    <a:srgbClr val="00b050"/>
                  </a:solidFill>
                  <a:uFillTx/>
                  <a:latin typeface="Arial Unicode MS"/>
                </a:rPr>
                <a:t> Remote ID </a:t>
              </a:r>
              <a:r>
                <a:rPr b="0" lang="ru-RU" sz="1100" spc="-1" strike="noStrike" u="sng">
                  <a:solidFill>
                    <a:srgbClr val="00b050"/>
                  </a:solidFill>
                  <a:uFillTx/>
                  <a:latin typeface="Arial Unicode MS"/>
                </a:rPr>
                <a:t>и</a:t>
              </a:r>
              <a:r>
                <a:rPr b="0" lang="en-US" sz="1100" spc="-1" strike="noStrike" u="sng">
                  <a:solidFill>
                    <a:srgbClr val="00b050"/>
                  </a:solidFill>
                  <a:uFillTx/>
                  <a:latin typeface="Arial Unicode MS"/>
                </a:rPr>
                <a:t>/</a:t>
              </a:r>
              <a:r>
                <a:rPr b="0" lang="ru-RU" sz="1100" spc="-1" strike="noStrike" u="sng">
                  <a:solidFill>
                    <a:srgbClr val="00b050"/>
                  </a:solidFill>
                  <a:uFillTx/>
                  <a:latin typeface="Arial Unicode MS"/>
                </a:rPr>
                <a:t>или</a:t>
              </a:r>
              <a:r>
                <a:rPr b="0" lang="en-US" sz="1100" spc="-1" strike="noStrike" u="sng">
                  <a:solidFill>
                    <a:srgbClr val="00b050"/>
                  </a:solidFill>
                  <a:uFillTx/>
                  <a:latin typeface="Arial Unicode MS"/>
                </a:rPr>
                <a:t> Circuit ID </a:t>
              </a:r>
              <a:r>
                <a:rPr b="0" lang="ru-RU" sz="1100" spc="-1" strike="noStrike" u="sng">
                  <a:solidFill>
                    <a:srgbClr val="00b050"/>
                  </a:solidFill>
                  <a:uFillTx/>
                  <a:latin typeface="Arial Unicode MS"/>
                </a:rPr>
                <a:t>для назначения</a:t>
              </a:r>
              <a:r>
                <a:rPr b="0" lang="en-US" sz="1100" spc="-1" strike="noStrike" u="sng">
                  <a:solidFill>
                    <a:srgbClr val="00b050"/>
                  </a:solidFill>
                  <a:uFillTx/>
                  <a:latin typeface="Arial Unicode MS"/>
                </a:rPr>
                <a:t> IP-</a:t>
              </a:r>
              <a:r>
                <a:rPr b="0" lang="ru-RU" sz="1100" spc="-1" strike="noStrike" u="sng">
                  <a:solidFill>
                    <a:srgbClr val="00b050"/>
                  </a:solidFill>
                  <a:uFillTx/>
                  <a:latin typeface="Arial Unicode MS"/>
                </a:rPr>
                <a:t>адреса и применения политик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,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 таких как ограничения количества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 IP-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адресов, выдаваемых одному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 Remote ID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или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 Circuit ID.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Затем 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DHCP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сервер копирует поле 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Option 82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в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 DHCP -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ответе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.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Если сервер не поддерживает 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Option 82,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он игнорирует поля этой опции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и не отсылает их в ответе.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DHCP -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сервер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отвечает в 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Unicast-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е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агенту перенаправления запросов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.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Агент проверяет предназначен ли он его клиенту, путём анализа</a:t>
              </a:r>
              <a:r>
                <a:rPr b="0" lang="en-US" sz="1100" spc="-1" strike="noStrike">
                  <a:solidFill>
                    <a:srgbClr val="00b050"/>
                  </a:solidFill>
                  <a:latin typeface="Arial Unicode MS"/>
                </a:rPr>
                <a:t> IP - </a:t>
              </a:r>
              <a:r>
                <a:rPr b="0" lang="ru-RU" sz="1100" spc="-1" strike="noStrike">
                  <a:solidFill>
                    <a:srgbClr val="00b050"/>
                  </a:solidFill>
                  <a:latin typeface="Arial Unicode MS"/>
                </a:rPr>
                <a:t>адреса назначения пакета.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94" name="Группа 37"/>
          <p:cNvGrpSpPr/>
          <p:nvPr/>
        </p:nvGrpSpPr>
        <p:grpSpPr>
          <a:xfrm>
            <a:off x="3635280" y="5300640"/>
            <a:ext cx="4932360" cy="596160"/>
            <a:chOff x="3635280" y="5300640"/>
            <a:chExt cx="4932360" cy="596160"/>
          </a:xfrm>
        </p:grpSpPr>
        <p:sp>
          <p:nvSpPr>
            <p:cNvPr id="595" name="Прямоугольник 25"/>
            <p:cNvSpPr/>
            <p:nvPr/>
          </p:nvSpPr>
          <p:spPr>
            <a:xfrm>
              <a:off x="3996000" y="5300640"/>
              <a:ext cx="45716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100" spc="-1" strike="noStrike">
                  <a:solidFill>
                    <a:srgbClr val="7030a0"/>
                  </a:solidFill>
                  <a:latin typeface="Arial Unicode MS"/>
                  <a:ea typeface="Arial Unicode MS"/>
                </a:rPr>
                <a:t>Агент удаляет поля Option 82 и направляет пакет на порт, к которому подключён DHCP - клиент, пославший пакет DHCP </a:t>
              </a:r>
              <a:r>
                <a:rPr b="0" lang="en-US" sz="1100" spc="-1" strike="noStrike">
                  <a:solidFill>
                    <a:srgbClr val="7030a0"/>
                  </a:solidFill>
                  <a:latin typeface="Arial Unicode MS"/>
                  <a:ea typeface="Arial Unicode MS"/>
                </a:rPr>
                <a:t>-</a:t>
              </a:r>
              <a:r>
                <a:rPr b="0" lang="ru-RU" sz="1100" spc="-1" strike="noStrike">
                  <a:solidFill>
                    <a:srgbClr val="7030a0"/>
                  </a:solidFill>
                  <a:latin typeface="Arial Unicode MS"/>
                  <a:ea typeface="Arial Unicode MS"/>
                </a:rPr>
                <a:t> запроса.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6" name="Овал 51"/>
            <p:cNvSpPr/>
            <p:nvPr/>
          </p:nvSpPr>
          <p:spPr>
            <a:xfrm>
              <a:off x="3635280" y="5373360"/>
              <a:ext cx="288720" cy="28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200" spc="-1" strike="noStrike">
                  <a:solidFill>
                    <a:srgbClr val="7030a0"/>
                  </a:solidFill>
                  <a:latin typeface="Arial Unicode MS"/>
                  <a:ea typeface="Arial Unicode MS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97" name="Группа 36"/>
          <p:cNvGrpSpPr/>
          <p:nvPr/>
        </p:nvGrpSpPr>
        <p:grpSpPr>
          <a:xfrm>
            <a:off x="179280" y="4005360"/>
            <a:ext cx="1008000" cy="576000"/>
            <a:chOff x="179280" y="4005360"/>
            <a:chExt cx="1008000" cy="576000"/>
          </a:xfrm>
        </p:grpSpPr>
        <p:cxnSp>
          <p:nvCxnSpPr>
            <p:cNvPr id="598" name="Прямая со стрелкой 33"/>
            <p:cNvCxnSpPr/>
            <p:nvPr/>
          </p:nvCxnSpPr>
          <p:spPr>
            <a:xfrm flipH="1">
              <a:off x="1185480" y="4005360"/>
              <a:ext cx="2160" cy="576360"/>
            </a:xfrm>
            <a:prstGeom prst="straightConnector1">
              <a:avLst/>
            </a:prstGeom>
            <a:ln w="12600">
              <a:solidFill>
                <a:srgbClr val="7030a0"/>
              </a:solidFill>
              <a:miter/>
              <a:tailEnd len="med" type="triangle" w="med"/>
            </a:ln>
          </p:spPr>
        </p:cxnSp>
        <p:sp>
          <p:nvSpPr>
            <p:cNvPr id="599" name="Rectangle 11"/>
            <p:cNvSpPr/>
            <p:nvPr/>
          </p:nvSpPr>
          <p:spPr>
            <a:xfrm>
              <a:off x="179280" y="4149360"/>
              <a:ext cx="100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-1" strike="noStrike">
                  <a:solidFill>
                    <a:srgbClr val="7030a0"/>
                  </a:solidFill>
                  <a:latin typeface="Arial Unicode MS"/>
                  <a:ea typeface="新細明體"/>
                </a:rPr>
                <a:t>DHCP Offer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a3a3"/>
                </a:solidFill>
                <a:latin typeface="Arial Unicode MS"/>
              </a:rPr>
              <a:t>Примеры конфигурации </a:t>
            </a:r>
            <a:r>
              <a:rPr b="1" lang="en-US" sz="2400" spc="-1" strike="noStrike">
                <a:solidFill>
                  <a:srgbClr val="33a3a3"/>
                </a:solidFill>
                <a:latin typeface="Arial Unicode MS"/>
              </a:rPr>
              <a:t>DHCP Rela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Прямоугольник 2"/>
          <p:cNvSpPr/>
          <p:nvPr/>
        </p:nvSpPr>
        <p:spPr>
          <a:xfrm>
            <a:off x="1332000" y="942840"/>
            <a:ext cx="5761080" cy="52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Relay per interfac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6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config dhcp_relay add ipif System &lt;ipaddr&gt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2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ах это всегда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if System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на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3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мутаторах нужно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казывать клиентский интерфейс, т.е. тот, который принимает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scovery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 от клиента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Relay per VLA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6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config dhcp_relay add vlanid &lt;vlan_id_list&gt;</a:t>
            </a:r>
            <a:r>
              <a:rPr b="0" i="1" lang="ru-RU" sz="16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 </a:t>
            </a:r>
            <a:r>
              <a:rPr b="0" i="1" lang="en-US" sz="16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&lt;ipaddr&gt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казываются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LAN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ы, в которых будет работать функция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Relay.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en-US" sz="12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ipaddr&gt; -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дается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дрес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рвера, на который пересылаются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 от клиентов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Relay per por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6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config dhcp_relay ports &lt;portlist&gt;</a:t>
            </a:r>
            <a:r>
              <a:rPr b="0" i="1" lang="ru-RU" sz="16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 </a:t>
            </a:r>
            <a:r>
              <a:rPr b="0" i="1" lang="en-US" sz="16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state enab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пользуется для того, чтобы коммутатор не реагировал на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ранзитные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icast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HCP 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кеты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2" name="Object 1"/>
          <p:cNvGraphicFramePr/>
          <p:nvPr/>
        </p:nvGraphicFramePr>
        <p:xfrm>
          <a:off x="7072200" y="938160"/>
          <a:ext cx="142884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72200" y="938160"/>
                    <a:ext cx="142884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4" name=""/>
          <p:cNvGraphicFramePr/>
          <p:nvPr/>
        </p:nvGraphicFramePr>
        <p:xfrm>
          <a:off x="708120" y="1751040"/>
          <a:ext cx="5618160" cy="306360"/>
        </p:xfrm>
        <a:graphic>
          <a:graphicData uri="http://schemas.openxmlformats.org/drawingml/2006/table">
            <a:tbl>
              <a:tblPr/>
              <a:tblGrid>
                <a:gridCol w="801720"/>
                <a:gridCol w="803160"/>
                <a:gridCol w="801720"/>
                <a:gridCol w="804960"/>
                <a:gridCol w="801720"/>
                <a:gridCol w="858600"/>
                <a:gridCol w="746280"/>
              </a:tblGrid>
              <a:tr h="306360">
                <a:tc>
                  <a:txBody>
                    <a:bodyPr lIns="90000" rIns="90000" tIns="55800" bIns="46800" anchor="t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DejaVu Sans Condensed"/>
                          <a:ea typeface="Arial Unicode MS"/>
                        </a:rPr>
                        <a:t>VL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 marL="343080" indent="-341640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DejaVu Sans Condensed"/>
                          <a:ea typeface="Arial Unicode MS"/>
                        </a:rPr>
                        <a:t>Po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5" name="Text Box 33"/>
          <p:cNvSpPr/>
          <p:nvPr/>
        </p:nvSpPr>
        <p:spPr>
          <a:xfrm>
            <a:off x="114480" y="922320"/>
            <a:ext cx="6963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</a:rPr>
              <a:t>Поле опции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DHCP Option 82 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</a:rPr>
              <a:t>имеет следующий формат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Text Box 34"/>
          <p:cNvSpPr/>
          <p:nvPr/>
        </p:nvSpPr>
        <p:spPr>
          <a:xfrm>
            <a:off x="904680" y="1473120"/>
            <a:ext cx="48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1.            2.              3.             4.             5.             6.             7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Text Box 35"/>
          <p:cNvSpPr/>
          <p:nvPr/>
        </p:nvSpPr>
        <p:spPr>
          <a:xfrm>
            <a:off x="-209520" y="2284560"/>
            <a:ext cx="7489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Тип подопции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Длина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: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длина поля с октета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 3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по октет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 7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Тип 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Circuit ID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Длина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: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длина поля с октета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 5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по октет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 7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VLAN: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номер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 VLAN ID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в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 DHCP –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пакете клиент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Модуль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: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Для отдельно стоящего коммутатора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,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       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поле Модуль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всегда равно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 0;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Для коммутатора в стеке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,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 поле Модуль это 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Unit ID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7.    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Порт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: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 номер порта, с которого получен 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DHCP -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запрос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, 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номер порта начинается с 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1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8" name="Text Box 36"/>
          <p:cNvSpPr/>
          <p:nvPr/>
        </p:nvSpPr>
        <p:spPr>
          <a:xfrm>
            <a:off x="522000" y="2054160"/>
            <a:ext cx="58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da-DK" sz="1400" spc="-1" strike="noStrike">
                <a:solidFill>
                  <a:srgbClr val="000000"/>
                </a:solidFill>
                <a:latin typeface="Arial Unicode MS"/>
              </a:rPr>
              <a:t>1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байт</a:t>
            </a:r>
            <a:r>
              <a:rPr b="1" lang="da-DK" sz="1400" spc="-1" strike="noStrike">
                <a:solidFill>
                  <a:srgbClr val="000000"/>
                </a:solidFill>
                <a:latin typeface="Arial Unicode MS"/>
              </a:rPr>
              <a:t>     1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байт</a:t>
            </a:r>
            <a:r>
              <a:rPr b="1" lang="da-DK" sz="1400" spc="-1" strike="noStrike">
                <a:solidFill>
                  <a:srgbClr val="000000"/>
                </a:solidFill>
                <a:latin typeface="Arial Unicode MS"/>
              </a:rPr>
              <a:t>     1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байт</a:t>
            </a:r>
            <a:r>
              <a:rPr b="1" lang="da-DK" sz="1400" spc="-1" strike="noStrike">
                <a:solidFill>
                  <a:srgbClr val="000000"/>
                </a:solidFill>
                <a:latin typeface="Arial Unicode MS"/>
              </a:rPr>
              <a:t>     1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байт</a:t>
            </a:r>
            <a:r>
              <a:rPr b="1" lang="da-DK" sz="1400" spc="-1" strike="noStrike">
                <a:solidFill>
                  <a:srgbClr val="000000"/>
                </a:solidFill>
                <a:latin typeface="Arial Unicode MS"/>
              </a:rPr>
              <a:t>     2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байта</a:t>
            </a:r>
            <a:r>
              <a:rPr b="1" lang="da-DK" sz="1400" spc="-1" strike="noStrike">
                <a:solidFill>
                  <a:srgbClr val="000000"/>
                </a:solidFill>
                <a:latin typeface="Arial Unicode MS"/>
              </a:rPr>
              <a:t>    1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байт</a:t>
            </a:r>
            <a:r>
              <a:rPr b="1" lang="da-DK" sz="1400" spc="-1" strike="noStrike">
                <a:solidFill>
                  <a:srgbClr val="000000"/>
                </a:solidFill>
                <a:latin typeface="Arial Unicode MS"/>
              </a:rPr>
              <a:t>     1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бай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Text Box 37"/>
          <p:cNvSpPr/>
          <p:nvPr/>
        </p:nvSpPr>
        <p:spPr>
          <a:xfrm>
            <a:off x="70920" y="3781440"/>
            <a:ext cx="350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 Unicode MS"/>
              </a:rPr>
              <a:t>Формат поля опции </a:t>
            </a:r>
            <a:r>
              <a:rPr b="1" lang="en-US" sz="1600" spc="-1" strike="noStrike">
                <a:solidFill>
                  <a:srgbClr val="0070c0"/>
                </a:solidFill>
                <a:latin typeface="Arial Unicode MS"/>
              </a:rPr>
              <a:t>Remote ID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709560" y="4343400"/>
          <a:ext cx="5311800" cy="306360"/>
        </p:xfrm>
        <a:graphic>
          <a:graphicData uri="http://schemas.openxmlformats.org/drawingml/2006/table">
            <a:tbl>
              <a:tblPr/>
              <a:tblGrid>
                <a:gridCol w="814320"/>
                <a:gridCol w="762120"/>
                <a:gridCol w="838080"/>
                <a:gridCol w="763560"/>
                <a:gridCol w="2133720"/>
              </a:tblGrid>
              <a:tr h="30636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DejaVu Sans Condensed"/>
                          <a:ea typeface="Arial Unicode MS"/>
                        </a:rPr>
                        <a:t>MAC addres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1" name="Text Box 60"/>
          <p:cNvSpPr/>
          <p:nvPr/>
        </p:nvSpPr>
        <p:spPr>
          <a:xfrm>
            <a:off x="670680" y="4037040"/>
            <a:ext cx="34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1.            2.             3.              4.            5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Text Box 61"/>
          <p:cNvSpPr/>
          <p:nvPr/>
        </p:nvSpPr>
        <p:spPr>
          <a:xfrm>
            <a:off x="546840" y="4645080"/>
            <a:ext cx="420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da-DK" sz="1400" spc="-1" strike="noStrike">
                <a:solidFill>
                  <a:srgbClr val="000000"/>
                </a:solidFill>
                <a:latin typeface="Arial Unicode MS"/>
              </a:rPr>
              <a:t>1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байт</a:t>
            </a:r>
            <a:r>
              <a:rPr b="1" lang="da-DK" sz="1400" spc="-1" strike="noStrike">
                <a:solidFill>
                  <a:srgbClr val="000000"/>
                </a:solidFill>
                <a:latin typeface="Arial Unicode MS"/>
              </a:rPr>
              <a:t>     1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байт</a:t>
            </a:r>
            <a:r>
              <a:rPr b="1" lang="da-DK" sz="1400" spc="-1" strike="noStrike">
                <a:solidFill>
                  <a:srgbClr val="000000"/>
                </a:solidFill>
                <a:latin typeface="Arial Unicode MS"/>
              </a:rPr>
              <a:t>     1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байт</a:t>
            </a:r>
            <a:r>
              <a:rPr b="1" lang="da-DK" sz="1400" spc="-1" strike="noStrike">
                <a:solidFill>
                  <a:srgbClr val="000000"/>
                </a:solidFill>
                <a:latin typeface="Arial Unicode MS"/>
              </a:rPr>
              <a:t>     1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байт</a:t>
            </a:r>
            <a:r>
              <a:rPr b="1" lang="da-DK" sz="1400" spc="-1" strike="noStrike">
                <a:solidFill>
                  <a:srgbClr val="000000"/>
                </a:solidFill>
                <a:latin typeface="Arial Unicode MS"/>
              </a:rPr>
              <a:t>      6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бай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3" name="Text Box 62"/>
          <p:cNvSpPr/>
          <p:nvPr/>
        </p:nvSpPr>
        <p:spPr>
          <a:xfrm>
            <a:off x="588240" y="4951440"/>
            <a:ext cx="3283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Тип подопции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Длина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Тип 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Remote ID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Длин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MAC-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адрес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: MAC-</a:t>
            </a:r>
            <a:r>
              <a:rPr b="0" lang="ru-RU" sz="1200" spc="-1" strike="noStrike">
                <a:solidFill>
                  <a:srgbClr val="0070c0"/>
                </a:solidFill>
                <a:latin typeface="Arial Unicode MS"/>
              </a:rPr>
              <a:t>адрес коммутатора</a:t>
            </a:r>
            <a:r>
              <a:rPr b="0" lang="en-US" sz="1200" spc="-1" strike="noStrike">
                <a:solidFill>
                  <a:srgbClr val="0070c0"/>
                </a:solidFill>
                <a:latin typeface="Arial Unicode MS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Text Box 63"/>
          <p:cNvSpPr/>
          <p:nvPr/>
        </p:nvSpPr>
        <p:spPr>
          <a:xfrm>
            <a:off x="4800600" y="2895480"/>
            <a:ext cx="4038480" cy="733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Локальный идентификатор агента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который получил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 DHCP –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пакет от клиент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Text Box 64"/>
          <p:cNvSpPr/>
          <p:nvPr/>
        </p:nvSpPr>
        <p:spPr>
          <a:xfrm>
            <a:off x="4638960" y="4797360"/>
            <a:ext cx="4111200" cy="1159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Для идентификации удалённого узла.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DHCP –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сервер может использовать эту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опцию для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выбора специфических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параметров пользователей, узлов.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Поле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remote ID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должно быть уникально в сети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Line 65"/>
          <p:cNvSpPr/>
          <p:nvPr/>
        </p:nvSpPr>
        <p:spPr>
          <a:xfrm>
            <a:off x="6477120" y="1370160"/>
            <a:ext cx="1440" cy="1523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Rectangle 66"/>
          <p:cNvSpPr/>
          <p:nvPr/>
        </p:nvSpPr>
        <p:spPr>
          <a:xfrm>
            <a:off x="152280" y="1231920"/>
            <a:ext cx="3276720" cy="2905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Rectangle 67"/>
          <p:cNvSpPr/>
          <p:nvPr/>
        </p:nvSpPr>
        <p:spPr>
          <a:xfrm>
            <a:off x="152280" y="3808440"/>
            <a:ext cx="3276720" cy="2905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Line 68"/>
          <p:cNvSpPr/>
          <p:nvPr/>
        </p:nvSpPr>
        <p:spPr>
          <a:xfrm>
            <a:off x="6477120" y="3960720"/>
            <a:ext cx="1440" cy="838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Line 69"/>
          <p:cNvSpPr/>
          <p:nvPr/>
        </p:nvSpPr>
        <p:spPr>
          <a:xfrm>
            <a:off x="3427560" y="3960720"/>
            <a:ext cx="30556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Text Box 70"/>
          <p:cNvSpPr/>
          <p:nvPr/>
        </p:nvSpPr>
        <p:spPr>
          <a:xfrm>
            <a:off x="6382800" y="2300400"/>
            <a:ext cx="243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 Unicode MS"/>
              </a:rPr>
              <a:t>С какого порта получен</a:t>
            </a:r>
            <a:r>
              <a:rPr b="1" lang="en-US" sz="1400" spc="-1" strike="noStrike">
                <a:solidFill>
                  <a:srgbClr val="0070c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 Unicode MS"/>
              </a:rPr>
              <a:t>DHCP - </a:t>
            </a:r>
            <a:r>
              <a:rPr b="1" lang="ru-RU" sz="1400" spc="-1" strike="noStrike">
                <a:solidFill>
                  <a:srgbClr val="0070c0"/>
                </a:solidFill>
                <a:latin typeface="Arial Unicode MS"/>
              </a:rPr>
              <a:t>запрос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2" name="Text Box 71"/>
          <p:cNvSpPr/>
          <p:nvPr/>
        </p:nvSpPr>
        <p:spPr>
          <a:xfrm>
            <a:off x="7444080" y="1866960"/>
            <a:ext cx="912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0909"/>
                </a:solidFill>
                <a:latin typeface="Arial Unicode MS"/>
              </a:rPr>
              <a:t>DHCP - </a:t>
            </a:r>
            <a:r>
              <a:rPr b="1" lang="ru-RU" sz="800" spc="-1" strike="noStrike">
                <a:solidFill>
                  <a:srgbClr val="ff0909"/>
                </a:solidFill>
                <a:latin typeface="Arial Unicode MS"/>
              </a:rPr>
              <a:t>запрос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Text Box 72"/>
          <p:cNvSpPr/>
          <p:nvPr/>
        </p:nvSpPr>
        <p:spPr>
          <a:xfrm>
            <a:off x="7837200" y="3500280"/>
            <a:ext cx="79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70c0"/>
                </a:solidFill>
                <a:latin typeface="Arial Unicode MS"/>
              </a:rPr>
              <a:t>Relay Agent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Line 73"/>
          <p:cNvSpPr/>
          <p:nvPr/>
        </p:nvSpPr>
        <p:spPr>
          <a:xfrm>
            <a:off x="3427560" y="1368360"/>
            <a:ext cx="30556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Text Box 74"/>
          <p:cNvSpPr/>
          <p:nvPr/>
        </p:nvSpPr>
        <p:spPr>
          <a:xfrm>
            <a:off x="-18720" y="1182600"/>
            <a:ext cx="343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 Unicode MS"/>
              </a:rPr>
              <a:t>Формат поля опции </a:t>
            </a:r>
            <a:r>
              <a:rPr b="1" lang="en-US" sz="1600" spc="-1" strike="noStrike">
                <a:solidFill>
                  <a:srgbClr val="0070c0"/>
                </a:solidFill>
                <a:latin typeface="Arial Unicode MS"/>
              </a:rPr>
              <a:t>Circuit ID:</a:t>
            </a:r>
            <a:r>
              <a:rPr b="1" lang="ru-RU" sz="1600" spc="-1" strike="noStrike">
                <a:solidFill>
                  <a:srgbClr val="0070c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26" name="Group 75"/>
          <p:cNvGrpSpPr/>
          <p:nvPr/>
        </p:nvGrpSpPr>
        <p:grpSpPr>
          <a:xfrm>
            <a:off x="7072200" y="3724200"/>
            <a:ext cx="1855800" cy="974880"/>
            <a:chOff x="7072200" y="3724200"/>
            <a:chExt cx="1855800" cy="974880"/>
          </a:xfrm>
        </p:grpSpPr>
        <p:pic>
          <p:nvPicPr>
            <p:cNvPr id="627" name="Picture 76" descr=""/>
            <p:cNvPicPr/>
            <p:nvPr/>
          </p:nvPicPr>
          <p:blipFill>
            <a:blip r:embed="rId3"/>
            <a:srcRect l="0" t="8458" r="18051" b="12842"/>
            <a:stretch/>
          </p:blipFill>
          <p:spPr>
            <a:xfrm>
              <a:off x="8358120" y="4152960"/>
              <a:ext cx="56988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Rectangle 79"/>
            <p:cNvSpPr/>
            <p:nvPr/>
          </p:nvSpPr>
          <p:spPr>
            <a:xfrm>
              <a:off x="7072200" y="3724200"/>
              <a:ext cx="1427400" cy="569880"/>
            </a:xfrm>
            <a:prstGeom prst="rect">
              <a:avLst/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9" name="Line 78"/>
            <p:cNvSpPr/>
            <p:nvPr/>
          </p:nvSpPr>
          <p:spPr>
            <a:xfrm>
              <a:off x="7929720" y="4081320"/>
              <a:ext cx="641160" cy="355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630" name="Picture 80" descr=""/>
          <p:cNvPicPr/>
          <p:nvPr/>
        </p:nvPicPr>
        <p:blipFill>
          <a:blip r:embed="rId4"/>
          <a:srcRect l="0" t="8458" r="18051" b="12842"/>
          <a:stretch/>
        </p:blipFill>
        <p:spPr>
          <a:xfrm>
            <a:off x="8358120" y="1795320"/>
            <a:ext cx="571680" cy="547920"/>
          </a:xfrm>
          <a:prstGeom prst="rect">
            <a:avLst/>
          </a:prstGeom>
          <a:ln w="0">
            <a:noFill/>
          </a:ln>
        </p:spPr>
      </p:pic>
      <p:sp>
        <p:nvSpPr>
          <p:cNvPr id="631" name="Line 81"/>
          <p:cNvSpPr/>
          <p:nvPr/>
        </p:nvSpPr>
        <p:spPr>
          <a:xfrm>
            <a:off x="7929720" y="1724040"/>
            <a:ext cx="642960" cy="357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Rectangle 82"/>
          <p:cNvSpPr/>
          <p:nvPr/>
        </p:nvSpPr>
        <p:spPr>
          <a:xfrm>
            <a:off x="7858080" y="1652760"/>
            <a:ext cx="81000" cy="71280"/>
          </a:xfrm>
          <a:prstGeom prst="rect">
            <a:avLst/>
          </a:prstGeom>
          <a:noFill/>
          <a:ln w="28440">
            <a:solidFill>
              <a:srgbClr val="ff09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Формат полей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</a:rPr>
              <a:t>DHCP Option 8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34" name="Object 4"/>
          <p:cNvGraphicFramePr/>
          <p:nvPr/>
        </p:nvGraphicFramePr>
        <p:xfrm>
          <a:off x="7164360" y="3357720"/>
          <a:ext cx="129528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64360" y="3357720"/>
                    <a:ext cx="12952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 Box 2"/>
          <p:cNvSpPr/>
          <p:nvPr/>
        </p:nvSpPr>
        <p:spPr>
          <a:xfrm>
            <a:off x="1185480" y="1868400"/>
            <a:ext cx="63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1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6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4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001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Text Box 3"/>
          <p:cNvSpPr/>
          <p:nvPr/>
        </p:nvSpPr>
        <p:spPr>
          <a:xfrm>
            <a:off x="2733840" y="1335240"/>
            <a:ext cx="29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10600040001000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2209680" y="1563840"/>
            <a:ext cx="381240" cy="14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Text Box 5"/>
          <p:cNvSpPr/>
          <p:nvPr/>
        </p:nvSpPr>
        <p:spPr>
          <a:xfrm>
            <a:off x="257040" y="3754440"/>
            <a:ext cx="8506080" cy="228420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Тип подопции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- 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   </a:t>
            </a:r>
            <a:r>
              <a:rPr b="0" lang="ru-RU" sz="1600" spc="-1" strike="noStrike">
                <a:solidFill>
                  <a:srgbClr val="ff0000"/>
                </a:solidFill>
                <a:latin typeface="Arial Unicode MS"/>
              </a:rPr>
              <a:t>0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</a:rPr>
              <a:t>1 (</a:t>
            </a:r>
            <a:r>
              <a:rPr b="0" lang="ru-RU" sz="1600" spc="-1" strike="noStrike">
                <a:solidFill>
                  <a:srgbClr val="ff0000"/>
                </a:solidFill>
                <a:latin typeface="Arial Unicode MS"/>
              </a:rPr>
              <a:t>подопция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</a:rPr>
              <a:t>Agent Circuit ID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Длина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- </a:t>
            </a:r>
            <a:r>
              <a:rPr b="0" lang="ru-RU" sz="1600" spc="-1" strike="noStrike">
                <a:solidFill>
                  <a:srgbClr val="ff33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</a:rPr>
              <a:t>06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Тип 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Circuit ID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- 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</a:rPr>
              <a:t>00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Длина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-</a:t>
            </a:r>
            <a:r>
              <a:rPr b="0" lang="en-US" sz="1600" spc="-1" strike="noStrike">
                <a:solidFill>
                  <a:srgbClr val="3333cc"/>
                </a:solidFill>
                <a:latin typeface="Arial Unicode MS"/>
              </a:rPr>
              <a:t> </a:t>
            </a:r>
            <a:r>
              <a:rPr b="0" lang="ru-RU" sz="1600" spc="-1" strike="noStrike">
                <a:solidFill>
                  <a:srgbClr val="3333cc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</a:rPr>
              <a:t>04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VLAN: VLAN ID 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в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 DHCP – 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пакете клиента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.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-  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 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 Unicode MS"/>
              </a:rPr>
              <a:t>000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Модуль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: 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Для отдельно стоящего коммутатора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,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 поле Модуль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 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всегда равно 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0;  </a:t>
            </a:r>
            <a:br>
              <a:rPr sz="1600"/>
            </a:b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Для коммутатора в стеке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,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 поле Модуль это 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Unit ID.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-  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 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 Unicode MS"/>
              </a:rPr>
              <a:t>0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Порт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: 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номер порта, с которого получен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 DHCP – 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пакет клиента, номер порта начинается с 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1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.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- 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  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 Unicode MS"/>
              </a:rPr>
              <a:t>09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Line 6"/>
          <p:cNvSpPr/>
          <p:nvPr/>
        </p:nvSpPr>
        <p:spPr>
          <a:xfrm flipV="1">
            <a:off x="5580000" y="1333440"/>
            <a:ext cx="533520" cy="231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936720" y="2523960"/>
          <a:ext cx="7065720" cy="460440"/>
        </p:xfrm>
        <a:graphic>
          <a:graphicData uri="http://schemas.openxmlformats.org/drawingml/2006/table">
            <a:tbl>
              <a:tblPr/>
              <a:tblGrid>
                <a:gridCol w="815760"/>
                <a:gridCol w="762120"/>
                <a:gridCol w="838080"/>
                <a:gridCol w="838440"/>
                <a:gridCol w="1373040"/>
                <a:gridCol w="1384200"/>
                <a:gridCol w="1054080"/>
              </a:tblGrid>
              <a:tr h="460440">
                <a:tc>
                  <a:txBody>
                    <a:bodyPr lIns="90000" rIns="90000" tIns="6192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VL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Modu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marL="343080" indent="-341640" algn="ctr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Por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2" name="Text Box 37"/>
          <p:cNvSpPr/>
          <p:nvPr/>
        </p:nvSpPr>
        <p:spPr>
          <a:xfrm>
            <a:off x="798840" y="3357720"/>
            <a:ext cx="70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1600" spc="-1" strike="noStrike">
                <a:solidFill>
                  <a:srgbClr val="0070c0"/>
                </a:solidFill>
                <a:latin typeface="Arial Unicode MS"/>
              </a:rPr>
              <a:t>1 </a:t>
            </a:r>
            <a:r>
              <a:rPr b="1" lang="ru-RU" sz="1600" spc="-1" strike="noStrike">
                <a:solidFill>
                  <a:srgbClr val="0070c0"/>
                </a:solidFill>
                <a:latin typeface="Arial Unicode MS"/>
              </a:rPr>
              <a:t>байт</a:t>
            </a:r>
            <a:r>
              <a:rPr b="1" lang="da-DK" sz="1600" spc="-1" strike="noStrike">
                <a:solidFill>
                  <a:srgbClr val="0070c0"/>
                </a:solidFill>
                <a:latin typeface="Arial Unicode MS"/>
              </a:rPr>
              <a:t>   1 </a:t>
            </a:r>
            <a:r>
              <a:rPr b="1" lang="ru-RU" sz="1600" spc="-1" strike="noStrike">
                <a:solidFill>
                  <a:srgbClr val="0070c0"/>
                </a:solidFill>
                <a:latin typeface="Arial Unicode MS"/>
              </a:rPr>
              <a:t>байт</a:t>
            </a:r>
            <a:r>
              <a:rPr b="1" lang="da-DK" sz="1600" spc="-1" strike="noStrike">
                <a:solidFill>
                  <a:srgbClr val="0070c0"/>
                </a:solidFill>
                <a:latin typeface="Arial Unicode MS"/>
              </a:rPr>
              <a:t>   1 </a:t>
            </a:r>
            <a:r>
              <a:rPr b="1" lang="ru-RU" sz="1600" spc="-1" strike="noStrike">
                <a:solidFill>
                  <a:srgbClr val="0070c0"/>
                </a:solidFill>
                <a:latin typeface="Arial Unicode MS"/>
              </a:rPr>
              <a:t>байт</a:t>
            </a:r>
            <a:r>
              <a:rPr b="1" lang="da-DK" sz="1600" spc="-1" strike="noStrike">
                <a:solidFill>
                  <a:srgbClr val="0070c0"/>
                </a:solidFill>
                <a:latin typeface="Arial Unicode MS"/>
              </a:rPr>
              <a:t>    1 </a:t>
            </a:r>
            <a:r>
              <a:rPr b="1" lang="ru-RU" sz="1600" spc="-1" strike="noStrike">
                <a:solidFill>
                  <a:srgbClr val="0070c0"/>
                </a:solidFill>
                <a:latin typeface="Arial Unicode MS"/>
              </a:rPr>
              <a:t>байт</a:t>
            </a:r>
            <a:r>
              <a:rPr b="1" lang="da-DK" sz="1600" spc="-1" strike="noStrike">
                <a:solidFill>
                  <a:srgbClr val="0070c0"/>
                </a:solidFill>
                <a:latin typeface="Arial Unicode MS"/>
              </a:rPr>
              <a:t>       2 </a:t>
            </a:r>
            <a:r>
              <a:rPr b="1" lang="ru-RU" sz="1600" spc="-1" strike="noStrike">
                <a:solidFill>
                  <a:srgbClr val="0070c0"/>
                </a:solidFill>
                <a:latin typeface="Arial Unicode MS"/>
              </a:rPr>
              <a:t>байта</a:t>
            </a:r>
            <a:r>
              <a:rPr b="1" lang="da-DK" sz="1600" spc="-1" strike="noStrike">
                <a:solidFill>
                  <a:srgbClr val="0070c0"/>
                </a:solidFill>
                <a:latin typeface="Arial Unicode MS"/>
              </a:rPr>
              <a:t>           1 </a:t>
            </a:r>
            <a:r>
              <a:rPr b="1" lang="ru-RU" sz="1600" spc="-1" strike="noStrike">
                <a:solidFill>
                  <a:srgbClr val="0070c0"/>
                </a:solidFill>
                <a:latin typeface="Arial Unicode MS"/>
              </a:rPr>
              <a:t>байт</a:t>
            </a:r>
            <a:r>
              <a:rPr b="1" lang="da-DK" sz="1600" spc="-1" strike="noStrike">
                <a:solidFill>
                  <a:srgbClr val="0070c0"/>
                </a:solidFill>
                <a:latin typeface="Arial Unicode MS"/>
              </a:rPr>
              <a:t>          1 </a:t>
            </a:r>
            <a:r>
              <a:rPr b="1" lang="ru-RU" sz="1600" spc="-1" strike="noStrike">
                <a:solidFill>
                  <a:srgbClr val="0070c0"/>
                </a:solidFill>
                <a:latin typeface="Arial Unicode MS"/>
              </a:rPr>
              <a:t>байт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Text Box 38"/>
          <p:cNvSpPr/>
          <p:nvPr/>
        </p:nvSpPr>
        <p:spPr>
          <a:xfrm>
            <a:off x="839520" y="1382760"/>
            <a:ext cx="137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 Unicode MS"/>
              </a:rPr>
              <a:t>Circuit I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4" name="Text Box 39"/>
          <p:cNvSpPr/>
          <p:nvPr/>
        </p:nvSpPr>
        <p:spPr>
          <a:xfrm>
            <a:off x="1078920" y="3025800"/>
            <a:ext cx="60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1.               2.            3.               4.             5.                         6.                         7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Line 40"/>
          <p:cNvSpPr/>
          <p:nvPr/>
        </p:nvSpPr>
        <p:spPr>
          <a:xfrm>
            <a:off x="1371600" y="2249640"/>
            <a:ext cx="144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Line 41"/>
          <p:cNvSpPr/>
          <p:nvPr/>
        </p:nvSpPr>
        <p:spPr>
          <a:xfrm>
            <a:off x="2209680" y="2249640"/>
            <a:ext cx="180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Line 42"/>
          <p:cNvSpPr/>
          <p:nvPr/>
        </p:nvSpPr>
        <p:spPr>
          <a:xfrm>
            <a:off x="2895480" y="2249640"/>
            <a:ext cx="180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Line 43"/>
          <p:cNvSpPr/>
          <p:nvPr/>
        </p:nvSpPr>
        <p:spPr>
          <a:xfrm>
            <a:off x="3733920" y="2249640"/>
            <a:ext cx="144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Line 44"/>
          <p:cNvSpPr/>
          <p:nvPr/>
        </p:nvSpPr>
        <p:spPr>
          <a:xfrm>
            <a:off x="4876920" y="2249640"/>
            <a:ext cx="144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Line 45"/>
          <p:cNvSpPr/>
          <p:nvPr/>
        </p:nvSpPr>
        <p:spPr>
          <a:xfrm>
            <a:off x="6095880" y="2249640"/>
            <a:ext cx="180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Line 46"/>
          <p:cNvSpPr/>
          <p:nvPr/>
        </p:nvSpPr>
        <p:spPr>
          <a:xfrm>
            <a:off x="7391520" y="2249640"/>
            <a:ext cx="144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Rectangle 47"/>
          <p:cNvSpPr/>
          <p:nvPr/>
        </p:nvSpPr>
        <p:spPr>
          <a:xfrm>
            <a:off x="5256360" y="1330200"/>
            <a:ext cx="360360" cy="468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Text Box 48"/>
          <p:cNvSpPr/>
          <p:nvPr/>
        </p:nvSpPr>
        <p:spPr>
          <a:xfrm>
            <a:off x="5511600" y="9018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 Unicode MS"/>
              </a:rPr>
              <a:t>9 = 1001 - 4 </a:t>
            </a:r>
            <a:r>
              <a:rPr b="1" lang="ru-RU" sz="1800" spc="-1" strike="noStrike">
                <a:solidFill>
                  <a:srgbClr val="0070c0"/>
                </a:solidFill>
                <a:latin typeface="Arial Unicode MS"/>
              </a:rPr>
              <a:t>бит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4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Формат поля опции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</a:rPr>
              <a:t>Circuit I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2"/>
          <p:cNvSpPr/>
          <p:nvPr/>
        </p:nvSpPr>
        <p:spPr>
          <a:xfrm>
            <a:off x="4087800" y="4975200"/>
            <a:ext cx="50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004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 Unicode MS"/>
              </a:rPr>
              <a:t>0001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0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 Unicode MS"/>
              </a:rPr>
              <a:t>09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006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 Unicode MS"/>
              </a:rPr>
              <a:t>0080c835260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Text Box 3"/>
          <p:cNvSpPr/>
          <p:nvPr/>
        </p:nvSpPr>
        <p:spPr>
          <a:xfrm>
            <a:off x="2824200" y="90792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2080006000F3D849FFF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Text Box 4"/>
          <p:cNvSpPr/>
          <p:nvPr/>
        </p:nvSpPr>
        <p:spPr>
          <a:xfrm>
            <a:off x="2132640" y="1365120"/>
            <a:ext cx="51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2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8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6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Unicode MS"/>
              </a:rPr>
              <a:t>0080c835260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1065240" y="3146400"/>
            <a:ext cx="7467480" cy="131076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Тип подопции</a:t>
            </a:r>
            <a:r>
              <a:rPr b="0" lang="en-US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-</a:t>
            </a:r>
            <a:r>
              <a:rPr b="0" lang="en-US" sz="1600" spc="-1" strike="noStrike">
                <a:solidFill>
                  <a:srgbClr val="3333cc"/>
                </a:solidFill>
                <a:latin typeface="Arial Unicode MS"/>
              </a:rPr>
              <a:t> </a:t>
            </a:r>
            <a:r>
              <a:rPr b="0" lang="ru-RU" sz="1600" spc="-1" strike="noStrike">
                <a:solidFill>
                  <a:srgbClr val="3333cc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Arial Unicode MS"/>
              </a:rPr>
              <a:t> 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 Unicode MS"/>
              </a:rPr>
              <a:t>02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</a:rPr>
              <a:t>(</a:t>
            </a:r>
            <a:r>
              <a:rPr b="0" lang="ru-RU" sz="1600" spc="-1" strike="noStrike">
                <a:solidFill>
                  <a:srgbClr val="ff0000"/>
                </a:solidFill>
                <a:latin typeface="Arial Unicode MS"/>
              </a:rPr>
              <a:t>подопция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</a:rPr>
              <a:t>Agent Remote ID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Длина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-</a:t>
            </a:r>
            <a:r>
              <a:rPr b="0" lang="en-US" sz="1600" spc="-1" strike="noStrike">
                <a:solidFill>
                  <a:srgbClr val="3333cc"/>
                </a:solidFill>
                <a:latin typeface="Arial Unicode MS"/>
              </a:rPr>
              <a:t>   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 Unicode MS"/>
              </a:rPr>
              <a:t>0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Тип 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Remote ID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-</a:t>
            </a:r>
            <a:r>
              <a:rPr b="0" lang="en-US" sz="1600" spc="-1" strike="noStrike">
                <a:solidFill>
                  <a:srgbClr val="3333cc"/>
                </a:solidFill>
                <a:latin typeface="Arial Unicode MS"/>
              </a:rPr>
              <a:t>   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 Unicode MS"/>
              </a:rPr>
              <a:t>0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Длина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- </a:t>
            </a:r>
            <a:r>
              <a:rPr b="0" lang="en-US" sz="1600" spc="-1" strike="noStrike">
                <a:solidFill>
                  <a:srgbClr val="3333cc"/>
                </a:solidFill>
                <a:latin typeface="Arial Unicode MS"/>
              </a:rPr>
              <a:t>  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 Unicode MS"/>
              </a:rPr>
              <a:t>06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Arial Unicode MS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MAC-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адрес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 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: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 MAC-</a:t>
            </a:r>
            <a:r>
              <a:rPr b="0" lang="ru-RU" sz="1600" spc="-1" strike="noStrike">
                <a:solidFill>
                  <a:srgbClr val="0070c0"/>
                </a:solidFill>
                <a:latin typeface="Arial Unicode MS"/>
              </a:rPr>
              <a:t>адрес коммутатора.</a:t>
            </a:r>
            <a:r>
              <a:rPr b="0" lang="en-US" sz="1600" spc="-1" strike="noStrike">
                <a:solidFill>
                  <a:srgbClr val="0070c0"/>
                </a:solidFill>
                <a:latin typeface="Arial Unicode MS"/>
              </a:rPr>
              <a:t>  -   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 Unicode MS"/>
              </a:rPr>
              <a:t>0080C835260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Line 6"/>
          <p:cNvSpPr/>
          <p:nvPr/>
        </p:nvSpPr>
        <p:spPr>
          <a:xfrm>
            <a:off x="2262240" y="1136520"/>
            <a:ext cx="380880" cy="18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667800" y="5051520"/>
            <a:ext cx="24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Unicode MS"/>
              </a:rPr>
              <a:t>(0106)000400010009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Text Box 8"/>
          <p:cNvSpPr/>
          <p:nvPr/>
        </p:nvSpPr>
        <p:spPr>
          <a:xfrm>
            <a:off x="658800" y="550548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Unicode MS"/>
              </a:rPr>
              <a:t>(0208)00060080c835260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2" name="Text Box 9"/>
          <p:cNvSpPr/>
          <p:nvPr/>
        </p:nvSpPr>
        <p:spPr>
          <a:xfrm>
            <a:off x="1587960" y="5280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 Unicode MS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3" name="Text Box 10"/>
          <p:cNvSpPr/>
          <p:nvPr/>
        </p:nvSpPr>
        <p:spPr>
          <a:xfrm>
            <a:off x="3867120" y="5353200"/>
            <a:ext cx="539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DHCP – </a:t>
            </a:r>
            <a:r>
              <a:rPr b="1" lang="ru-RU" sz="1600" spc="-1" strike="noStrike">
                <a:solidFill>
                  <a:srgbClr val="ff0000"/>
                </a:solidFill>
                <a:latin typeface="Arial Unicode MS"/>
              </a:rPr>
              <a:t>сервер назначит определённый</a:t>
            </a: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 IP-</a:t>
            </a:r>
            <a:r>
              <a:rPr b="1" lang="ru-RU" sz="1600" spc="-1" strike="noStrike">
                <a:solidFill>
                  <a:srgbClr val="ff0000"/>
                </a:solidFill>
                <a:latin typeface="Arial Unicode MS"/>
              </a:rPr>
              <a:t>адрес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 Unicode MS"/>
              </a:rPr>
              <a:t>исходя из этой информаци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Line 11"/>
          <p:cNvSpPr/>
          <p:nvPr/>
        </p:nvSpPr>
        <p:spPr>
          <a:xfrm>
            <a:off x="3579840" y="5477040"/>
            <a:ext cx="380880" cy="14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Text Box 12"/>
          <p:cNvSpPr/>
          <p:nvPr/>
        </p:nvSpPr>
        <p:spPr>
          <a:xfrm>
            <a:off x="734760" y="955800"/>
            <a:ext cx="152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 Unicode MS"/>
              </a:rPr>
              <a:t>Remote I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1979640" y="2052720"/>
          <a:ext cx="5487840" cy="460440"/>
        </p:xfrm>
        <a:graphic>
          <a:graphicData uri="http://schemas.openxmlformats.org/drawingml/2006/table">
            <a:tbl>
              <a:tblPr/>
              <a:tblGrid>
                <a:gridCol w="841320"/>
                <a:gridCol w="787320"/>
                <a:gridCol w="865440"/>
                <a:gridCol w="788760"/>
                <a:gridCol w="2205000"/>
              </a:tblGrid>
              <a:tr h="460440"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128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DejaVu Sans Condensed"/>
                          <a:ea typeface="Arial Unicode MS"/>
                        </a:rPr>
                        <a:t>MAC addr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7" name="Text Box 35"/>
          <p:cNvSpPr/>
          <p:nvPr/>
        </p:nvSpPr>
        <p:spPr>
          <a:xfrm>
            <a:off x="1874520" y="2814480"/>
            <a:ext cx="461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a-DK" sz="1400" spc="-1" strike="noStrike">
                <a:solidFill>
                  <a:srgbClr val="0070c0"/>
                </a:solidFill>
                <a:latin typeface="Arial Unicode MS"/>
              </a:rPr>
              <a:t>1 </a:t>
            </a:r>
            <a:r>
              <a:rPr b="1" lang="ru-RU" sz="1400" spc="-1" strike="noStrike">
                <a:solidFill>
                  <a:srgbClr val="0070c0"/>
                </a:solidFill>
                <a:latin typeface="Arial Unicode MS"/>
              </a:rPr>
              <a:t>байт</a:t>
            </a:r>
            <a:r>
              <a:rPr b="1" lang="da-DK" sz="1400" spc="-1" strike="noStrike">
                <a:solidFill>
                  <a:srgbClr val="0070c0"/>
                </a:solidFill>
                <a:latin typeface="Arial Unicode MS"/>
              </a:rPr>
              <a:t>     1 </a:t>
            </a:r>
            <a:r>
              <a:rPr b="1" lang="ru-RU" sz="1400" spc="-1" strike="noStrike">
                <a:solidFill>
                  <a:srgbClr val="0070c0"/>
                </a:solidFill>
                <a:latin typeface="Arial Unicode MS"/>
              </a:rPr>
              <a:t>байт</a:t>
            </a:r>
            <a:r>
              <a:rPr b="1" lang="da-DK" sz="1400" spc="-1" strike="noStrike">
                <a:solidFill>
                  <a:srgbClr val="0070c0"/>
                </a:solidFill>
                <a:latin typeface="Arial Unicode MS"/>
              </a:rPr>
              <a:t>     1 </a:t>
            </a:r>
            <a:r>
              <a:rPr b="1" lang="ru-RU" sz="1400" spc="-1" strike="noStrike">
                <a:solidFill>
                  <a:srgbClr val="0070c0"/>
                </a:solidFill>
                <a:latin typeface="Arial Unicode MS"/>
              </a:rPr>
              <a:t>байт</a:t>
            </a:r>
            <a:r>
              <a:rPr b="1" lang="da-DK" sz="1400" spc="-1" strike="noStrike">
                <a:solidFill>
                  <a:srgbClr val="0070c0"/>
                </a:solidFill>
                <a:latin typeface="Arial Unicode MS"/>
              </a:rPr>
              <a:t>     1 </a:t>
            </a:r>
            <a:r>
              <a:rPr b="1" lang="ru-RU" sz="1400" spc="-1" strike="noStrike">
                <a:solidFill>
                  <a:srgbClr val="0070c0"/>
                </a:solidFill>
                <a:latin typeface="Arial Unicode MS"/>
              </a:rPr>
              <a:t>байт</a:t>
            </a:r>
            <a:r>
              <a:rPr b="1" lang="da-DK" sz="1400" spc="-1" strike="noStrike">
                <a:solidFill>
                  <a:srgbClr val="0070c0"/>
                </a:solidFill>
                <a:latin typeface="Arial Unicode MS"/>
              </a:rPr>
              <a:t>                 6 </a:t>
            </a:r>
            <a:r>
              <a:rPr b="1" lang="ru-RU" sz="1400" spc="-1" strike="noStrike">
                <a:solidFill>
                  <a:srgbClr val="0070c0"/>
                </a:solidFill>
                <a:latin typeface="Arial Unicode MS"/>
              </a:rPr>
              <a:t>бай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Line 36"/>
          <p:cNvSpPr/>
          <p:nvPr/>
        </p:nvSpPr>
        <p:spPr>
          <a:xfrm>
            <a:off x="2360520" y="1746360"/>
            <a:ext cx="180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9" name="Line 37"/>
          <p:cNvSpPr/>
          <p:nvPr/>
        </p:nvSpPr>
        <p:spPr>
          <a:xfrm>
            <a:off x="3198960" y="1746360"/>
            <a:ext cx="144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Line 38"/>
          <p:cNvSpPr/>
          <p:nvPr/>
        </p:nvSpPr>
        <p:spPr>
          <a:xfrm>
            <a:off x="3960720" y="1746360"/>
            <a:ext cx="180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Line 39"/>
          <p:cNvSpPr/>
          <p:nvPr/>
        </p:nvSpPr>
        <p:spPr>
          <a:xfrm>
            <a:off x="4722840" y="1746360"/>
            <a:ext cx="144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2" name="Line 40"/>
          <p:cNvSpPr/>
          <p:nvPr/>
        </p:nvSpPr>
        <p:spPr>
          <a:xfrm>
            <a:off x="6170760" y="1746360"/>
            <a:ext cx="144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Text Box 41"/>
          <p:cNvSpPr/>
          <p:nvPr/>
        </p:nvSpPr>
        <p:spPr>
          <a:xfrm>
            <a:off x="2144520" y="2508120"/>
            <a:ext cx="34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1.             2.            3.              4.              5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Text Box 44"/>
          <p:cNvSpPr/>
          <p:nvPr/>
        </p:nvSpPr>
        <p:spPr>
          <a:xfrm>
            <a:off x="1353240" y="5784840"/>
            <a:ext cx="111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 Unicode MS"/>
              </a:rPr>
              <a:t>Remote ID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Text Box 45"/>
          <p:cNvSpPr/>
          <p:nvPr/>
        </p:nvSpPr>
        <p:spPr>
          <a:xfrm>
            <a:off x="1354320" y="487044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 Unicode MS"/>
              </a:rPr>
              <a:t>Circuit ID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Формат поля опции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</a:rPr>
              <a:t>Remote I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7" name="Object 1"/>
          <p:cNvGraphicFramePr/>
          <p:nvPr/>
        </p:nvGraphicFramePr>
        <p:xfrm>
          <a:off x="1731960" y="1366920"/>
          <a:ext cx="4702320" cy="57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1960" y="1366920"/>
                    <a:ext cx="470232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9" name="Object 2"/>
          <p:cNvGraphicFramePr/>
          <p:nvPr/>
        </p:nvGraphicFramePr>
        <p:xfrm>
          <a:off x="1946160" y="1795320"/>
          <a:ext cx="2071800" cy="20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6160" y="1795320"/>
                    <a:ext cx="2071800" cy="20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Text Box 4"/>
          <p:cNvSpPr/>
          <p:nvPr/>
        </p:nvSpPr>
        <p:spPr>
          <a:xfrm>
            <a:off x="250920" y="3956040"/>
            <a:ext cx="8534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Устройства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80000"/>
              </a:lnSpc>
              <a:spcBef>
                <a:spcPts val="125"/>
              </a:spcBef>
              <a:spcAft>
                <a:spcPts val="1287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1.   DHCP -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сервер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 192.168.0.221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 в подсети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 192.168.0.0/24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80000"/>
              </a:lnSpc>
              <a:spcBef>
                <a:spcPts val="125"/>
              </a:spcBef>
              <a:spcAft>
                <a:spcPts val="1287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2.  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Маршрутизатор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или коммутатор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 L3,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выступающий в роли шлюза для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 2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-ух подсетей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80000"/>
              </a:lnSpc>
              <a:spcBef>
                <a:spcPts val="125"/>
              </a:spcBef>
              <a:spcAft>
                <a:spcPts val="1287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192.168.0.1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в подсети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 192.168.0.0/24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0.100.10.1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в подсети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 10.100.10.0/24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80000"/>
              </a:lnSpc>
              <a:spcBef>
                <a:spcPts val="125"/>
              </a:spcBef>
              <a:spcAft>
                <a:spcPts val="1287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3.  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Коммутатор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L2 (DES-3200-10)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выступает в роли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 DHCP Relay Agent 192.168.0.170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в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подсети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192.168.0.0/24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80000"/>
              </a:lnSpc>
              <a:spcBef>
                <a:spcPts val="125"/>
              </a:spcBef>
              <a:spcAft>
                <a:spcPts val="1287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MAC –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адрес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00-24-01-FC-8F-D8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80000"/>
              </a:lnSpc>
              <a:spcBef>
                <a:spcPts val="125"/>
              </a:spcBef>
              <a:spcAft>
                <a:spcPts val="1287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4.   3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ноутбука, выступающих в роли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 DHCP –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клиентов, подключённых к коммутатору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L2 –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порты 1, 2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 Unicode MS"/>
              </a:rPr>
              <a:t>и 5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6732720" y="2367000"/>
            <a:ext cx="169200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 u="sng">
                <a:solidFill>
                  <a:srgbClr val="3366ff"/>
                </a:solidFill>
                <a:uFillTx/>
                <a:latin typeface="Arial Unicode MS"/>
              </a:rPr>
              <a:t>DHCP - </a:t>
            </a:r>
            <a:r>
              <a:rPr b="1" lang="ru-RU" sz="1600" spc="-1" strike="noStrike" u="sng">
                <a:solidFill>
                  <a:srgbClr val="3366ff"/>
                </a:solidFill>
                <a:uFillTx/>
                <a:latin typeface="Arial Unicode MS"/>
              </a:rPr>
              <a:t>сервер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Unicode MS"/>
              </a:rPr>
              <a:t>192.168.0.221/</a:t>
            </a:r>
            <a:r>
              <a:rPr b="0" lang="ru-RU" sz="1400" spc="-1" strike="noStrike">
                <a:solidFill>
                  <a:srgbClr val="ff3300"/>
                </a:solidFill>
                <a:latin typeface="Arial Unicode MS"/>
              </a:rPr>
              <a:t>24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 Unicode MS"/>
              </a:rPr>
              <a:t>Шлюз</a:t>
            </a:r>
            <a:r>
              <a:rPr b="0" lang="en-US" sz="1400" spc="-1" strike="noStrike">
                <a:solidFill>
                  <a:srgbClr val="ff3300"/>
                </a:solidFill>
                <a:latin typeface="Arial Unicode MS"/>
              </a:rPr>
              <a:t>: 192.168.0.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Unicode MS"/>
              </a:rPr>
              <a:t>IP Pool: 10.100.10.101-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Unicode MS"/>
              </a:rPr>
              <a:t>10.100.10.102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Unicode MS"/>
              </a:rPr>
              <a:t>10.100.10.200-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Unicode MS"/>
              </a:rPr>
              <a:t>10.100.10.250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3" name="Line 6"/>
          <p:cNvSpPr/>
          <p:nvPr/>
        </p:nvSpPr>
        <p:spPr>
          <a:xfrm flipH="1">
            <a:off x="3658680" y="1724040"/>
            <a:ext cx="289080" cy="10717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Rectangle 7"/>
          <p:cNvSpPr/>
          <p:nvPr/>
        </p:nvSpPr>
        <p:spPr>
          <a:xfrm>
            <a:off x="3285720" y="938160"/>
            <a:ext cx="163656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Клиентский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VLAN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порты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 1-1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Rectangle 8"/>
          <p:cNvSpPr/>
          <p:nvPr/>
        </p:nvSpPr>
        <p:spPr>
          <a:xfrm>
            <a:off x="4806000" y="938160"/>
            <a:ext cx="183600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Управляющий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VLAN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порты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 1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-12,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2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Text Box 9"/>
          <p:cNvSpPr/>
          <p:nvPr/>
        </p:nvSpPr>
        <p:spPr>
          <a:xfrm>
            <a:off x="6375240" y="1366920"/>
            <a:ext cx="18288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3366ff"/>
                </a:solidFill>
                <a:uFillTx/>
                <a:latin typeface="Arial Unicode MS"/>
              </a:rPr>
              <a:t>Коммутатор </a:t>
            </a:r>
            <a:r>
              <a:rPr b="1" lang="en-US" sz="1600" spc="-1" strike="noStrike" u="sng">
                <a:solidFill>
                  <a:srgbClr val="3366ff"/>
                </a:solidFill>
                <a:uFillTx/>
                <a:latin typeface="Arial Unicode MS"/>
              </a:rPr>
              <a:t>L3 </a:t>
            </a:r>
            <a:br>
              <a:rPr sz="1600"/>
            </a:br>
            <a:r>
              <a:rPr b="1" lang="en-US" sz="1600" spc="-1" strike="noStrike" u="sng">
                <a:solidFill>
                  <a:srgbClr val="3366ff"/>
                </a:solidFill>
                <a:uFillTx/>
                <a:latin typeface="Arial Unicode MS"/>
              </a:rPr>
              <a:t>DGS-3627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Line 10"/>
          <p:cNvSpPr/>
          <p:nvPr/>
        </p:nvSpPr>
        <p:spPr>
          <a:xfrm>
            <a:off x="2874960" y="2938320"/>
            <a:ext cx="428760" cy="7146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Line 11"/>
          <p:cNvSpPr/>
          <p:nvPr/>
        </p:nvSpPr>
        <p:spPr>
          <a:xfrm flipH="1">
            <a:off x="2087280" y="3009960"/>
            <a:ext cx="788760" cy="71424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Text Box 12"/>
          <p:cNvSpPr/>
          <p:nvPr/>
        </p:nvSpPr>
        <p:spPr>
          <a:xfrm>
            <a:off x="6450120" y="917640"/>
            <a:ext cx="15238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Интерфейс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 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Unicode MS"/>
              </a:rPr>
              <a:t>192.168.0.1/24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Text Box 13"/>
          <p:cNvSpPr/>
          <p:nvPr/>
        </p:nvSpPr>
        <p:spPr>
          <a:xfrm>
            <a:off x="1925640" y="907920"/>
            <a:ext cx="1604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Интерфейс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 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Unicode MS"/>
              </a:rPr>
              <a:t>10.100.10.1/24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Text Box 14"/>
          <p:cNvSpPr/>
          <p:nvPr/>
        </p:nvSpPr>
        <p:spPr>
          <a:xfrm>
            <a:off x="374760" y="2224080"/>
            <a:ext cx="181584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3366ff"/>
                </a:solidFill>
                <a:uFillTx/>
                <a:latin typeface="Arial Unicode MS"/>
              </a:rPr>
              <a:t>Коммутатор </a:t>
            </a:r>
            <a:r>
              <a:rPr b="1" lang="en-US" sz="1600" spc="-1" strike="noStrike" u="sng">
                <a:solidFill>
                  <a:srgbClr val="3366ff"/>
                </a:solidFill>
                <a:uFillTx/>
                <a:latin typeface="Arial Unicode MS"/>
              </a:rPr>
              <a:t>L2 </a:t>
            </a:r>
            <a:br>
              <a:rPr sz="1600"/>
            </a:br>
            <a:r>
              <a:rPr b="1" lang="en-US" sz="1600" spc="-1" strike="noStrike" u="sng">
                <a:solidFill>
                  <a:srgbClr val="3366ff"/>
                </a:solidFill>
                <a:uFillTx/>
                <a:latin typeface="Arial Unicode MS"/>
              </a:rPr>
              <a:t>DES 3</a:t>
            </a:r>
            <a:r>
              <a:rPr b="1" lang="ru-RU" sz="1600" spc="-1" strike="noStrike" u="sng">
                <a:solidFill>
                  <a:srgbClr val="3366ff"/>
                </a:solidFill>
                <a:uFillTx/>
                <a:latin typeface="Arial Unicode MS"/>
              </a:rPr>
              <a:t>200-1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Unicode MS"/>
              </a:rPr>
              <a:t>192.168.0.170/24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2" name="Text Box 15"/>
          <p:cNvSpPr/>
          <p:nvPr/>
        </p:nvSpPr>
        <p:spPr>
          <a:xfrm>
            <a:off x="3430080" y="3581280"/>
            <a:ext cx="91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Порт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Клиент 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" name="Text Box 16"/>
          <p:cNvSpPr/>
          <p:nvPr/>
        </p:nvSpPr>
        <p:spPr>
          <a:xfrm>
            <a:off x="6722640" y="208116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Порт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 24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Line 17"/>
          <p:cNvSpPr/>
          <p:nvPr/>
        </p:nvSpPr>
        <p:spPr>
          <a:xfrm>
            <a:off x="4835520" y="1009800"/>
            <a:ext cx="1440" cy="1250640"/>
          </a:xfrm>
          <a:prstGeom prst="line">
            <a:avLst/>
          </a:prstGeom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Line 18"/>
          <p:cNvSpPr/>
          <p:nvPr/>
        </p:nvSpPr>
        <p:spPr>
          <a:xfrm>
            <a:off x="6089760" y="1724040"/>
            <a:ext cx="357120" cy="85716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96" name="Picture 19" descr=""/>
          <p:cNvPicPr/>
          <p:nvPr/>
        </p:nvPicPr>
        <p:blipFill>
          <a:blip r:embed="rId5"/>
          <a:srcRect l="0" t="8458" r="18051" b="12842"/>
          <a:stretch/>
        </p:blipFill>
        <p:spPr>
          <a:xfrm>
            <a:off x="3017880" y="3367080"/>
            <a:ext cx="571320" cy="54756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20" descr=""/>
          <p:cNvPicPr/>
          <p:nvPr/>
        </p:nvPicPr>
        <p:blipFill>
          <a:blip r:embed="rId6"/>
          <a:srcRect l="0" t="8458" r="18051" b="12842"/>
          <a:stretch/>
        </p:blipFill>
        <p:spPr>
          <a:xfrm>
            <a:off x="1589040" y="3367080"/>
            <a:ext cx="571680" cy="547560"/>
          </a:xfrm>
          <a:prstGeom prst="rect">
            <a:avLst/>
          </a:prstGeom>
          <a:ln w="0">
            <a:noFill/>
          </a:ln>
        </p:spPr>
      </p:pic>
      <p:sp>
        <p:nvSpPr>
          <p:cNvPr id="698" name="Text Box 21"/>
          <p:cNvSpPr/>
          <p:nvPr/>
        </p:nvSpPr>
        <p:spPr>
          <a:xfrm>
            <a:off x="2005920" y="3652920"/>
            <a:ext cx="90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Порт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Клиент Б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99" name="Picture 22" descr=""/>
          <p:cNvPicPr/>
          <p:nvPr/>
        </p:nvPicPr>
        <p:blipFill>
          <a:blip r:embed="rId7"/>
          <a:srcRect l="17451" t="8632" r="19819" b="810"/>
          <a:stretch/>
        </p:blipFill>
        <p:spPr>
          <a:xfrm>
            <a:off x="5875200" y="2438280"/>
            <a:ext cx="941400" cy="1357560"/>
          </a:xfrm>
          <a:prstGeom prst="rect">
            <a:avLst/>
          </a:prstGeom>
          <a:ln w="0">
            <a:noFill/>
          </a:ln>
        </p:spPr>
      </p:pic>
      <p:sp>
        <p:nvSpPr>
          <p:cNvPr id="700" name="Text Box 23"/>
          <p:cNvSpPr/>
          <p:nvPr/>
        </p:nvSpPr>
        <p:spPr>
          <a:xfrm>
            <a:off x="4432320" y="3152880"/>
            <a:ext cx="90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Порт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Клиент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01" name="Picture 24" descr=""/>
          <p:cNvPicPr/>
          <p:nvPr/>
        </p:nvPicPr>
        <p:blipFill>
          <a:blip r:embed="rId8"/>
          <a:srcRect l="0" t="8458" r="18051" b="12842"/>
          <a:stretch/>
        </p:blipFill>
        <p:spPr>
          <a:xfrm>
            <a:off x="4017960" y="2938320"/>
            <a:ext cx="571680" cy="547920"/>
          </a:xfrm>
          <a:prstGeom prst="rect">
            <a:avLst/>
          </a:prstGeom>
          <a:ln w="0">
            <a:noFill/>
          </a:ln>
        </p:spPr>
      </p:pic>
      <p:sp>
        <p:nvSpPr>
          <p:cNvPr id="702" name="Line 25"/>
          <p:cNvSpPr/>
          <p:nvPr/>
        </p:nvSpPr>
        <p:spPr>
          <a:xfrm>
            <a:off x="3017880" y="2938320"/>
            <a:ext cx="1214280" cy="28584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Пример настройки и использования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</a:rPr>
              <a:t>Option 8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714240" y="1285920"/>
            <a:ext cx="77724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80000"/>
              </a:lnSpc>
              <a:spcAft>
                <a:spcPts val="12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60804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59184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HCP –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сервер использует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динамический пул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P-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адресов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10.100.10.200 – 10.100.10.250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 для назначения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P-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адресов любому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DHCP –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клиенту, запрос от которого будет перенаправлен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HCP Relay Agent-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ом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192.168.0.170 </a:t>
            </a:r>
            <a:r>
              <a:rPr b="0" lang="en-US" sz="1800" spc="-1" strike="noStrike">
                <a:solidFill>
                  <a:srgbClr val="ff0909"/>
                </a:solidFill>
                <a:latin typeface="Arial Unicode MS"/>
              </a:rPr>
              <a:t>(</a:t>
            </a:r>
            <a:r>
              <a:rPr b="0" lang="ru-RU" sz="1800" spc="-1" strike="noStrike">
                <a:solidFill>
                  <a:srgbClr val="ff0909"/>
                </a:solidFill>
                <a:latin typeface="Arial Unicode MS"/>
              </a:rPr>
              <a:t>Если </a:t>
            </a:r>
            <a:r>
              <a:rPr b="0" lang="en-US" sz="1800" spc="-1" strike="noStrike">
                <a:solidFill>
                  <a:srgbClr val="ff0909"/>
                </a:solidFill>
                <a:latin typeface="Arial Unicode MS"/>
              </a:rPr>
              <a:t>DHCP – </a:t>
            </a:r>
            <a:r>
              <a:rPr b="0" lang="ru-RU" sz="1800" spc="-1" strike="noStrike">
                <a:solidFill>
                  <a:srgbClr val="ff0909"/>
                </a:solidFill>
                <a:latin typeface="Arial Unicode MS"/>
              </a:rPr>
              <a:t>клиент, подключён к любому порту коммутатора, кроме портов</a:t>
            </a:r>
            <a:r>
              <a:rPr b="0" lang="en-US" sz="1800" spc="-1" strike="noStrike">
                <a:solidFill>
                  <a:srgbClr val="ff0909"/>
                </a:solidFill>
                <a:latin typeface="Arial Unicode MS"/>
              </a:rPr>
              <a:t> 1 </a:t>
            </a:r>
            <a:r>
              <a:rPr b="0" lang="ru-RU" sz="1800" spc="-1" strike="noStrike">
                <a:solidFill>
                  <a:srgbClr val="ff0909"/>
                </a:solidFill>
                <a:latin typeface="Arial Unicode MS"/>
              </a:rPr>
              <a:t>и</a:t>
            </a:r>
            <a:r>
              <a:rPr b="0" lang="en-US" sz="1800" spc="-1" strike="noStrike">
                <a:solidFill>
                  <a:srgbClr val="ff0909"/>
                </a:solidFill>
                <a:latin typeface="Arial Unicode MS"/>
              </a:rPr>
              <a:t> 2,</a:t>
            </a:r>
            <a:r>
              <a:rPr b="0" lang="ru-RU" sz="1800" spc="-1" strike="noStrike">
                <a:solidFill>
                  <a:srgbClr val="ff0909"/>
                </a:solidFill>
                <a:latin typeface="Arial Unicode MS"/>
              </a:rPr>
              <a:t> он получит</a:t>
            </a:r>
            <a:r>
              <a:rPr b="0" lang="en-US" sz="1800" spc="-1" strike="noStrike">
                <a:solidFill>
                  <a:srgbClr val="ff0909"/>
                </a:solidFill>
                <a:latin typeface="Arial Unicode MS"/>
              </a:rPr>
              <a:t> IP-</a:t>
            </a:r>
            <a:r>
              <a:rPr b="0" lang="ru-RU" sz="1800" spc="-1" strike="noStrike">
                <a:solidFill>
                  <a:srgbClr val="ff0909"/>
                </a:solidFill>
                <a:latin typeface="Arial Unicode MS"/>
              </a:rPr>
              <a:t>адрес из пула.</a:t>
            </a:r>
            <a:r>
              <a:rPr b="0" lang="en-US" sz="1800" spc="-1" strike="noStrike">
                <a:solidFill>
                  <a:srgbClr val="ff0909"/>
                </a:solidFill>
                <a:latin typeface="Arial Unicode MS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60804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59184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60804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59184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        </a:t>
            </a:r>
            <a:r>
              <a:rPr b="1" lang="en-US" sz="1800" spc="-1" strike="noStrike">
                <a:solidFill>
                  <a:srgbClr val="33a3a3"/>
                </a:solidFill>
                <a:latin typeface="Arial Unicode MS"/>
              </a:rPr>
              <a:t>--- </a:t>
            </a:r>
            <a:r>
              <a:rPr b="1" lang="ru-RU" sz="1800" spc="-1" strike="noStrike">
                <a:solidFill>
                  <a:srgbClr val="33a3a3"/>
                </a:solidFill>
                <a:latin typeface="Arial Unicode MS"/>
              </a:rPr>
              <a:t>Для обычного </a:t>
            </a:r>
            <a:r>
              <a:rPr b="1" lang="en-US" sz="1800" spc="-1" strike="noStrike">
                <a:solidFill>
                  <a:srgbClr val="33a3a3"/>
                </a:solidFill>
                <a:latin typeface="Arial Unicode MS"/>
              </a:rPr>
              <a:t>DHCP – </a:t>
            </a:r>
            <a:r>
              <a:rPr b="1" lang="ru-RU" sz="1800" spc="-1" strike="noStrike">
                <a:solidFill>
                  <a:srgbClr val="33a3a3"/>
                </a:solidFill>
                <a:latin typeface="Arial Unicode MS"/>
              </a:rPr>
              <a:t>запроса клиент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60804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5918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80000"/>
              </a:lnSpc>
              <a:spcAft>
                <a:spcPts val="128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60804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59184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Когда какой-либо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DHCP –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клиент подключается к порту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1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 коммутатор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L2, DHCP –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сервер выдаст ему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IP-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адрес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10.100.10.101;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 когд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DHCP –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подключается к порту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2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 коммутатора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L2, DHCP –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сервер выдаст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ему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P-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адрес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10.100.10.102. </a:t>
            </a:r>
            <a:r>
              <a:rPr b="0" lang="en-US" sz="1800" spc="-1" strike="noStrike">
                <a:solidFill>
                  <a:srgbClr val="ff0909"/>
                </a:solidFill>
                <a:latin typeface="Arial Unicode MS"/>
              </a:rPr>
              <a:t>(</a:t>
            </a:r>
            <a:r>
              <a:rPr b="0" lang="ru-RU" sz="1800" spc="-1" strike="noStrike">
                <a:solidFill>
                  <a:srgbClr val="ff0909"/>
                </a:solidFill>
                <a:latin typeface="Arial Unicode MS"/>
              </a:rPr>
              <a:t>например</a:t>
            </a:r>
            <a:r>
              <a:rPr b="0" lang="en-US" sz="1800" spc="-1" strike="noStrike">
                <a:solidFill>
                  <a:srgbClr val="ff0909"/>
                </a:solidFill>
                <a:latin typeface="Arial Unicode MS"/>
              </a:rPr>
              <a:t>, DHCP – </a:t>
            </a:r>
            <a:r>
              <a:rPr b="0" lang="ru-RU" sz="1800" spc="-1" strike="noStrike">
                <a:solidFill>
                  <a:srgbClr val="ff0909"/>
                </a:solidFill>
                <a:latin typeface="Arial Unicode MS"/>
              </a:rPr>
              <a:t>клиент, подключённый к порту</a:t>
            </a:r>
            <a:r>
              <a:rPr b="0" lang="en-US" sz="1800" spc="-1" strike="noStrike">
                <a:solidFill>
                  <a:srgbClr val="ff0909"/>
                </a:solidFill>
                <a:latin typeface="Arial Unicode MS"/>
              </a:rPr>
              <a:t> 1 </a:t>
            </a:r>
            <a:r>
              <a:rPr b="0" lang="ru-RU" sz="1800" spc="-1" strike="noStrike">
                <a:solidFill>
                  <a:srgbClr val="ff0909"/>
                </a:solidFill>
                <a:latin typeface="Arial Unicode MS"/>
              </a:rPr>
              <a:t>коммутатора, получит</a:t>
            </a:r>
            <a:r>
              <a:rPr b="0" lang="en-US" sz="1800" spc="-1" strike="noStrike">
                <a:solidFill>
                  <a:srgbClr val="ff0909"/>
                </a:solidFill>
                <a:latin typeface="Arial Unicode MS"/>
              </a:rPr>
              <a:t> IP-</a:t>
            </a:r>
            <a:r>
              <a:rPr b="0" lang="ru-RU" sz="1800" spc="-1" strike="noStrike">
                <a:solidFill>
                  <a:srgbClr val="ff0909"/>
                </a:solidFill>
                <a:latin typeface="Arial Unicode MS"/>
              </a:rPr>
              <a:t>адрес </a:t>
            </a:r>
            <a:r>
              <a:rPr b="0" lang="en-US" sz="1800" spc="-1" strike="noStrike">
                <a:solidFill>
                  <a:srgbClr val="ff0909"/>
                </a:solidFill>
                <a:latin typeface="Arial Unicode MS"/>
              </a:rPr>
              <a:t>10.100.10.101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60804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591840"/>
                <a:tab algn="l" pos="988380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marL="608040" indent="-60804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60804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59184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</a:t>
            </a:r>
            <a:r>
              <a:rPr b="1" lang="en-US" sz="1800" spc="-1" strike="noStrike">
                <a:solidFill>
                  <a:srgbClr val="33a3a3"/>
                </a:solidFill>
                <a:latin typeface="Arial Unicode MS"/>
              </a:rPr>
              <a:t>--- </a:t>
            </a:r>
            <a:r>
              <a:rPr b="1" lang="ru-RU" sz="1800" spc="-1" strike="noStrike">
                <a:solidFill>
                  <a:srgbClr val="33a3a3"/>
                </a:solidFill>
                <a:latin typeface="Arial Unicode MS"/>
              </a:rPr>
              <a:t>Для</a:t>
            </a:r>
            <a:r>
              <a:rPr b="1" lang="en-US" sz="1800" spc="-1" strike="noStrike">
                <a:solidFill>
                  <a:srgbClr val="33a3a3"/>
                </a:solidFill>
                <a:latin typeface="Arial Unicode MS"/>
              </a:rPr>
              <a:t> DHCP – </a:t>
            </a:r>
            <a:r>
              <a:rPr b="1" lang="ru-RU" sz="1800" spc="-1" strike="noStrike">
                <a:solidFill>
                  <a:srgbClr val="33a3a3"/>
                </a:solidFill>
                <a:latin typeface="Arial Unicode MS"/>
              </a:rPr>
              <a:t>запросов клиента</a:t>
            </a:r>
            <a:r>
              <a:rPr b="1" lang="en-US" sz="1800" spc="-1" strike="noStrike">
                <a:solidFill>
                  <a:srgbClr val="33a3a3"/>
                </a:solidFill>
                <a:latin typeface="Arial Unicode MS"/>
              </a:rPr>
              <a:t> </a:t>
            </a:r>
            <a:r>
              <a:rPr b="1" lang="ru-RU" sz="1800" spc="-1" strike="noStrike">
                <a:solidFill>
                  <a:srgbClr val="33a3a3"/>
                </a:solidFill>
                <a:latin typeface="Arial Unicode MS"/>
              </a:rPr>
              <a:t>с </a:t>
            </a:r>
            <a:r>
              <a:rPr b="1" lang="en-US" sz="1800" spc="-1" strike="noStrike">
                <a:solidFill>
                  <a:srgbClr val="33a3a3"/>
                </a:solidFill>
                <a:latin typeface="Arial Unicode MS"/>
              </a:rPr>
              <a:t>option 8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5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Сервер с поддержкой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</a:rPr>
              <a:t>DHCP Option 8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3"/>
          <p:cNvSpPr/>
          <p:nvPr/>
        </p:nvSpPr>
        <p:spPr>
          <a:xfrm>
            <a:off x="179280" y="105264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GS-3612:5#</a:t>
            </a:r>
            <a:r>
              <a:rPr b="1" i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fig rip all authentication enable ke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mand: config rip all authentication enable ke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ccess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067280" y="981000"/>
          <a:ext cx="4897440" cy="2111400"/>
        </p:xfrm>
        <a:graphic>
          <a:graphicData uri="http://schemas.openxmlformats.org/drawingml/2006/table">
            <a:tbl>
              <a:tblPr/>
              <a:tblGrid>
                <a:gridCol w="662040"/>
                <a:gridCol w="933120"/>
                <a:gridCol w="716040"/>
                <a:gridCol w="660600"/>
                <a:gridCol w="988920"/>
                <a:gridCol w="936720"/>
              </a:tblGrid>
              <a:tr h="952200">
                <a:tc gridSpan="6"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DES-3612:5#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h rip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←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Проверка версии и статус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IP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Command: sh rip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IP Global State : En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IP Interface Setting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240"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nterfac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yste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nt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IP Addres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.1.1.1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100.1.1.1/2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TX Mod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V2 Onl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V2 Onl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RX Mod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V2 Onl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V2 Only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Authentic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----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Dis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Dis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900" spc="-1" strike="noStrike">
                          <a:solidFill>
                            <a:srgbClr val="33a3a3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Stat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------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En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Enable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>
                      <a:noFill/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880">
                <a:tc gridSpan="2"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Droid Sans Fallback"/>
                        </a:rPr>
                        <a:t>Total Entries : 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360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96" name="Рисунок 6" descr="rip_a_2.tif"/>
          <p:cNvPicPr/>
          <p:nvPr/>
        </p:nvPicPr>
        <p:blipFill>
          <a:blip r:embed="rId1"/>
          <a:stretch/>
        </p:blipFill>
        <p:spPr>
          <a:xfrm>
            <a:off x="1042920" y="3213000"/>
            <a:ext cx="7294680" cy="28432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87a9"/>
                </a:solidFill>
                <a:latin typeface="Arial"/>
                <a:ea typeface="Arial"/>
              </a:rPr>
              <a:t>Динамическая маршрутизац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87a9"/>
                </a:solidFill>
                <a:latin typeface="Arial"/>
                <a:ea typeface="Arial"/>
              </a:rPr>
              <a:t>Пример использования </a:t>
            </a: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RIP Authentica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Настройка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</a:rPr>
              <a:t>L3 </a:t>
            </a: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коммутатор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Text Box 2"/>
          <p:cNvSpPr/>
          <p:nvPr/>
        </p:nvSpPr>
        <p:spPr>
          <a:xfrm>
            <a:off x="642960" y="1000080"/>
            <a:ext cx="7994520" cy="5029200"/>
          </a:xfrm>
          <a:prstGeom prst="rect">
            <a:avLst/>
          </a:prstGeom>
          <a:noFill/>
          <a:ln w="1260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 Unicode MS"/>
              </a:rPr>
              <a:t>Настройка коммутатора </a:t>
            </a:r>
            <a:r>
              <a:rPr b="1" lang="en-US" sz="1600" spc="-1" strike="noStrike">
                <a:solidFill>
                  <a:srgbClr val="ff3300"/>
                </a:solidFill>
                <a:latin typeface="Arial Unicode MS"/>
              </a:rPr>
              <a:t>L3 (DGS-</a:t>
            </a:r>
            <a:r>
              <a:rPr b="1" lang="ru-RU" sz="1600" spc="-1" strike="noStrike">
                <a:solidFill>
                  <a:srgbClr val="ff3300"/>
                </a:solidFill>
                <a:latin typeface="Arial Unicode MS"/>
              </a:rPr>
              <a:t>3627</a:t>
            </a:r>
            <a:r>
              <a:rPr b="1" lang="en-US" sz="1600" spc="-1" strike="noStrike">
                <a:solidFill>
                  <a:srgbClr val="ff3300"/>
                </a:solidFill>
                <a:latin typeface="Arial Unicode MS"/>
              </a:rPr>
              <a:t>)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Настройте влан, в котором будут находиться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DHCP –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 клиенты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</a:rPr>
              <a:t>create vlan client tag 555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</a:rPr>
              <a:t>config vlan client add tagged 1-</a:t>
            </a:r>
            <a:r>
              <a:rPr b="0" i="1" lang="ru-RU" sz="1400" spc="-1" strike="noStrike">
                <a:solidFill>
                  <a:srgbClr val="0070c0"/>
                </a:solidFill>
                <a:latin typeface="Arial Unicode MS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Настройте управляющий влан, в котором будет находиться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DHCP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сервер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</a:rPr>
              <a:t>create vlan management tag 1234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</a:rPr>
              <a:t>config vlan management add tagged 1-</a:t>
            </a:r>
            <a:r>
              <a:rPr b="0" i="1" lang="ru-RU" sz="1400" spc="-1" strike="noStrike">
                <a:solidFill>
                  <a:srgbClr val="0070c0"/>
                </a:solidFill>
                <a:latin typeface="Arial Unicode MS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</a:rPr>
              <a:t>config vlan default delete </a:t>
            </a:r>
            <a:r>
              <a:rPr b="0" i="1" lang="ru-RU" sz="1400" spc="-1" strike="noStrike">
                <a:solidFill>
                  <a:srgbClr val="0070c0"/>
                </a:solidFill>
                <a:latin typeface="Arial Unicode MS"/>
              </a:rPr>
              <a:t>24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</a:rPr>
              <a:t>config vlan management add untagged 24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#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 Сконфигурируйте и создайте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IP-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интерфейсы в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VLAN client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и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managemen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</a:rPr>
              <a:t>config ipif System ipaddress 10.90.90.90/24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</a:rPr>
              <a:t>create ipif client_gw 10.100.10.1/24 client state enabl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</a:rPr>
              <a:t>create ipif manag_gw 192.168.0.1/24 management state enabl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Сохраните настройк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5760">
              <a:lnSpc>
                <a:spcPct val="80000"/>
              </a:lnSpc>
              <a:spcAft>
                <a:spcPts val="1287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 Unicode MS"/>
              </a:rPr>
              <a:t>sav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Настройка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</a:rPr>
              <a:t>L2 </a:t>
            </a: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коммутатор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9" name="Text Box 2"/>
          <p:cNvSpPr/>
          <p:nvPr/>
        </p:nvSpPr>
        <p:spPr>
          <a:xfrm>
            <a:off x="611280" y="907920"/>
            <a:ext cx="7883280" cy="5185080"/>
          </a:xfrm>
          <a:prstGeom prst="rect">
            <a:avLst/>
          </a:prstGeom>
          <a:noFill/>
          <a:ln w="1260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 Unicode MS"/>
              </a:rPr>
              <a:t>Настройка коммутатора </a:t>
            </a:r>
            <a:r>
              <a:rPr b="1" lang="en-US" sz="1600" spc="-1" strike="noStrike">
                <a:solidFill>
                  <a:srgbClr val="ff3300"/>
                </a:solidFill>
                <a:latin typeface="Arial Unicode MS"/>
              </a:rPr>
              <a:t>L</a:t>
            </a:r>
            <a:r>
              <a:rPr b="1" lang="ru-RU" sz="1600" spc="-1" strike="noStrike">
                <a:solidFill>
                  <a:srgbClr val="ff3300"/>
                </a:solidFill>
                <a:latin typeface="Arial Unicode MS"/>
              </a:rPr>
              <a:t>2</a:t>
            </a:r>
            <a:r>
              <a:rPr b="1" lang="en-US" sz="1600" spc="-1" strike="noStrike">
                <a:solidFill>
                  <a:srgbClr val="ff3300"/>
                </a:solidFill>
                <a:latin typeface="Arial Unicode MS"/>
              </a:rPr>
              <a:t> (DES-3200-10)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Настройте клиентский и управляющий вланы на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DES-3200-10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onfig vlan default delete 1-</a:t>
            </a:r>
            <a:r>
              <a:rPr b="0" i="1" lang="ru-RU" sz="1100" spc="-1" strike="noStrike">
                <a:solidFill>
                  <a:srgbClr val="0070c0"/>
                </a:solidFill>
                <a:latin typeface="Arial Unicode MS"/>
              </a:rPr>
              <a:t>8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reate vlan client tag 555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onfig vlan client add tagged 9-1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onfig vlan client add untagged 1-8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reate vlan management tag 1234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onfig vlan management add tagged 9-1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Настройте управляющий интерфейс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onfig ipif System ipaddress 192.168.0.170/24 vlan management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Настройте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DHCP Rela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enable dhcp_relay                                                                                   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onfig dhcp_relay option_82 state enable                                                            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onfig dhcp_relay option_82 check disable                                                           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onfig dhcp_relay option_82 policy replace                                                                                      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onfig dhcp_relay option_82 remote_id default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onfig dhcp_relay add ipif System 192.168.0.221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Разрешите клиентам доступ в управляющем влане, только к </a:t>
            </a: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DHCP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серверу. Остальное запретите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reate access_profile ip destination_ip 255.255.255.255 profile_id 5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onfig access_profile profile_id 5 add access_id 1 ip destination_ip 192.168.0.221 port 1-8 permit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reate access_profile ip destination_ip 255.255.255.0 profile_id 6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config access_profile profile_id 6 add access_id 1 ip destination_ip 192.168.0.0 port 1-8 deny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</a:rPr>
              <a:t>Сохраните настройки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1100" spc="-1" strike="noStrike">
                <a:solidFill>
                  <a:srgbClr val="0070c0"/>
                </a:solidFill>
                <a:latin typeface="Arial Unicode MS"/>
              </a:rPr>
              <a:t>save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Настройка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</a:rPr>
              <a:t>DHCP </a:t>
            </a: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сервер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Rectangle 2"/>
          <p:cNvSpPr/>
          <p:nvPr/>
        </p:nvSpPr>
        <p:spPr>
          <a:xfrm>
            <a:off x="390600" y="907920"/>
            <a:ext cx="84294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Unicode MS"/>
              </a:rPr>
              <a:t>Рассмотрим пример настройки сервера 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</a:rPr>
              <a:t>isc-dhcpd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Unicode MS"/>
              </a:rPr>
              <a:t>Ниже приведено содержимое 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</a:rPr>
              <a:t>dhcpd.conf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Настройка основных параметров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lease-file-name "/var/log/dhcpd.leases"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log-facility local7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authoritative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default-lease-time 86400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ddns-update-style none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local-address 192.168.0.221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one-lease-per-client true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deny duplicates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Настройка логирования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 (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в лог записываются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MAC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адрес, влан и порт клиента, запросившего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IP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адрес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if exists agent.circuit-id {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log(info, concat("Lease"," IP ",binary-to-ascii(10, 8,".",leased-address),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" MAC ",binary-to-ascii(16,8,":",substring(hardware,1, 6)),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" port ",binary-to-ascii(10,16, "",substring(option agent.circuit-id, 4,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2)),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" VLAN ",binary-to-ascii(10, 16,"",substring(option agent.circuit-id, 2, 2))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))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}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Сравниваются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Remote ID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и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Circuit ID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 с заданными. Согласно дизайну преобразования 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binary-to-ascii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незначащие нули слева отбрасываются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class "sw170-1" {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match if binary-to-ascii(16, 8, ":", suffix(option agent.remote-id, 5))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= "24:1:fc:8f:d8" and binary-to-ascii(10, 8, "", suffix(option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agent.circuit-id, 1)) = "1"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}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class "sw170-2" {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match if binary-to-ascii(16, 8, ":", suffix(option agent.remote-id, 5))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= "24:1:fc:8f:d8" and binary-to-ascii(10, 8, "", suffix(option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agent.circuit-id, 1)) = "2"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}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Настройка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</a:rPr>
              <a:t>DHCP </a:t>
            </a: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сервер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Rectangle 2"/>
          <p:cNvSpPr/>
          <p:nvPr/>
        </p:nvSpPr>
        <p:spPr>
          <a:xfrm>
            <a:off x="428760" y="1052640"/>
            <a:ext cx="8429400" cy="38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Unicode MS"/>
              </a:rPr>
              <a:t>Продолжение содержимого файла </a:t>
            </a:r>
            <a:r>
              <a:rPr b="0" lang="en-US" sz="1200" spc="-1" strike="noStrike">
                <a:solidFill>
                  <a:srgbClr val="ff0000"/>
                </a:solidFill>
                <a:latin typeface="Arial Unicode MS"/>
              </a:rPr>
              <a:t>dhcpd.conf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shared-network test {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Включить опцию, позволяющую клиенту корректно продлевать аренду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IP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 адреса прямым запросом на сервер ,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не содержащим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Option 82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(минуя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DHCP Relay Agent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stash-agent-options true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Запретить выдавать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IP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-адреса из подсети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192.168.0.0/24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(в этой подсети находятся управляющие интерфейсы коммутаторов и доступ клиентов в эту подсеть должен быть ограничен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subnet 192.168.0.0 netmask 255.255.255.0 {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deny unknown-clients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}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#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 Описать выдаваемые клиенту по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DHCP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параметры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subnet 10.100.10.0 netmask 255.255.255.0 {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option broadcast-address 10.100.10.255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option domain-name-servers 10.100.10.1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option routers 10.100.10.1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option subnet-mask 255.255.255.0;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Задать адреса, получаемые клиентами </a:t>
            </a: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: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клиентом , подключенным к порту 1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pool { range 10.100.10.101; allow members of "sw170-1";}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клиентом , подключенным к порту 2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pool { range 10.100.10.102; allow members of "sw170-2";}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</a:rPr>
              <a:t># </a:t>
            </a: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клиентами, находящимися на других портах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pool { range 10.100.10.200 10.100.10.250;}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}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 Unicode MS"/>
              </a:rPr>
              <a:t>}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2"/>
          <p:cNvSpPr/>
          <p:nvPr/>
        </p:nvSpPr>
        <p:spPr>
          <a:xfrm>
            <a:off x="380880" y="1676520"/>
            <a:ext cx="80708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Результаты теста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Клиенту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A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будет выдан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IP-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адрес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.10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.10.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10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Клиенту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будет выдан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IP-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адрес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.10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.10.10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16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Клиенту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B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будет выдан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IP-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адрес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.100.10.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5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a3a3"/>
                </a:solidFill>
                <a:latin typeface="Arial Unicode MS"/>
              </a:rPr>
              <a:t>Информация </a:t>
            </a:r>
            <a:r>
              <a:rPr b="1" lang="en-US" sz="2800" spc="-1" strike="noStrike">
                <a:solidFill>
                  <a:srgbClr val="33a3a3"/>
                </a:solidFill>
                <a:latin typeface="Arial Unicode MS"/>
              </a:rPr>
              <a:t>DHCP Relay Agent  (Option 82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 Box 1"/>
          <p:cNvSpPr/>
          <p:nvPr/>
        </p:nvSpPr>
        <p:spPr>
          <a:xfrm>
            <a:off x="1187280" y="1989000"/>
            <a:ext cx="67694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Функции управления и отслеживание работы сети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Протокол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SNM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7a9"/>
                </a:solidFill>
                <a:latin typeface="Arial"/>
                <a:ea typeface="Arial"/>
              </a:rPr>
              <a:t>Протокол </a:t>
            </a:r>
            <a:r>
              <a:rPr b="0" lang="en-US" sz="4000" spc="-1" strike="noStrike">
                <a:solidFill>
                  <a:srgbClr val="0087a9"/>
                </a:solidFill>
                <a:latin typeface="Arial"/>
                <a:ea typeface="Arial"/>
              </a:rPr>
              <a:t>SNM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8" name="Прямоугольник 2"/>
          <p:cNvSpPr/>
          <p:nvPr/>
        </p:nvSpPr>
        <p:spPr>
          <a:xfrm>
            <a:off x="250920" y="892080"/>
            <a:ext cx="8497800" cy="52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mple Network Management Protoc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mple Network Management Protocol (SNMP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– это протокол 7–ого уровня модел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OSI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ровень приложени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ан для управления и отслеживания работы устройств сети. SNMP позволяет станциям управления сети прочитать и изменить параметры настройки шлюзов, маршрутизаторов, коммутаторов и других устройств сети. Используйте SNMP, чтобы настраивать устройства для правильного их функционирования, отслеживания работы сети и обнаружения потенциальных проблем на коммутаторе или группе коммутаторов или сет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NMP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мпонент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менедже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енеджер – это программное приложение, которое контактирует с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гентами, опрашивая или изменяя базу данных агент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ген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гент – это программное обеспечение, которое запущено на  сетевом оборудовании(хост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аршрутизатор, принтер или другое оборудование), и поддерживает информацию о ее конфигурации и текущий статус в базе данных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B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я в базе данных хранится на основе информации об управлении (MIB)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ак карта с иерархической последовательностью всех управляемых объектов и деталями, описывающих возможности каждого объект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Прямоугольник 1"/>
          <p:cNvSpPr/>
          <p:nvPr/>
        </p:nvSpPr>
        <p:spPr>
          <a:xfrm>
            <a:off x="250920" y="907920"/>
            <a:ext cx="8569080" cy="50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ерсии протокол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NMP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 данный момент всего три версии протокол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v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(RFC 1157)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v2c (RFC 1901-1908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v3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RFC 3411-3418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v.1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.2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пользовательское установление подлинности осуществляется с помощью  строк сообщест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'community strings'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которые функционируют как парол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далённый пользовател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NMP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иложения и коммутатор с поддержкой протокол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олжны использовать одинаковую строку сообще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 SNMP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акеты от любой станции, которые не прошли проверку на подлинность, будут игнорироваться(отброшены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 коммутаторе для управления и отслеживания работы сети настроены и используются следующие строки сообществ для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v.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.2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и настройках по умолчанию на коммутатор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blic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чтени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ivate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чтение/запись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Внимание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ужно изменить настройки по умолчанию строк сообществ по причинам безопасност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v.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использует списки пользователей и паролей, которые хранятся и передаются в хешированном виде, что даёт более высокий уровень безопасности при использовании данного протокола.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7a9"/>
                </a:solidFill>
                <a:latin typeface="Arial"/>
                <a:ea typeface="Arial"/>
              </a:rPr>
              <a:t>Протокол </a:t>
            </a:r>
            <a:r>
              <a:rPr b="0" lang="en-US" sz="4000" spc="-1" strike="noStrike">
                <a:solidFill>
                  <a:srgbClr val="0087a9"/>
                </a:solidFill>
                <a:latin typeface="Arial"/>
                <a:ea typeface="Arial"/>
              </a:rPr>
              <a:t>SNM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Line 6"/>
          <p:cNvSpPr/>
          <p:nvPr/>
        </p:nvSpPr>
        <p:spPr>
          <a:xfrm>
            <a:off x="2522520" y="410544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7a9"/>
                </a:solidFill>
                <a:latin typeface="Arial"/>
                <a:ea typeface="Arial"/>
              </a:rPr>
              <a:t>Протокол </a:t>
            </a:r>
            <a:r>
              <a:rPr b="0" lang="en-US" sz="4000" spc="-1" strike="noStrike">
                <a:solidFill>
                  <a:srgbClr val="0087a9"/>
                </a:solidFill>
                <a:latin typeface="Arial"/>
                <a:ea typeface="Arial"/>
              </a:rPr>
              <a:t>SNM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3" name="Прямоугольник 2"/>
          <p:cNvSpPr/>
          <p:nvPr/>
        </p:nvSpPr>
        <p:spPr>
          <a:xfrm>
            <a:off x="468360" y="905040"/>
            <a:ext cx="7343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agement Information Ba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аждому объекту, которым управляют, назначают идентификатор объекта (OID)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OID-ы определены в файле MIB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OID может быть представлен как последовательность целых чисел, отделенны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есятичными запятыми, или текстовой строкой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огда SNMP  менеджер  опрашивает объект, он посылает OI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агенту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24" name="Picture 15" descr="C:\Users\06075\Desktop\Icons for Topology\Computer 01.jpg"/>
          <p:cNvPicPr/>
          <p:nvPr/>
        </p:nvPicPr>
        <p:blipFill>
          <a:blip r:embed="rId1"/>
          <a:stretch/>
        </p:blipFill>
        <p:spPr>
          <a:xfrm>
            <a:off x="1946160" y="3537000"/>
            <a:ext cx="766800" cy="104436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26" descr="des-3828"/>
          <p:cNvPicPr/>
          <p:nvPr/>
        </p:nvPicPr>
        <p:blipFill>
          <a:blip r:embed="rId2"/>
          <a:stretch/>
        </p:blipFill>
        <p:spPr>
          <a:xfrm>
            <a:off x="5114880" y="3889440"/>
            <a:ext cx="2121120" cy="476280"/>
          </a:xfrm>
          <a:prstGeom prst="rect">
            <a:avLst/>
          </a:prstGeom>
          <a:ln w="0">
            <a:noFill/>
          </a:ln>
        </p:spPr>
      </p:pic>
      <p:sp>
        <p:nvSpPr>
          <p:cNvPr id="726" name="Прямоугольник 6"/>
          <p:cNvSpPr/>
          <p:nvPr/>
        </p:nvSpPr>
        <p:spPr>
          <a:xfrm>
            <a:off x="1518480" y="32130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енеджер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Прямоугольник 7"/>
          <p:cNvSpPr/>
          <p:nvPr/>
        </p:nvSpPr>
        <p:spPr>
          <a:xfrm>
            <a:off x="5475960" y="358128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гент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8" name="Прямоугольник 11"/>
          <p:cNvSpPr/>
          <p:nvPr/>
        </p:nvSpPr>
        <p:spPr>
          <a:xfrm>
            <a:off x="468360" y="5445000"/>
            <a:ext cx="741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гент отвечае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енеджеру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Arial"/>
                <a:ea typeface="Arial"/>
              </a:rPr>
              <a:t>SNMPv2-MIB::sysDescr.0 = STRING: D-Link DES-3</a:t>
            </a:r>
            <a:r>
              <a:rPr b="0" lang="ru-RU" sz="1400" spc="-1" strike="noStrike">
                <a:solidFill>
                  <a:srgbClr val="92d050"/>
                </a:solidFill>
                <a:latin typeface="Arial"/>
                <a:ea typeface="Arial"/>
              </a:rPr>
              <a:t>5</a:t>
            </a:r>
            <a:r>
              <a:rPr b="0" lang="en-US" sz="1400" spc="-1" strike="noStrike">
                <a:solidFill>
                  <a:srgbClr val="92d050"/>
                </a:solidFill>
                <a:latin typeface="Arial"/>
                <a:ea typeface="Arial"/>
              </a:rPr>
              <a:t>28 Fast Ethernet Switch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9" name="Прямоугольник 12"/>
          <p:cNvSpPr/>
          <p:nvPr/>
        </p:nvSpPr>
        <p:spPr>
          <a:xfrm>
            <a:off x="468360" y="4869000"/>
            <a:ext cx="511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енеджер посылает запрос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генту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snmpget -v2c -c public 192.168.0.128 1.3.6.1.2.1.1.1</a:t>
            </a:r>
            <a:r>
              <a:rPr b="0" i="1" lang="ru-RU" sz="1400" spc="-1" strike="noStrike">
                <a:solidFill>
                  <a:srgbClr val="0070c0"/>
                </a:solidFill>
                <a:latin typeface="Arial"/>
                <a:ea typeface="Arial"/>
              </a:rPr>
              <a:t>.0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30" name="Группа 16"/>
          <p:cNvGrpSpPr/>
          <p:nvPr/>
        </p:nvGrpSpPr>
        <p:grpSpPr>
          <a:xfrm>
            <a:off x="2955960" y="3573360"/>
            <a:ext cx="1828800" cy="360360"/>
            <a:chOff x="2955960" y="3573360"/>
            <a:chExt cx="1828800" cy="360360"/>
          </a:xfrm>
        </p:grpSpPr>
        <p:sp>
          <p:nvSpPr>
            <p:cNvPr id="731" name="Line 9"/>
            <p:cNvSpPr/>
            <p:nvPr/>
          </p:nvSpPr>
          <p:spPr>
            <a:xfrm>
              <a:off x="2955960" y="3933720"/>
              <a:ext cx="1828800" cy="0"/>
            </a:xfrm>
            <a:prstGeom prst="line">
              <a:avLst/>
            </a:prstGeom>
            <a:ln w="936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2" name="Прямоугольник 13"/>
            <p:cNvSpPr/>
            <p:nvPr/>
          </p:nvSpPr>
          <p:spPr>
            <a:xfrm>
              <a:off x="2990520" y="3573360"/>
              <a:ext cx="169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SNMP get-request</a:t>
              </a:r>
              <a:r>
                <a:rPr b="0" lang="ru-RU" sz="1400" spc="-1" strike="noStrike">
                  <a:solidFill>
                    <a:srgbClr val="0070c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33" name="Группа 17"/>
          <p:cNvGrpSpPr/>
          <p:nvPr/>
        </p:nvGrpSpPr>
        <p:grpSpPr>
          <a:xfrm>
            <a:off x="2955600" y="4292640"/>
            <a:ext cx="1840680" cy="431280"/>
            <a:chOff x="2955600" y="4292640"/>
            <a:chExt cx="1840680" cy="431280"/>
          </a:xfrm>
        </p:grpSpPr>
        <p:sp>
          <p:nvSpPr>
            <p:cNvPr id="734" name="Line 12"/>
            <p:cNvSpPr/>
            <p:nvPr/>
          </p:nvSpPr>
          <p:spPr>
            <a:xfrm flipH="1">
              <a:off x="2955600" y="4292640"/>
              <a:ext cx="1799640" cy="0"/>
            </a:xfrm>
            <a:prstGeom prst="line">
              <a:avLst/>
            </a:prstGeom>
            <a:ln w="9360">
              <a:solidFill>
                <a:srgbClr val="92d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5" name="Прямоугольник 15"/>
            <p:cNvSpPr/>
            <p:nvPr/>
          </p:nvSpPr>
          <p:spPr>
            <a:xfrm>
              <a:off x="2958840" y="4416840"/>
              <a:ext cx="183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400" spc="-1" strike="noStrike">
                  <a:solidFill>
                    <a:srgbClr val="92d050"/>
                  </a:solidFill>
                  <a:latin typeface="Arial"/>
                  <a:ea typeface="Arial"/>
                </a:rPr>
                <a:t>SNMP get-response</a:t>
              </a:r>
              <a:r>
                <a:rPr b="0" lang="ru-RU" sz="1400" spc="-1" strike="noStrike">
                  <a:solidFill>
                    <a:srgbClr val="92d05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87a9"/>
                </a:solidFill>
                <a:latin typeface="Arial"/>
                <a:ea typeface="Arial"/>
              </a:rPr>
              <a:t>Протокол </a:t>
            </a:r>
            <a:r>
              <a:rPr b="0" lang="en-US" sz="4000" spc="-1" strike="noStrike">
                <a:solidFill>
                  <a:srgbClr val="0087a9"/>
                </a:solidFill>
                <a:latin typeface="Arial"/>
                <a:ea typeface="Arial"/>
              </a:rPr>
              <a:t>SNM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Прямоугольник 2"/>
          <p:cNvSpPr/>
          <p:nvPr/>
        </p:nvSpPr>
        <p:spPr>
          <a:xfrm>
            <a:off x="250920" y="1557360"/>
            <a:ext cx="43210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NMP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манд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g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ля просмотра конкретногоOID-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wal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ля просмотра дерева OID-ов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s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ля изменения настроек OID-а(ов)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8" name="Прямоугольник 3"/>
          <p:cNvSpPr/>
          <p:nvPr/>
        </p:nvSpPr>
        <p:spPr>
          <a:xfrm>
            <a:off x="4859280" y="907920"/>
            <a:ext cx="4105440" cy="51462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мер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nmpwalk -v2c -c public 192.168.0.128 1.3.6.1.2.1.2.2.1.5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1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2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3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4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5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6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7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8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9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10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11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12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13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14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15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16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17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18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19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20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21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22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23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24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25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26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27 = Gauge32: 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F-MIB::ifSpeed.28 = Gauge32: 1000000000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Прямоугольник 4"/>
          <p:cNvSpPr/>
          <p:nvPr/>
        </p:nvSpPr>
        <p:spPr>
          <a:xfrm>
            <a:off x="179280" y="429264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Внимание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ы лежат в свободном доступе для коммутаторов или серий коммутаторов на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ftp.dlink.ru</a:t>
            </a:r>
            <a:r>
              <a:rPr b="0" lang="en-US" sz="1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папочк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NM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, например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ftp://ftp.dlink.ru/pub/Switch/DES-3528/SNMP/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0" y="114480"/>
            <a:ext cx="9144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87a9"/>
                </a:solidFill>
                <a:latin typeface="Arial"/>
                <a:ea typeface="Arial"/>
              </a:rPr>
              <a:t>Динамическая маршрутизац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87a9"/>
                </a:solidFill>
                <a:latin typeface="Arial"/>
                <a:ea typeface="Arial"/>
              </a:rPr>
              <a:t>Route Redistribut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Прямоугольник 2"/>
          <p:cNvSpPr/>
          <p:nvPr/>
        </p:nvSpPr>
        <p:spPr>
          <a:xfrm>
            <a:off x="826920" y="1395360"/>
            <a:ext cx="7561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 всегда есть необходимость включать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I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всех интерфейсах, особенно, на клиентских. В этом случае нужно либо настраивать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IP Authentication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чтобы неавторизованные маршрутизаторы не подключались  к сети, либо не включать 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IP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 интерфейсе(ах). В этом случае для анонсирования локальных подсетей или статических маршрутов нужно использовать механизм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oute Redistribute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Прямоугольник 3"/>
          <p:cNvSpPr/>
          <p:nvPr/>
        </p:nvSpPr>
        <p:spPr>
          <a:xfrm>
            <a:off x="2556000" y="3213000"/>
            <a:ext cx="4895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нонсирование локальных подсетей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create route redistribute dst rip src loca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нонсирование статических маршрутов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create route redistribute dst rip src static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смотр созданных анонсов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show route redistribut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даление анонсов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4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delete route redistribute dst rip src loca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Text Box 1"/>
          <p:cNvSpPr/>
          <p:nvPr/>
        </p:nvSpPr>
        <p:spPr>
          <a:xfrm>
            <a:off x="250920" y="1079640"/>
            <a:ext cx="86374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460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840" indent="-17460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840" indent="-174600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1" name="Text Box 2"/>
          <p:cNvSpPr/>
          <p:nvPr/>
        </p:nvSpPr>
        <p:spPr>
          <a:xfrm>
            <a:off x="247680" y="5149800"/>
            <a:ext cx="5859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Бигаров Руслан, менеджер по проектам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-mail: rbigarov@dlink.r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2" name="Text Box 3"/>
          <p:cNvSpPr/>
          <p:nvPr/>
        </p:nvSpPr>
        <p:spPr>
          <a:xfrm>
            <a:off x="36360" y="71280"/>
            <a:ext cx="5859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D-Link 201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3" name="Text Box 4"/>
          <p:cNvSpPr/>
          <p:nvPr/>
        </p:nvSpPr>
        <p:spPr>
          <a:xfrm>
            <a:off x="108000" y="1800360"/>
            <a:ext cx="475128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Спасибо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з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внимание!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1"/>
          <p:cNvSpPr/>
          <p:nvPr/>
        </p:nvSpPr>
        <p:spPr>
          <a:xfrm>
            <a:off x="539640" y="2133720"/>
            <a:ext cx="80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P-MAC-Port Binding</a:t>
            </a:r>
            <a:r>
              <a:rPr b="1" lang="ru-RU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(Привязка </a:t>
            </a:r>
            <a:r>
              <a:rPr b="1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P-MAC-</a:t>
            </a:r>
            <a:r>
              <a:rPr b="1" lang="ru-RU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порт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4:52:09Z</dcterms:created>
  <dc:creator>Karl Hsieh</dc:creator>
  <dc:description/>
  <dc:language>en-US</dc:language>
  <cp:lastModifiedBy>Ruslan</cp:lastModifiedBy>
  <dcterms:modified xsi:type="dcterms:W3CDTF">2013-11-18T10:59:56Z</dcterms:modified>
  <cp:revision>851</cp:revision>
  <dc:subject>Training and Certification</dc:subject>
  <dc:title>D-Link Academy Strategy &amp; Roadmap</dc:title>
</cp:coreProperties>
</file>