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40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31.png" ContentType="image/png"/>
  <Override PartName="/ppt/media/image29.png" ContentType="image/png"/>
  <Override PartName="/ppt/media/image52.wmf" ContentType="image/x-wmf"/>
  <Override PartName="/ppt/media/image32.png" ContentType="image/png"/>
  <Override PartName="/ppt/media/image53.png" ContentType="image/png"/>
  <Override PartName="/ppt/media/image39.wmf" ContentType="image/x-wmf"/>
  <Override PartName="/ppt/media/image37.png" ContentType="image/png"/>
  <Override PartName="/ppt/media/image3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8988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4920" y="753840"/>
            <a:ext cx="5011920" cy="37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"/>
          </p:nvPr>
        </p:nvSpPr>
        <p:spPr>
          <a:xfrm>
            <a:off x="389844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50270-3D38-47D1-835B-47D2864FB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C8C19-7350-4879-B689-6C1DF3268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8680" y="4763880"/>
            <a:ext cx="55054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4510D-297C-409E-8B72-6F2C358A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87D9-AE71-49B1-A557-6C8F4516B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1920" cy="3757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CD46-D84B-459E-A7A7-3428D95A57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A8BAF-57BE-4AAB-8B74-4754719A5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861840"/>
            <a:ext cx="9144000" cy="1800"/>
          </a:xfrm>
          <a:prstGeom prst="line">
            <a:avLst/>
          </a:prstGeom>
          <a:ln cap="rnd" w="158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0" y="-4680"/>
            <a:ext cx="9140760" cy="6195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96840" y="0"/>
            <a:ext cx="8147160" cy="61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1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53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tp://ftp.dlink.r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50920" y="387360"/>
            <a:ext cx="531792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ехнологии, применяемые при построении сетей на основе коммутаторов </a:t>
            </a: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D-L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Расширенный функцион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Text Box 2" descr=""/>
          <p:cNvPicPr/>
          <p:nvPr/>
        </p:nvPicPr>
        <p:blipFill>
          <a:blip r:embed="rId1"/>
          <a:stretch/>
        </p:blipFill>
        <p:spPr>
          <a:xfrm>
            <a:off x="176040" y="5121360"/>
            <a:ext cx="5938920" cy="106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Введение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00040" y="1125360"/>
            <a:ext cx="82152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P-MAC-Port Binding (IMPB)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ощная, интегрированная функция для идентификации подключенного к сети устройства, которая гарантирует правильность связк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и порта подключения. Она отслеживает информацию 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, DHCP, ND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4/v6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акетов, чтобы удостовериться, что все они от легальных источников, и предотвратить утечку данных к хакерам, прикидывающихся легальными сетевыми устройст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де использов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итируя шлюз 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пьютера, хакеры могут парализовать Интернет связь или тайно похищать важные данные. Сегодня очень много хакерских инструментов(программное обеспечение) можно найти в Интернете, и любой конечный пользователь  может их скачать и использовать в своих цел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MPB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функция помогает изолировать нелегальные устройства или хакеров. Она подходит для применения на коммутаторах уровня доступа в сетях различного тип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блема, вызванная неправильным управлением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00040" y="112536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ауд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уальные механизмы аудит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ие как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log, application log, firewall lo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зируют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и. Информация лога бессмысленна,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бы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менён пользователем без какого-либо контрол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конфлик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лик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 – это самая распространённая проблема в современных сетях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и меняю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вручную и происходит конфликт с другими ресурсам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и как пользовательские компьютеры, коммутаторы, маршрутизаторы или серве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Group 51"/>
          <p:cNvGrpSpPr/>
          <p:nvPr/>
        </p:nvGrpSpPr>
        <p:grpSpPr>
          <a:xfrm>
            <a:off x="468360" y="3045240"/>
            <a:ext cx="7815240" cy="2655360"/>
            <a:chOff x="468360" y="3045240"/>
            <a:chExt cx="7815240" cy="2655360"/>
          </a:xfrm>
        </p:grpSpPr>
        <p:pic>
          <p:nvPicPr>
            <p:cNvPr id="207" name="Picture 15" descr="C:\Users\06075\Desktop\Icons for Topology\Computer 01.jpg"/>
            <p:cNvPicPr/>
            <p:nvPr/>
          </p:nvPicPr>
          <p:blipFill>
            <a:blip r:embed="rId1"/>
            <a:stretch/>
          </p:blipFill>
          <p:spPr>
            <a:xfrm>
              <a:off x="539640" y="4287600"/>
              <a:ext cx="6872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Line 3"/>
            <p:cNvSpPr/>
            <p:nvPr/>
          </p:nvSpPr>
          <p:spPr>
            <a:xfrm flipH="1">
              <a:off x="1245600" y="471960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5472360" y="373212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111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5456520" y="44352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222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5432400" y="52290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333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AutoShape 13"/>
            <p:cNvSpPr/>
            <p:nvPr/>
          </p:nvSpPr>
          <p:spPr>
            <a:xfrm>
              <a:off x="6772320" y="3366360"/>
              <a:ext cx="1511280" cy="128196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нфлик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I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Line 15"/>
            <p:cNvSpPr/>
            <p:nvPr/>
          </p:nvSpPr>
          <p:spPr>
            <a:xfrm>
              <a:off x="3867120" y="462096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32"/>
            <p:cNvGrpSpPr/>
            <p:nvPr/>
          </p:nvGrpSpPr>
          <p:grpSpPr>
            <a:xfrm>
              <a:off x="3878280" y="4687920"/>
              <a:ext cx="852480" cy="574560"/>
              <a:chOff x="3878280" y="4687920"/>
              <a:chExt cx="852480" cy="574560"/>
            </a:xfrm>
          </p:grpSpPr>
          <p:sp>
            <p:nvSpPr>
              <p:cNvPr id="215" name="Line 17"/>
              <p:cNvSpPr/>
              <p:nvPr/>
            </p:nvSpPr>
            <p:spPr>
              <a:xfrm>
                <a:off x="4343400" y="526248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21"/>
              <p:cNvSpPr/>
              <p:nvPr/>
            </p:nvSpPr>
            <p:spPr>
              <a:xfrm>
                <a:off x="3878280" y="4687920"/>
                <a:ext cx="47628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3878280" y="3978000"/>
              <a:ext cx="833400" cy="563400"/>
              <a:chOff x="3878280" y="3978000"/>
              <a:chExt cx="833400" cy="56340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324320" y="398592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 flipH="1">
                <a:off x="3878280" y="3978000"/>
                <a:ext cx="466560" cy="56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pic>
          <p:nvPicPr>
            <p:cNvPr id="220" name="Picture 14" descr="C:\Users\06075\Desktop\Icons for Topology\Computer 02.jpg"/>
            <p:cNvPicPr/>
            <p:nvPr/>
          </p:nvPicPr>
          <p:blipFill>
            <a:blip r:embed="rId2"/>
            <a:stretch/>
          </p:blipFill>
          <p:spPr>
            <a:xfrm>
              <a:off x="4730760" y="3740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C:\Users\06075\Desktop\Icons for Topology\Computer 02.jpg"/>
            <p:cNvPicPr/>
            <p:nvPr/>
          </p:nvPicPr>
          <p:blipFill>
            <a:blip r:embed="rId3"/>
            <a:stretch/>
          </p:blipFill>
          <p:spPr>
            <a:xfrm>
              <a:off x="4730760" y="443232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C:\Users\06075\Desktop\Icons for Topology\Computer 02.jpg"/>
            <p:cNvPicPr/>
            <p:nvPr/>
          </p:nvPicPr>
          <p:blipFill>
            <a:blip r:embed="rId4"/>
            <a:stretch/>
          </p:blipFill>
          <p:spPr>
            <a:xfrm>
              <a:off x="4730760" y="5153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0" descr="DGS-3627"/>
            <p:cNvPicPr/>
            <p:nvPr/>
          </p:nvPicPr>
          <p:blipFill>
            <a:blip r:embed="rId5"/>
            <a:srcRect l="0" t="35823" r="0" b="35909"/>
            <a:stretch/>
          </p:blipFill>
          <p:spPr>
            <a:xfrm>
              <a:off x="1947600" y="4292640"/>
              <a:ext cx="208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utoShape 27"/>
            <p:cNvSpPr/>
            <p:nvPr/>
          </p:nvSpPr>
          <p:spPr>
            <a:xfrm>
              <a:off x="468360" y="3045240"/>
              <a:ext cx="1763640" cy="2064240"/>
            </a:xfrm>
            <a:prstGeom prst="irregularSeal1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Проблем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аудит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5" name="AutoShape 13"/>
          <p:cNvSpPr/>
          <p:nvPr/>
        </p:nvSpPr>
        <p:spPr>
          <a:xfrm>
            <a:off x="6804000" y="4699800"/>
            <a:ext cx="1513080" cy="1281960"/>
          </a:xfrm>
          <a:prstGeom prst="irregularSeal1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нфлик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500040" y="981000"/>
            <a:ext cx="8215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-Port Binding DHCP Snoop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клиента и автоматически и сохранит их в локальной баз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ский трафик, у которого связ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впадает с сохраненной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ом листе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будет проброшен коммутатор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Group 57"/>
          <p:cNvGrpSpPr/>
          <p:nvPr/>
        </p:nvGrpSpPr>
        <p:grpSpPr>
          <a:xfrm>
            <a:off x="5219640" y="2911320"/>
            <a:ext cx="2591640" cy="1439640"/>
            <a:chOff x="5219640" y="2911320"/>
            <a:chExt cx="2591640" cy="1439640"/>
          </a:xfrm>
        </p:grpSpPr>
        <p:sp>
          <p:nvSpPr>
            <p:cNvPr id="228" name="Rectangle 29"/>
            <p:cNvSpPr/>
            <p:nvPr/>
          </p:nvSpPr>
          <p:spPr>
            <a:xfrm>
              <a:off x="5219640" y="2911320"/>
              <a:ext cx="2052360" cy="14396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55"/>
            <p:cNvSpPr/>
            <p:nvPr/>
          </p:nvSpPr>
          <p:spPr>
            <a:xfrm rot="5400000">
              <a:off x="7136280" y="3296160"/>
              <a:ext cx="677160" cy="6724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919160" y="5384880"/>
          <a:ext cx="3024360" cy="549360"/>
        </p:xfrm>
        <a:graphic>
          <a:graphicData uri="http://schemas.openxmlformats.org/drawingml/2006/table">
            <a:tbl>
              <a:tblPr/>
              <a:tblGrid>
                <a:gridCol w="1024200"/>
                <a:gridCol w="1280880"/>
                <a:gridCol w="71928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11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222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8"/>
          <p:cNvSpPr/>
          <p:nvPr/>
        </p:nvSpPr>
        <p:spPr>
          <a:xfrm>
            <a:off x="2441520" y="3613320"/>
            <a:ext cx="1974960" cy="10094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2424240" y="3257640"/>
            <a:ext cx="2017440" cy="39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Bindin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1919160" y="4135320"/>
            <a:ext cx="84168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4297320" y="4302000"/>
            <a:ext cx="6462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987560" y="47480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ение адрес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3564000" y="4729320"/>
            <a:ext cx="0" cy="266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919160" y="5035680"/>
            <a:ext cx="3024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ый списо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33"/>
          <p:cNvSpPr/>
          <p:nvPr/>
        </p:nvSpPr>
        <p:spPr>
          <a:xfrm flipH="1">
            <a:off x="1688760" y="41194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5971320" y="32400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111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971320" y="386568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222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5971320" y="447192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333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39"/>
          <p:cNvSpPr/>
          <p:nvPr/>
        </p:nvSpPr>
        <p:spPr>
          <a:xfrm>
            <a:off x="4057560" y="39909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4202280" y="406404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46"/>
          <p:cNvSpPr/>
          <p:nvPr/>
        </p:nvSpPr>
        <p:spPr>
          <a:xfrm flipH="1">
            <a:off x="4057560" y="3271680"/>
            <a:ext cx="1511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5628960" y="4827600"/>
            <a:ext cx="319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ен вручную пользователе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9" descr=""/>
          <p:cNvPicPr/>
          <p:nvPr/>
        </p:nvPicPr>
        <p:blipFill>
          <a:blip r:embed="rId1"/>
          <a:stretch/>
        </p:blipFill>
        <p:spPr>
          <a:xfrm>
            <a:off x="4943520" y="4446720"/>
            <a:ext cx="293760" cy="282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0"/>
          <p:cNvSpPr/>
          <p:nvPr/>
        </p:nvSpPr>
        <p:spPr>
          <a:xfrm>
            <a:off x="896040" y="449424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erv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5240880" y="29354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93"/>
          <p:cNvSpPr/>
          <p:nvPr/>
        </p:nvSpPr>
        <p:spPr>
          <a:xfrm>
            <a:off x="5223960" y="3654360"/>
            <a:ext cx="45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B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94"/>
          <p:cNvSpPr/>
          <p:nvPr/>
        </p:nvSpPr>
        <p:spPr>
          <a:xfrm>
            <a:off x="5229720" y="437508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95"/>
          <p:cNvSpPr/>
          <p:nvPr/>
        </p:nvSpPr>
        <p:spPr>
          <a:xfrm>
            <a:off x="1908000" y="2349360"/>
            <a:ext cx="323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иси будут созданы автоматически , когда на коммутатор  придет пак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Off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серве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5100840" y="507060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ытается получить доступ к ресурсам сет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100"/>
          <p:cNvSpPr/>
          <p:nvPr/>
        </p:nvSpPr>
        <p:spPr>
          <a:xfrm>
            <a:off x="539640" y="3198960"/>
            <a:ext cx="1789200" cy="431640"/>
          </a:xfrm>
          <a:prstGeom prst="wedgeRectCallout">
            <a:avLst>
              <a:gd name="adj1" fmla="val 64671"/>
              <a:gd name="adj2" fmla="val 123527"/>
            </a:avLst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 присутствует в списке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!!!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C-C</a:t>
            </a: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блокируе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1077840" y="370188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418000" y="312588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5418000" y="384012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5418000" y="455436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GS-3426"/>
          <p:cNvPicPr/>
          <p:nvPr/>
        </p:nvPicPr>
        <p:blipFill>
          <a:blip r:embed="rId6"/>
          <a:stretch/>
        </p:blipFill>
        <p:spPr>
          <a:xfrm>
            <a:off x="2544840" y="3774960"/>
            <a:ext cx="1792080" cy="7430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шение для улучшения управления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 адрес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Payload: Sender HW Addres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der Protocol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1741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781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ы работы порто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ARP Inspe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395280" y="1341360"/>
            <a:ext cx="828036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активизац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порте администратор должен указать режим его работ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заблокирован. Коммутатор не будет передавать пакеты до тех пор, пока не убедится в их соответствии с записями в «белом листе». Записи создаются статически или динамически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.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se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открыт. Порт будет заблокирован, как только через него пройдет первый недостоверный пакет. Порт проверяет только пакеты ARP и IP Broadcas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6" descr="impb1.PNG"/>
          <p:cNvPicPr/>
          <p:nvPr/>
        </p:nvPicPr>
        <p:blipFill>
          <a:blip r:embed="rId1"/>
          <a:stretch/>
        </p:blipFill>
        <p:spPr>
          <a:xfrm>
            <a:off x="900000" y="2492280"/>
            <a:ext cx="6912000" cy="34243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108000" y="907920"/>
            <a:ext cx="87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ddress_binding ip_mac ipaddress 192.168.1.15 mac_address 00-00-5A-9E-B2-B2 ports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запись IP-MAC-Port Binding, связывающую IP-MAC-адрес узла с портами подключения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90560" y="2421000"/>
            <a:ext cx="7310520" cy="3564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1476360" y="3743280"/>
            <a:ext cx="647640" cy="216000"/>
          </a:xfrm>
          <a:prstGeom prst="rect">
            <a:avLst/>
          </a:prstGeom>
          <a:noFill/>
          <a:ln w="25560">
            <a:solidFill>
              <a:srgbClr val="33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и статической запис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16" descr="DES-3526"/>
          <p:cNvPicPr/>
          <p:nvPr/>
        </p:nvPicPr>
        <p:blipFill>
          <a:blip r:embed="rId1"/>
          <a:stretch/>
        </p:blipFill>
        <p:spPr>
          <a:xfrm>
            <a:off x="682560" y="3429000"/>
            <a:ext cx="5689800" cy="566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6"/>
          <p:cNvSpPr/>
          <p:nvPr/>
        </p:nvSpPr>
        <p:spPr>
          <a:xfrm>
            <a:off x="2160720" y="2276640"/>
            <a:ext cx="2199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C0-9F-86-C2-5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60"/>
          <p:cNvSpPr/>
          <p:nvPr/>
        </p:nvSpPr>
        <p:spPr>
          <a:xfrm flipV="1">
            <a:off x="5867280" y="270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5651640" y="2276640"/>
            <a:ext cx="369720" cy="50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61"/>
          <p:cNvSpPr/>
          <p:nvPr/>
        </p:nvSpPr>
        <p:spPr>
          <a:xfrm>
            <a:off x="5812920" y="31399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2"/>
          <p:cNvSpPr/>
          <p:nvPr/>
        </p:nvSpPr>
        <p:spPr>
          <a:xfrm>
            <a:off x="6021000" y="2205000"/>
            <a:ext cx="2184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0.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50-18-21-C0-E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164"/>
          <p:cNvSpPr/>
          <p:nvPr/>
        </p:nvSpPr>
        <p:spPr>
          <a:xfrm flipV="1">
            <a:off x="1908000" y="299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E:\Homework\DCS_DCP\GIF ICON\NB.gif"/>
          <p:cNvPicPr/>
          <p:nvPr/>
        </p:nvPicPr>
        <p:blipFill>
          <a:blip r:embed="rId3"/>
          <a:stretch/>
        </p:blipFill>
        <p:spPr>
          <a:xfrm>
            <a:off x="1692360" y="2637000"/>
            <a:ext cx="503280" cy="474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69"/>
          <p:cNvSpPr/>
          <p:nvPr/>
        </p:nvSpPr>
        <p:spPr>
          <a:xfrm>
            <a:off x="1878120" y="31417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684360" y="1116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динамически создает запись IMPB после того, как клиент получит IP-адрес от DHCP-серв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Группа 38"/>
          <p:cNvGrpSpPr/>
          <p:nvPr/>
        </p:nvGrpSpPr>
        <p:grpSpPr>
          <a:xfrm>
            <a:off x="1835280" y="4076640"/>
            <a:ext cx="1944720" cy="289080"/>
            <a:chOff x="1835280" y="4076640"/>
            <a:chExt cx="1944720" cy="289080"/>
          </a:xfrm>
        </p:grpSpPr>
        <p:cxnSp>
          <p:nvCxnSpPr>
            <p:cNvPr id="285" name="Прямая со стрелкой 24"/>
            <p:cNvCxnSpPr/>
            <p:nvPr/>
          </p:nvCxnSpPr>
          <p:spPr>
            <a:xfrm flipV="1">
              <a:off x="1906920" y="4365000"/>
              <a:ext cx="793080" cy="1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286" name="Прямоугольник 29"/>
            <p:cNvSpPr/>
            <p:nvPr/>
          </p:nvSpPr>
          <p:spPr>
            <a:xfrm>
              <a:off x="1835280" y="407664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7" name="Группа 39"/>
          <p:cNvGrpSpPr/>
          <p:nvPr/>
        </p:nvGrpSpPr>
        <p:grpSpPr>
          <a:xfrm>
            <a:off x="1835280" y="4437000"/>
            <a:ext cx="1944720" cy="287640"/>
            <a:chOff x="1835280" y="4437000"/>
            <a:chExt cx="1944720" cy="287640"/>
          </a:xfrm>
        </p:grpSpPr>
        <p:cxnSp>
          <p:nvCxnSpPr>
            <p:cNvPr id="288" name="Прямая со стрелкой 24"/>
            <p:cNvCxnSpPr/>
            <p:nvPr/>
          </p:nvCxnSpPr>
          <p:spPr>
            <a:xfrm flipH="1">
              <a:off x="1906920" y="4723920"/>
              <a:ext cx="792720" cy="1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289" name="Прямоугольник 30"/>
            <p:cNvSpPr/>
            <p:nvPr/>
          </p:nvSpPr>
          <p:spPr>
            <a:xfrm>
              <a:off x="1835280" y="443700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 uni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0" name="Группа 31"/>
          <p:cNvGrpSpPr/>
          <p:nvPr/>
        </p:nvGrpSpPr>
        <p:grpSpPr>
          <a:xfrm>
            <a:off x="3995640" y="4365720"/>
            <a:ext cx="4537080" cy="596160"/>
            <a:chOff x="3995640" y="4365720"/>
            <a:chExt cx="4537080" cy="596160"/>
          </a:xfrm>
        </p:grpSpPr>
        <p:sp>
          <p:nvSpPr>
            <p:cNvPr id="291" name="Rectangle 11"/>
            <p:cNvSpPr/>
            <p:nvPr/>
          </p:nvSpPr>
          <p:spPr>
            <a:xfrm>
              <a:off x="4355640" y="4365720"/>
              <a:ext cx="4177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Овал 45"/>
            <p:cNvSpPr/>
            <p:nvPr/>
          </p:nvSpPr>
          <p:spPr>
            <a:xfrm>
              <a:off x="3995640" y="443736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3" name="Группа 33"/>
          <p:cNvGrpSpPr/>
          <p:nvPr/>
        </p:nvGrpSpPr>
        <p:grpSpPr>
          <a:xfrm>
            <a:off x="3995640" y="4890960"/>
            <a:ext cx="5329440" cy="763560"/>
            <a:chOff x="3995640" y="4890960"/>
            <a:chExt cx="5329440" cy="763560"/>
          </a:xfrm>
        </p:grpSpPr>
        <p:sp>
          <p:nvSpPr>
            <p:cNvPr id="294" name="Овал 47"/>
            <p:cNvSpPr/>
            <p:nvPr/>
          </p:nvSpPr>
          <p:spPr>
            <a:xfrm>
              <a:off x="3995640" y="496944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4356360" y="4890960"/>
              <a:ext cx="4968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отвечает пакето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Offer unicast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Коммутатор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берет необходимую информацию: МАС адрес клиента, выданный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P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 и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Lease time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, и на базе этой информации создаёт запись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MP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таблиц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6" name="Прямоугольник 37"/>
          <p:cNvSpPr/>
          <p:nvPr/>
        </p:nvSpPr>
        <p:spPr>
          <a:xfrm>
            <a:off x="2408040" y="24019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.x.x.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Прямоугольник 40"/>
          <p:cNvSpPr/>
          <p:nvPr/>
        </p:nvSpPr>
        <p:spPr>
          <a:xfrm>
            <a:off x="2333880" y="24019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0.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Content Placeholder 2"/>
          <p:cNvSpPr/>
          <p:nvPr/>
        </p:nvSpPr>
        <p:spPr>
          <a:xfrm>
            <a:off x="108000" y="907920"/>
            <a:ext cx="8785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address_binding dhcp_snoop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IP-MAC-Port Binding в режиме DHCP Snooping глобально на коммутаторе.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dhcp_snoop max_entry ports 1-10 limit 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м максимальное количество создаваемых в процессе автоизучения записей IP-MAC на порт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12720" y="3610080"/>
            <a:ext cx="7991640" cy="23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Рисунок 5" descr="impb2.PNG"/>
          <p:cNvPicPr/>
          <p:nvPr/>
        </p:nvPicPr>
        <p:blipFill>
          <a:blip r:embed="rId1"/>
          <a:stretch/>
        </p:blipFill>
        <p:spPr>
          <a:xfrm>
            <a:off x="684360" y="3681360"/>
            <a:ext cx="7920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Дополнительные параметр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611280" y="920880"/>
            <a:ext cx="784836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x_entry … limit 1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кол-во записе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ые может изучить коммутатор на порт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жим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Возможные значения зависят от модели коммутатора и версии прошивки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llow_zeroip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можность пропус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Discovery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ри включённой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IP = 0.0.0.0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а для полноценный работ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S: Vista, Win 7, MAC OS 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тарше 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orward_dhcppkt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робрасывает 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по умолчанию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а порту задан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жим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будут отброшены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случае, включаем опци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ward_dhcppk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коммутатор пробрасывал клиентски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этой функции также гарантирует, ч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ет правильн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op_learning_threshold &lt;value 0-500&gt;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граничение кол-ва заносимых записей в FDB, при использовании IMPB. При использовании IMPB коммутатор блокирует записи не подходящие под сконфигурированую связку, но побочным эффектом становиться занесение в FDB таблицу всех обработанных пакетов. Для предотвращения переполнения FDB при использовании IMPB, был введён новый параметр threshold, который наблюдает за кол-ом заблокированных записей и при превышении этого параметра, вводит порт в disable learning с соответствующим оповещением и созданием записи в лог. Использование функции позволит избежать атак со стороны пользователей и подвергать нарушителя административному взысканию, потому как порт придётся поднимать вручную. Значение 0 означает, что изучение МАС адресов не имеет ограничения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39640" y="213372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татическая и динамическа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аршрутизац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39640" y="2133720"/>
            <a:ext cx="80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AC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Списки управления доступом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Классификация трафи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маркиров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и отбрасыван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сетевых прилож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6" name="Object 1"/>
          <p:cNvGraphicFramePr/>
          <p:nvPr/>
        </p:nvGraphicFramePr>
        <p:xfrm>
          <a:off x="950760" y="3489480"/>
          <a:ext cx="234000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3489480"/>
                    <a:ext cx="2340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3"/>
          <p:cNvSpPr/>
          <p:nvPr/>
        </p:nvSpPr>
        <p:spPr>
          <a:xfrm>
            <a:off x="793800" y="2117880"/>
            <a:ext cx="7743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коммутаторах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фильтровать пакеты, основываясь на информации разных уровней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spcBef>
                <a:spcPts val="176"/>
              </a:spcBef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рт коммутато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C/ IPv4/ IPv6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адре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hernet/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отоко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2.1p/ DSC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CP/ UDP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порт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одержание пакета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е данных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898640" y="4834080"/>
            <a:ext cx="6170760" cy="505080"/>
            <a:chOff x="1898640" y="4834080"/>
            <a:chExt cx="6170760" cy="505080"/>
          </a:xfrm>
        </p:grpSpPr>
        <p:sp>
          <p:nvSpPr>
            <p:cNvPr id="310" name="AutoShape 5"/>
            <p:cNvSpPr/>
            <p:nvPr/>
          </p:nvSpPr>
          <p:spPr>
            <a:xfrm>
              <a:off x="1898640" y="4834080"/>
              <a:ext cx="6170760" cy="480960"/>
            </a:xfrm>
            <a:prstGeom prst="parallelogram">
              <a:avLst>
                <a:gd name="adj" fmla="val 3207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Text Box 6"/>
            <p:cNvSpPr/>
            <p:nvPr/>
          </p:nvSpPr>
          <p:spPr>
            <a:xfrm>
              <a:off x="3371760" y="5062680"/>
              <a:ext cx="15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Сетевой трафик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781200" y="1123920"/>
            <a:ext cx="774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95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яют наиболее полный набор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могающих сетевому администратор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уществлять контроль над приложениями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не будет потерь производительности, поскольк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осуществляется на аппаратном уровн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793800" y="83664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2/3/4 ACL ( Access Control List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3"/>
          <a:stretch/>
        </p:blipFill>
        <p:spPr>
          <a:xfrm>
            <a:off x="4870440" y="3429000"/>
            <a:ext cx="849240" cy="7286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1"/>
          <p:cNvSpPr/>
          <p:nvPr/>
        </p:nvSpPr>
        <p:spPr>
          <a:xfrm>
            <a:off x="4438800" y="4402080"/>
            <a:ext cx="87624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line</a:t>
            </a: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иг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38800" y="4681440"/>
            <a:ext cx="1942920" cy="37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Неразрешённые прилож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343480" y="4402080"/>
            <a:ext cx="104148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ирус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5022720" y="432576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6627960" y="3327480"/>
            <a:ext cx="21333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нфицированные        клиен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исправные сервер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/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очки доступ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пьютеры злоумышленн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санкционированные пользовате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Freeform 16"/>
          <p:cNvSpPr/>
          <p:nvPr/>
        </p:nvSpPr>
        <p:spPr>
          <a:xfrm>
            <a:off x="5010120" y="3475080"/>
            <a:ext cx="609480" cy="622080"/>
          </a:xfrm>
          <a:custGeom>
            <a:avLst/>
            <a:gdLst>
              <a:gd name="textAreaLeft" fmla="*/ 89280 w 609480"/>
              <a:gd name="textAreaRight" fmla="*/ 520200 w 609480"/>
              <a:gd name="textAreaTop" fmla="*/ 91080 h 622080"/>
              <a:gd name="textAreaBottom" fmla="*/ 531000 h 622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1" name="Group 17"/>
          <p:cNvGrpSpPr/>
          <p:nvPr/>
        </p:nvGrpSpPr>
        <p:grpSpPr>
          <a:xfrm>
            <a:off x="4413240" y="2560680"/>
            <a:ext cx="2550600" cy="235800"/>
            <a:chOff x="4413240" y="2560680"/>
            <a:chExt cx="2550600" cy="235800"/>
          </a:xfrm>
        </p:grpSpPr>
        <p:sp>
          <p:nvSpPr>
            <p:cNvPr id="322" name="Text Box 18"/>
            <p:cNvSpPr/>
            <p:nvPr/>
          </p:nvSpPr>
          <p:spPr>
            <a:xfrm>
              <a:off x="4413240" y="2571840"/>
              <a:ext cx="907560" cy="22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CM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23" name="Text Box 19" descr=""/>
            <p:cNvPicPr/>
            <p:nvPr/>
          </p:nvPicPr>
          <p:blipFill>
            <a:blip r:embed="rId4"/>
            <a:stretch/>
          </p:blipFill>
          <p:spPr>
            <a:xfrm>
              <a:off x="5309640" y="2560680"/>
              <a:ext cx="165420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Group 20" descr=""/>
          <p:cNvPicPr/>
          <p:nvPr/>
        </p:nvPicPr>
        <p:blipFill>
          <a:blip r:embed="rId5"/>
          <a:stretch/>
        </p:blipFill>
        <p:spPr>
          <a:xfrm>
            <a:off x="4400640" y="2865600"/>
            <a:ext cx="2585880" cy="2556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3"/>
          <p:cNvSpPr/>
          <p:nvPr/>
        </p:nvSpPr>
        <p:spPr>
          <a:xfrm>
            <a:off x="7080120" y="2560680"/>
            <a:ext cx="200664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CL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могут проверять содержимое пакетов на предмет наличия новых изменённых пото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Freeform 24"/>
          <p:cNvSpPr/>
          <p:nvPr/>
        </p:nvSpPr>
        <p:spPr>
          <a:xfrm>
            <a:off x="5022720" y="253512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611280" y="5373720"/>
            <a:ext cx="7456320" cy="1248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1f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правляемые коммутаторы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эффективно предотвращать проникновение вредоносного трафика в се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457200" y="1009800"/>
            <a:ext cx="83818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нализируйте задачи фильтра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пределитесь с типом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v4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фиксируйте стратегию фильтр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ываясь на этой стратег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ит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ая необходима маска профиля доступа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mas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создайте её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ьте правило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rul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, связанное с этой маско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ются в соответствии с номер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cess_id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м мень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раньше проверяется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е одно правило не сработа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 пропускаетс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еобходимос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срабатывает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и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/DSC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быть заменены на новые значения перед отправко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тупая в качеств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ке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де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PHB (Per-Hop Behavio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пошаговое п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ей и прави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79280" y="1187280"/>
            <a:ext cx="2592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Ethernet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ип 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411280" y="1187280"/>
            <a:ext cx="3816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IPv4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CMP, IGMP, 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/UD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пор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9640" y="4265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Фильтрация по содержимому пакета (первые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80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ил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28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*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байт пакета)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084720" y="1187280"/>
            <a:ext cx="25927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Pv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ffic class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ejaVu Sans Condensed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o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 label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тка пото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539640" y="55627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ависимости от моде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ипы профи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57360" y="1262160"/>
            <a:ext cx="7831080" cy="43336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544760" y="907920"/>
            <a:ext cx="5906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68360" y="981000"/>
            <a:ext cx="838188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}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}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&lt;vlan_name 32&gt; | vlan_id &lt;vid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 &lt;value 0-7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 &lt;hex 0x0-0xffff&gt;</a:t>
            </a:r>
            <a:r>
              <a:rPr b="1" i="1" lang="ru-RU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468360" y="907920"/>
            <a:ext cx="838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 из предыдущего слайда,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и доступа позволяют анализировать пакеты на основании пол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т на протокол, инкапсулированный в кадр Ether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пример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Reques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, для которого значе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о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 и указывает на протоко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071800" y="2133720"/>
            <a:ext cx="5019480" cy="10666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324000" y="3325680"/>
            <a:ext cx="83818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при помощи прави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ограничить трафик в сети для определенных сетевых протоколов, либо вообще запретить клиенту использование определенных протоколов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список значений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е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пространенного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сети трафика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4 (IPv4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6DD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6 (IPv6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ress Resolution Protocol (AR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42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ke-on-LAN Magic Packet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09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w Protocols (IEEE 802.3) -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C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3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Discovery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4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Session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CC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LD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90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uration Test Protocol (Loo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type - Etherty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52440" y="909720"/>
            <a:ext cx="6632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673280" y="909720"/>
            <a:ext cx="5707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статической маршрутиз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971640" y="1844640"/>
            <a:ext cx="6345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1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1 100.1.1.1/24 Vlan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200.1.1.0/24 10.1.1.2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76400" y="269712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076400" y="4856040"/>
          <a:ext cx="5871960" cy="123696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6"/>
          <p:cNvSpPr/>
          <p:nvPr/>
        </p:nvSpPr>
        <p:spPr>
          <a:xfrm>
            <a:off x="971640" y="4076640"/>
            <a:ext cx="6264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2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2 200.1.1.1/24 Vlan2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100.1.1.0/24 10.1.1.1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428760" y="105408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[ icmp {type | code} | igmp {type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flag_mask [ all | {urg | ack | psh | rst | syn | fin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_mask&lt;0x0-0xff&gt; ] }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&lt;vlan_name 32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_id &lt;vid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net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 &lt;value 0-63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[ icmp {type &lt;value 0-255&gt; code &lt;value 0-255&gt;} | igmp {type &lt;value 0-255&gt;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flag [all | { urg | ack | psh | rst | syn | fin 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 &lt;value 0-255&gt; } (1) ] 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5334120" y="1743120"/>
            <a:ext cx="320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ён 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10.1.1.1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10.2.2.2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уг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C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ё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x.x.x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762120" y="981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MAC- адрес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1403280" y="2606760"/>
            <a:ext cx="18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539640" y="2533680"/>
            <a:ext cx="2230560" cy="2230200"/>
            <a:chOff x="539640" y="2533680"/>
            <a:chExt cx="2230560" cy="2230200"/>
          </a:xfrm>
        </p:grpSpPr>
        <p:graphicFrame>
          <p:nvGraphicFramePr>
            <p:cNvPr id="356" name="Object 6"/>
            <p:cNvGraphicFramePr/>
            <p:nvPr/>
          </p:nvGraphicFramePr>
          <p:xfrm>
            <a:off x="539640" y="2533680"/>
            <a:ext cx="2230560" cy="22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2533680"/>
                      <a:ext cx="2230560" cy="22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Text Box 7"/>
            <p:cNvSpPr/>
            <p:nvPr/>
          </p:nvSpPr>
          <p:spPr>
            <a:xfrm>
              <a:off x="539640" y="2533680"/>
              <a:ext cx="223056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9" name="Line 8"/>
          <p:cNvSpPr/>
          <p:nvPr/>
        </p:nvSpPr>
        <p:spPr>
          <a:xfrm flipH="1">
            <a:off x="1185840" y="3759120"/>
            <a:ext cx="6508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9" descr=""/>
          <p:cNvPicPr/>
          <p:nvPr/>
        </p:nvPicPr>
        <p:blipFill>
          <a:blip r:embed="rId3"/>
          <a:srcRect l="0" t="8486" r="0" b="12861"/>
          <a:stretch/>
        </p:blipFill>
        <p:spPr>
          <a:xfrm>
            <a:off x="53964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61" name="Freeform 10"/>
          <p:cNvSpPr/>
          <p:nvPr/>
        </p:nvSpPr>
        <p:spPr>
          <a:xfrm flipH="1">
            <a:off x="1905120" y="2529000"/>
            <a:ext cx="1218960" cy="226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2050920" y="368604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2340000" y="3614760"/>
            <a:ext cx="1584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3203640" y="2030400"/>
            <a:ext cx="1511280" cy="1128600"/>
            <a:chOff x="3203640" y="2030400"/>
            <a:chExt cx="1511280" cy="1128600"/>
          </a:xfrm>
        </p:grpSpPr>
        <p:pic>
          <p:nvPicPr>
            <p:cNvPr id="365" name="Picture 14" descr=""/>
            <p:cNvPicPr/>
            <p:nvPr/>
          </p:nvPicPr>
          <p:blipFill>
            <a:blip r:embed="rId4"/>
            <a:srcRect l="10573" t="18465" r="0" b="14612"/>
            <a:stretch/>
          </p:blipFill>
          <p:spPr>
            <a:xfrm>
              <a:off x="3203640" y="203040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15"/>
            <p:cNvSpPr/>
            <p:nvPr/>
          </p:nvSpPr>
          <p:spPr>
            <a:xfrm>
              <a:off x="3485520" y="246204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67" name="Picture 16" descr=""/>
          <p:cNvPicPr/>
          <p:nvPr/>
        </p:nvPicPr>
        <p:blipFill>
          <a:blip r:embed="rId5"/>
          <a:srcRect l="0" t="14894" r="0" b="17524"/>
          <a:stretch/>
        </p:blipFill>
        <p:spPr>
          <a:xfrm>
            <a:off x="755640" y="2246400"/>
            <a:ext cx="1260360" cy="8524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7"/>
          <p:cNvSpPr/>
          <p:nvPr/>
        </p:nvSpPr>
        <p:spPr>
          <a:xfrm>
            <a:off x="3132000" y="534348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м запрещ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39640" y="53434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    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84360" y="195912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20" descr=""/>
          <p:cNvPicPr/>
          <p:nvPr/>
        </p:nvPicPr>
        <p:blipFill>
          <a:blip r:embed="rId6"/>
          <a:srcRect l="0" t="8486" r="0" b="12861"/>
          <a:stretch/>
        </p:blipFill>
        <p:spPr>
          <a:xfrm>
            <a:off x="1979640" y="4694400"/>
            <a:ext cx="820800" cy="645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1" descr=""/>
          <p:cNvPicPr/>
          <p:nvPr/>
        </p:nvPicPr>
        <p:blipFill>
          <a:blip r:embed="rId7"/>
          <a:srcRect l="0" t="8486" r="0" b="12861"/>
          <a:stretch/>
        </p:blipFill>
        <p:spPr>
          <a:xfrm>
            <a:off x="334800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2"/>
          <p:cNvSpPr/>
          <p:nvPr/>
        </p:nvSpPr>
        <p:spPr>
          <a:xfrm>
            <a:off x="539640" y="428796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1619280" y="428796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3419640" y="426240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3-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539640" y="303840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24000" y="1125360"/>
            <a:ext cx="8351640" cy="80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MAC назначения = Шлюз, то запретить (на портах 3-2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В противном случае разрешить всё остальное (по умолчанию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24000" y="2205000"/>
            <a:ext cx="8351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ethernet destination_mac FF-FF-FF-FF-FF-FF profile_id 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ethernet destination_mac 00-50-ba-99-99-99 port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 den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Другие пакеты разрешены по умолчан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24000" y="4005360"/>
            <a:ext cx="8423280" cy="20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ы кроме PC1 и PC2 не могут получить доступ в Internet (в соответствии с правилом 1 обращение к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шлюза запрещено на портах 3-2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могут получить доступ в Internet (так как в правиле 1 не указаны порты 1 и 2, к которым они подключены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и другие могут получить доступ друг к другу (Intranet OK, в соответствии с тем, что в правиле 1 запрещено обращение только к MAC адресу шлюз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4932360" y="2924280"/>
            <a:ext cx="37958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Internet разрешён:  192.168.1.1 ~ 192.168.1.6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е пользуются только Intr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0" y="938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I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1547640" y="234792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Freeform 5"/>
          <p:cNvSpPr/>
          <p:nvPr/>
        </p:nvSpPr>
        <p:spPr>
          <a:xfrm flipH="1">
            <a:off x="2122560" y="1987560"/>
            <a:ext cx="1218960" cy="22716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3492360" y="1484280"/>
            <a:ext cx="1511280" cy="1128600"/>
            <a:chOff x="3492360" y="1484280"/>
            <a:chExt cx="1511280" cy="1128600"/>
          </a:xfrm>
        </p:grpSpPr>
        <p:pic>
          <p:nvPicPr>
            <p:cNvPr id="387" name="Picture 7" descr=""/>
            <p:cNvPicPr/>
            <p:nvPr/>
          </p:nvPicPr>
          <p:blipFill>
            <a:blip r:embed="rId1"/>
            <a:srcRect l="10573" t="18465" r="0" b="14612"/>
            <a:stretch/>
          </p:blipFill>
          <p:spPr>
            <a:xfrm>
              <a:off x="3492360" y="148428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3774240" y="191592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89" name="Picture 9" descr=""/>
          <p:cNvPicPr/>
          <p:nvPr/>
        </p:nvPicPr>
        <p:blipFill>
          <a:blip r:embed="rId2"/>
          <a:srcRect l="0" t="14894" r="0" b="17524"/>
          <a:stretch/>
        </p:blipFill>
        <p:spPr>
          <a:xfrm>
            <a:off x="826920" y="1628640"/>
            <a:ext cx="1260720" cy="85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0"/>
          <p:cNvSpPr/>
          <p:nvPr/>
        </p:nvSpPr>
        <p:spPr>
          <a:xfrm>
            <a:off x="468360" y="13399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 (IP: 192.168.1.25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39640" y="5229360"/>
            <a:ext cx="17287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 ~ .6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619280" y="5877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ь 192.168.1.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13"/>
          <p:cNvGrpSpPr/>
          <p:nvPr/>
        </p:nvGrpSpPr>
        <p:grpSpPr>
          <a:xfrm>
            <a:off x="468360" y="1987560"/>
            <a:ext cx="3987720" cy="3308400"/>
            <a:chOff x="468360" y="1987560"/>
            <a:chExt cx="3987720" cy="3308400"/>
          </a:xfrm>
        </p:grpSpPr>
        <p:sp>
          <p:nvSpPr>
            <p:cNvPr id="394" name="Line 14"/>
            <p:cNvSpPr/>
            <p:nvPr/>
          </p:nvSpPr>
          <p:spPr>
            <a:xfrm>
              <a:off x="2700360" y="3211560"/>
              <a:ext cx="863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aphicFrame>
          <p:nvGraphicFramePr>
            <p:cNvPr id="395" name="Object 15"/>
            <p:cNvGraphicFramePr/>
            <p:nvPr/>
          </p:nvGraphicFramePr>
          <p:xfrm>
            <a:off x="1260360" y="1987560"/>
            <a:ext cx="2230560" cy="223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6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60360" y="1987560"/>
                      <a:ext cx="2230560" cy="22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Line 16"/>
            <p:cNvSpPr/>
            <p:nvPr/>
          </p:nvSpPr>
          <p:spPr>
            <a:xfrm flipH="1">
              <a:off x="1979640" y="3283200"/>
              <a:ext cx="6494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8" name="Group 17"/>
            <p:cNvGrpSpPr/>
            <p:nvPr/>
          </p:nvGrpSpPr>
          <p:grpSpPr>
            <a:xfrm>
              <a:off x="2844720" y="4075200"/>
              <a:ext cx="1611360" cy="1220760"/>
              <a:chOff x="2844720" y="4075200"/>
              <a:chExt cx="1611360" cy="1220760"/>
            </a:xfrm>
          </p:grpSpPr>
          <p:pic>
            <p:nvPicPr>
              <p:cNvPr id="399" name="Picture 18" descr=""/>
              <p:cNvPicPr/>
              <p:nvPr/>
            </p:nvPicPr>
            <p:blipFill>
              <a:blip r:embed="rId5"/>
              <a:srcRect l="0" t="8486" r="0" b="12861"/>
              <a:stretch/>
            </p:blipFill>
            <p:spPr>
              <a:xfrm>
                <a:off x="2844720" y="4362480"/>
                <a:ext cx="81936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9" descr=""/>
              <p:cNvPicPr/>
              <p:nvPr/>
            </p:nvPicPr>
            <p:blipFill>
              <a:blip r:embed="rId6"/>
              <a:srcRect l="0" t="8486" r="0" b="12861"/>
              <a:stretch/>
            </p:blipFill>
            <p:spPr>
              <a:xfrm>
                <a:off x="3492360" y="465156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20" descr=""/>
              <p:cNvPicPr/>
              <p:nvPr/>
            </p:nvPicPr>
            <p:blipFill>
              <a:blip r:embed="rId7"/>
              <a:srcRect l="0" t="8486" r="0" b="12861"/>
              <a:stretch/>
            </p:blipFill>
            <p:spPr>
              <a:xfrm>
                <a:off x="3637080" y="4075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2" name="Group 21"/>
            <p:cNvGrpSpPr/>
            <p:nvPr/>
          </p:nvGrpSpPr>
          <p:grpSpPr>
            <a:xfrm>
              <a:off x="468360" y="4003920"/>
              <a:ext cx="1611360" cy="1220760"/>
              <a:chOff x="468360" y="4003920"/>
              <a:chExt cx="1611360" cy="1220760"/>
            </a:xfrm>
          </p:grpSpPr>
          <p:pic>
            <p:nvPicPr>
              <p:cNvPr id="403" name="Picture 22" descr=""/>
              <p:cNvPicPr/>
              <p:nvPr/>
            </p:nvPicPr>
            <p:blipFill>
              <a:blip r:embed="rId8"/>
              <a:srcRect l="0" t="8486" r="0" b="12861"/>
              <a:stretch/>
            </p:blipFill>
            <p:spPr>
              <a:xfrm>
                <a:off x="468360" y="4291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23" descr=""/>
              <p:cNvPicPr/>
              <p:nvPr/>
            </p:nvPicPr>
            <p:blipFill>
              <a:blip r:embed="rId9"/>
              <a:srcRect l="0" t="8486" r="0" b="12861"/>
              <a:stretch/>
            </p:blipFill>
            <p:spPr>
              <a:xfrm>
                <a:off x="1116000" y="4579920"/>
                <a:ext cx="81900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24" descr=""/>
              <p:cNvPicPr/>
              <p:nvPr/>
            </p:nvPicPr>
            <p:blipFill>
              <a:blip r:embed="rId10"/>
              <a:srcRect l="0" t="8486" r="0" b="12861"/>
              <a:stretch/>
            </p:blipFill>
            <p:spPr>
              <a:xfrm>
                <a:off x="1260360" y="400392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6" name="Text Box 25"/>
          <p:cNvSpPr/>
          <p:nvPr/>
        </p:nvSpPr>
        <p:spPr>
          <a:xfrm>
            <a:off x="2771640" y="5229360"/>
            <a:ext cx="17290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оста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971640" y="2563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2124000" y="386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1-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95280" y="5153040"/>
            <a:ext cx="8277120" cy="62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192.168.1.1 - 192.168.1.63 могут получить доступ к Internet  и ко всем остальным PC .64 - .253 (правило 1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PC .64 - .253 могут иметь доступ к PC .1 - .253 (правило 2), но не могут выйти в Internet (правил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95280" y="1052640"/>
            <a:ext cx="8280360" cy="11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IP источника = 192.168.1.0/26 и IP назначения = 192.168.1.254/32, то разрешить (для .1 - .63 разреш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Если IP источника = 192.168.1.0/24 и IP назначения = 192.168.1.254/32, то запретить (для .1 - .254 запрет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3: В противном случа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запретить  остальное по умолчани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395280" y="2421000"/>
            <a:ext cx="8277120" cy="25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: Разрешить для .1 - .63 доступ в Intern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192 destination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0.0.0.0 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и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.1 - .254 доступ в Intranet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кальную сеть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0 destination_ip_mask 255.255.255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file_id 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2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3: Вс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ст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ти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3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source_ip 0.0.0.0 port 1-24 den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11280" y="1197000"/>
            <a:ext cx="799308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C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тр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tcp dst_port_mask 0xFFFF profile_id 3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UD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рт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udp dst_port_mask 0xFFFF profile_id 4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5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Блокиров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395280" y="907920"/>
            <a:ext cx="84358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примере </a:t>
            </a:r>
            <a:r>
              <a:rPr b="1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P echo reques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части пакета, которыми можно оперировать при составлении правила PC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tination_mac — MAC-адрес назнач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mac — MAC-адрес источник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_tag — внешний тег (при использовании Q-in-Q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_tag — тег 802.1Q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— часть, начинающаяся сразу после тега 802.1Q (или от начала ether type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L3 — часть, начинающаяся по окончании ether typ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L4 — часть, начинающаяся по окончании IP заголовка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395280" y="1401840"/>
            <a:ext cx="8424720" cy="19558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acket Content Filtering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468360" y="907920"/>
            <a:ext cx="8226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Запрет ICMP echo request траф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м соответствующий паке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ether type (IP), протоколу (icmp) и по типу icmp 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est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ether type находится в L2 части в 1 и 2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0), информация о протоколе (icmp) находится в L3 части в 10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8), тип icmp находится в первом байте L4 части (смещение 0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ируемые значения выделены красн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33800" y="2164320"/>
            <a:ext cx="82774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14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9" descr="DES-3200_pcf_02"/>
          <p:cNvPicPr/>
          <p:nvPr/>
        </p:nvPicPr>
        <p:blipFill>
          <a:blip r:embed="rId1"/>
          <a:stretch/>
        </p:blipFill>
        <p:spPr>
          <a:xfrm>
            <a:off x="1979640" y="1633680"/>
            <a:ext cx="5040360" cy="2732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907920"/>
            <a:ext cx="8362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полем (offset1) в нашем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учае будет нулевое смещение в L2 части. Маску значений задаем равной 0xffff ,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значает,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здаваемых в этом профиле правилах, манипулировать мы будем 1 и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байтами L2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торое обрабатываемое поле (offset2) будет находиться по восьмому смещению в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ску значений задаем равной 0x00ff , в итоге вместе со смещением это означает, что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ваемых в этом профиле правилах, манипулировать мы будем 10-м байтом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конец, третье обрабатываемое поле (offset3) будет находиться по нулевому смещению в L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асти. Маску значений задаем равной 0xff00 , это означает, что в создаваемых в этом профил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х, манипулировать мы будем 1-м байтом L4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и само правило с учетом приведенных выше значений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 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общем виде получим следующе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 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 указанное выше правило запретит ICMP реквесты на 1 порту коммутатора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68360" y="907920"/>
            <a:ext cx="8226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Заблокировать SMB трафик (порты 135, 137, 138, 139, 445) на физических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мотрим такой пакет, взятый из Ethereal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порту назначения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такая информация находится в L4 части в 3 и 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йте (смещение 2). Анализируемые значения выделены красным. В данном случа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начение — 008b (шестнадцатиричная СС), что соответствует числу 139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истеме счисления, а значит блокировать мы будем 139 порт.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546800" cy="2819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nter-VLAN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маршрутиз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539640" y="1341360"/>
            <a:ext cx="86043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я – это маршрутизация межд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м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ными  на одном коммутато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й тип маршрутизации работает по-умолчанию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и достаточно: созд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строить порты для них, создать интерфейсы для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торые будут шлюзами для своих подс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запрета маршрутизации между подсетями на коммутаторах используется механиз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468360" y="907920"/>
            <a:ext cx="83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ah)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45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bdh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общий вид правил будет следующи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457200" y="907920"/>
            <a:ext cx="8362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сер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xx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ен из опис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нтаксиса команд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мых при создании правил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{ offset_chunk_1 &lt;value 0-31&gt; &lt;hex 0x0-0xffffffff&gt; |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2 &lt;value 0-31&gt; &lt;hex 0x0-0xffffffff&gt; | offset_chunk_3 &lt;value 0-31&gt;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4 &lt;value 0-31&gt; &lt;hex 0x0-0xffffffff&gt;} profile_id &lt;value 1-14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&lt;value 1-14&gt; add access_id [auto_assign | &lt;value 1-128&gt;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acket_content {offset_chunk_1 &lt;hex 0x0-0xffffffff&gt; | offset_chunk_2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3 &lt;hex 0x0-0xffffffff&gt; | offset_chunk_4 &lt;hex 0x0-0xffffffff&gt;} port [&lt;portlist&gt; | all]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[permit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priority &lt;value 0-7&gt; {replace_priority} | rx_rate [no_limit | &lt;value 1-156249&gt;]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eplace_dscp &lt;value 0-63&gt; | counter [enable | disable]} | mirror {group_id &lt;value 1-4&gt;} | deny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, при помощи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х ячеек </a:t>
            </a: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жно анализировать первые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8 байт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ждая ячейка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осуществлять выборку д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х байт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о н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ем слай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280360" cy="4006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"/>
          <p:cNvSpPr/>
          <p:nvPr/>
        </p:nvSpPr>
        <p:spPr>
          <a:xfrm>
            <a:off x="457200" y="1197000"/>
            <a:ext cx="7859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468360" y="1052640"/>
            <a:ext cx="8226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 : Заблокировать  SMB трафик (порты 135, 137, 138, 139, 445) на физически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овь рассмотрим пакет, взятый из Ethereal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о порте назначения содержится в байтах 24h и 25h (36 и 37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С соответственно). Обратимся к таблице, приведенной выше. Байты 3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37 входят в chunk9. 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546800" cy="2819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468360" y="981000"/>
            <a:ext cx="835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chunk (offset_chunk_1) в  нашем случае будет chunk9. Маску значений задаем равной  0x0000ffff , это означает, что в создаваемых в этом профил правилах, манипулировать мы будем 36 и 37 байтами (вторая половина chunk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создадим правило в нашем профил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правиле указан номер созданного выше профиля (profile_id 1). Значение, принимаемое обрабатываемым нами offset_chunk_1, задаем равным  0x008b (139 порт в десятичной СС). Физические порты коммутатора для которых 139 порт будет блокироваться: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 (8Ah), 445 (1BDh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кончательный вид правил для блокировки SMB выглядит следующим образом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7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9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A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B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611280" y="1052640"/>
            <a:ext cx="7993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изировать можно любой трафик, попадающий под 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ервым шагом является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им шагом является на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падании пакета под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ы можем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ссоциировать пакет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заменить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передаче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_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ть пакету новое знач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e_dscp_with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акет проассоциирован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, затем, будет обработан в соответствии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ьским приоритето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роведения соответствия приорите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ной из очередей приорит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829040" cy="2600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629240" cy="26096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1"/>
          <p:cNvSpPr/>
          <p:nvPr/>
        </p:nvSpPr>
        <p:spPr>
          <a:xfrm>
            <a:off x="5410080" y="2387520"/>
            <a:ext cx="10335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Line 2"/>
          <p:cNvSpPr/>
          <p:nvPr/>
        </p:nvSpPr>
        <p:spPr>
          <a:xfrm flipH="1">
            <a:off x="3201840" y="2347920"/>
            <a:ext cx="508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5181480" y="237816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24360" y="234792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5257800" y="1195560"/>
            <a:ext cx="144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886200" y="1052640"/>
            <a:ext cx="1440" cy="11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1" name="Object 8"/>
          <p:cNvGraphicFramePr/>
          <p:nvPr/>
        </p:nvGraphicFramePr>
        <p:xfrm>
          <a:off x="3132000" y="981000"/>
          <a:ext cx="29829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82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1"/>
          <p:cNvSpPr/>
          <p:nvPr/>
        </p:nvSpPr>
        <p:spPr>
          <a:xfrm>
            <a:off x="539640" y="3638520"/>
            <a:ext cx="80708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пакеты с определ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ённым приоритето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оставить в соответствующую очередь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дующие правила промаркируют пакеты следующим образом: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 -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нные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5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7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dscp profile_id 10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ip dscp 30 port 1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20 ip dscp 30 port 24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30 ip dscp 20 port 1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40 ip dscp 20 port 24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50 ip dscp 10 port 1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60 ip dscp 10 port 24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332000" y="9795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643200" y="1887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643200" y="1496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771640" y="3284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5214960" y="18543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5214960" y="149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Line 19"/>
          <p:cNvSpPr/>
          <p:nvPr/>
        </p:nvSpPr>
        <p:spPr>
          <a:xfrm flipV="1">
            <a:off x="3714840" y="1711080"/>
            <a:ext cx="144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5429160" y="171108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14200" y="213192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: DES-3200-26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084720" y="3284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6084720" y="213192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: DES-3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6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6396480" y="9795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3500280" y="149688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364000" y="14875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539640" y="570060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сновываясь н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оответствии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“802.1p User Priority”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акет будет поставлен в очередь с наивысшим приоритетом и будет обработан перв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9" name="Group 28"/>
          <p:cNvGrpSpPr/>
          <p:nvPr/>
        </p:nvGrpSpPr>
        <p:grpSpPr>
          <a:xfrm>
            <a:off x="3492360" y="2779560"/>
            <a:ext cx="1006560" cy="790560"/>
            <a:chOff x="3492360" y="2779560"/>
            <a:chExt cx="1006560" cy="790560"/>
          </a:xfrm>
        </p:grpSpPr>
        <p:pic>
          <p:nvPicPr>
            <p:cNvPr id="470" name="Picture 29" descr=""/>
            <p:cNvPicPr/>
            <p:nvPr/>
          </p:nvPicPr>
          <p:blipFill>
            <a:blip r:embed="rId3"/>
            <a:srcRect l="0" t="8463" r="0" b="12864"/>
            <a:stretch/>
          </p:blipFill>
          <p:spPr>
            <a:xfrm>
              <a:off x="3492360" y="29653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0" descr=""/>
            <p:cNvPicPr/>
            <p:nvPr/>
          </p:nvPicPr>
          <p:blipFill>
            <a:blip r:embed="rId4"/>
            <a:srcRect l="0" t="8463" r="0" b="12864"/>
            <a:stretch/>
          </p:blipFill>
          <p:spPr>
            <a:xfrm>
              <a:off x="3897360" y="31525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1" descr=""/>
            <p:cNvPicPr/>
            <p:nvPr/>
          </p:nvPicPr>
          <p:blipFill>
            <a:blip r:embed="rId5"/>
            <a:srcRect l="0" t="8463" r="0" b="12864"/>
            <a:stretch/>
          </p:blipFill>
          <p:spPr>
            <a:xfrm>
              <a:off x="3987720" y="2779560"/>
              <a:ext cx="511200" cy="4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3" name="Picture 32" descr=""/>
          <p:cNvPicPr/>
          <p:nvPr/>
        </p:nvPicPr>
        <p:blipFill>
          <a:blip r:embed="rId6"/>
          <a:srcRect l="0" t="8463" r="0" b="12864"/>
          <a:stretch/>
        </p:blipFill>
        <p:spPr>
          <a:xfrm>
            <a:off x="4788000" y="296532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3" descr=""/>
          <p:cNvPicPr/>
          <p:nvPr/>
        </p:nvPicPr>
        <p:blipFill>
          <a:blip r:embed="rId7"/>
          <a:srcRect l="0" t="8463" r="0" b="12864"/>
          <a:stretch/>
        </p:blipFill>
        <p:spPr>
          <a:xfrm>
            <a:off x="5192640" y="31528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4" descr=""/>
          <p:cNvPicPr/>
          <p:nvPr/>
        </p:nvPicPr>
        <p:blipFill>
          <a:blip r:embed="rId8"/>
          <a:srcRect l="0" t="8463" r="0" b="12864"/>
          <a:stretch/>
        </p:blipFill>
        <p:spPr>
          <a:xfrm>
            <a:off x="5283360" y="277956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5" descr=""/>
          <p:cNvPicPr/>
          <p:nvPr/>
        </p:nvPicPr>
        <p:blipFill>
          <a:blip r:embed="rId9"/>
          <a:srcRect l="0" t="8463" r="0" b="12864"/>
          <a:stretch/>
        </p:blipFill>
        <p:spPr>
          <a:xfrm>
            <a:off x="608472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6" descr=""/>
          <p:cNvPicPr/>
          <p:nvPr/>
        </p:nvPicPr>
        <p:blipFill>
          <a:blip r:embed="rId10"/>
          <a:srcRect l="0" t="8463" r="0" b="12864"/>
          <a:stretch/>
        </p:blipFill>
        <p:spPr>
          <a:xfrm>
            <a:off x="277164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9" descr=""/>
          <p:cNvPicPr/>
          <p:nvPr/>
        </p:nvPicPr>
        <p:blipFill>
          <a:blip r:embed="rId11"/>
          <a:stretch/>
        </p:blipFill>
        <p:spPr>
          <a:xfrm>
            <a:off x="3000240" y="2139840"/>
            <a:ext cx="1521000" cy="357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9" descr=""/>
          <p:cNvPicPr/>
          <p:nvPr/>
        </p:nvPicPr>
        <p:blipFill>
          <a:blip r:embed="rId12"/>
          <a:stretch/>
        </p:blipFill>
        <p:spPr>
          <a:xfrm>
            <a:off x="4572000" y="2139840"/>
            <a:ext cx="1521000" cy="357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ая соединительная линия 11"/>
          <p:cNvSpPr/>
          <p:nvPr/>
        </p:nvSpPr>
        <p:spPr>
          <a:xfrm>
            <a:off x="4788000" y="20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Прямая соединительная линия 6"/>
          <p:cNvSpPr/>
          <p:nvPr/>
        </p:nvSpPr>
        <p:spPr>
          <a:xfrm>
            <a:off x="1763640" y="2060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TV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843280" y="1916280"/>
          <a:ext cx="266364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16280"/>
                    <a:ext cx="2663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5" descr="C:\Users\06075\Desktop\Icons for Topology\Computer 01.jpg"/>
          <p:cNvPicPr/>
          <p:nvPr/>
        </p:nvPicPr>
        <p:blipFill>
          <a:blip r:embed="rId3"/>
          <a:stretch/>
        </p:blipFill>
        <p:spPr>
          <a:xfrm>
            <a:off x="1403280" y="1628640"/>
            <a:ext cx="581040" cy="79236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8"/>
          <p:cNvSpPr/>
          <p:nvPr/>
        </p:nvSpPr>
        <p:spPr>
          <a:xfrm>
            <a:off x="1169640" y="119700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88" name="Прямая со стрелкой 8"/>
          <p:cNvCxnSpPr/>
          <p:nvPr/>
        </p:nvCxnSpPr>
        <p:spPr>
          <a:xfrm>
            <a:off x="2050920" y="1988640"/>
            <a:ext cx="721440" cy="25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89" name="Прямоугольник 8"/>
          <p:cNvSpPr/>
          <p:nvPr/>
        </p:nvSpPr>
        <p:spPr>
          <a:xfrm>
            <a:off x="2031120" y="1557360"/>
            <a:ext cx="781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Облако 12"/>
          <p:cNvSpPr/>
          <p:nvPr/>
        </p:nvSpPr>
        <p:spPr>
          <a:xfrm>
            <a:off x="5796000" y="1628640"/>
            <a:ext cx="2305080" cy="936720"/>
          </a:xfrm>
          <a:custGeom>
            <a:avLst/>
            <a:gdLst>
              <a:gd name="textAreaLeft" fmla="*/ 317520 w 2305080"/>
              <a:gd name="textAreaRight" fmla="*/ 1823400 w 2305080"/>
              <a:gd name="textAreaTop" fmla="*/ 141480 h 936720"/>
              <a:gd name="textAreaBottom" fmla="*/ 752040 h 93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5961960" y="1844640"/>
            <a:ext cx="18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ntrane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ocal Area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Прямоугольник 8"/>
          <p:cNvSpPr/>
          <p:nvPr/>
        </p:nvSpPr>
        <p:spPr>
          <a:xfrm>
            <a:off x="-83880" y="2852640"/>
            <a:ext cx="93369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на входе с помощь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24.0.0.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port  1 permit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iority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replace_priorit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аркиру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, обрабатывает его в соответствующей очереди и далее пробрасывает с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ной меткой  802.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сли в сети нет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ервиса, то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ожно про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 5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, если есть, тогда  рекоменду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5, а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Прямоугольник 8"/>
          <p:cNvSpPr/>
          <p:nvPr/>
        </p:nvSpPr>
        <p:spPr>
          <a:xfrm>
            <a:off x="2618280" y="220500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395280" y="907920"/>
            <a:ext cx="83534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ть ве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ane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ой пропускания в 2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bp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x/24 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щью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профиль и правило с ограничение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55.255.255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192.168.1.0 port  1-24 permit rx_rate 3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настроек с помощью программ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 -c 192.168.1.20 -i 1 -t 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 connecting to 192.168.1.20, TCP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 window size: 8.00 KByte (default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local 192.168.1.15 port 2870 connected with 192.168.1.20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 ID]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er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 1.0 sec   3.35 MBytes  28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1.0- 2.0 sec   2.09 MBytes  17.5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2.0- 3.0 sec   2.58 MBytes  21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3.0- 4.0 sec   2.53 MBytes  21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4.0- 5.0 sec   2.34 MBytes  19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5.0- 6.0 sec   2.02 MBytes  17.0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6.0- 7.0 sec   2.82 MBytes  23.7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7.0- 8.0 sec   2.05 MBytes  17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8.0- 9.0 sec   2.60 MBytes  21.8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9.0-10.0 sec  1.92 MBytes  16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10.1 sec  24.3 MBytes  20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*  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20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шагов * 64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kbps = 20480kbps =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0Mbp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полосы пропускания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1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1_only rx_mode v1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PU Interface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одержимое 2"/>
          <p:cNvSpPr/>
          <p:nvPr/>
        </p:nvSpPr>
        <p:spPr>
          <a:xfrm>
            <a:off x="457200" y="1125360"/>
            <a:ext cx="82263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Interface Filtering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инач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ware ACL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списки доступа, предназначенные для фильтрации пакетов, которые не могут быть отброшены аппаратны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 таким пакетам относится трафик, обрабатываемы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elnet, SSH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также весь трафик к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NM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тельный трафик в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отором находится управляющий интерфей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ногоадресная рассыл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ulticas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комендуется применять для снижения з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случаях «подвисаний» управления и для фильтрации нежелательных многоадресных рассыл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одержимое 2"/>
          <p:cNvSpPr/>
          <p:nvPr/>
        </p:nvSpPr>
        <p:spPr>
          <a:xfrm>
            <a:off x="376200" y="1052640"/>
            <a:ext cx="82281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ограничить доступ к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коммутат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ит п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види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Содержимое 2"/>
          <p:cNvSpPr/>
          <p:nvPr/>
        </p:nvSpPr>
        <p:spPr>
          <a:xfrm>
            <a:off x="380880" y="1828800"/>
            <a:ext cx="781056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cpu_interface_filtering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cpu access_profile profile_id 1 ip source_ip_mask 255.255.255.128 icm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cpu access_profile profile_id 1 add access_id 1 ip source_ip 10.90.90.91 icmp port 1 deny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Содержимое 2"/>
          <p:cNvSpPr/>
          <p:nvPr/>
        </p:nvSpPr>
        <p:spPr>
          <a:xfrm>
            <a:off x="468360" y="3265560"/>
            <a:ext cx="49784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жден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чно так же можно запретить любой вид трафи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access_profil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ображаются в общем списк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смотреть их можно командой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how cpu access_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5526000" y="3067200"/>
            <a:ext cx="3156120" cy="28368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Safeguard Eng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GS-1224T"/>
          <p:cNvPicPr/>
          <p:nvPr/>
        </p:nvPicPr>
        <p:blipFill>
          <a:blip r:embed="rId1"/>
          <a:stretch/>
        </p:blipFill>
        <p:spPr>
          <a:xfrm>
            <a:off x="3024360" y="3378240"/>
            <a:ext cx="2738160" cy="1225440"/>
          </a:xfrm>
          <a:prstGeom prst="rect">
            <a:avLst/>
          </a:prstGeom>
          <a:ln w="0">
            <a:noFill/>
          </a:ln>
        </p:spPr>
      </p:pic>
      <p:sp>
        <p:nvSpPr>
          <p:cNvPr id="506" name="Line 9"/>
          <p:cNvSpPr/>
          <p:nvPr/>
        </p:nvSpPr>
        <p:spPr>
          <a:xfrm flipH="1" flipV="1">
            <a:off x="4716000" y="3860640"/>
            <a:ext cx="1430280" cy="1090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4" descr="icon2"/>
          <p:cNvPicPr/>
          <p:nvPr/>
        </p:nvPicPr>
        <p:blipFill>
          <a:blip r:embed="rId2"/>
          <a:stretch/>
        </p:blipFill>
        <p:spPr>
          <a:xfrm rot="300600">
            <a:off x="4214520" y="3614400"/>
            <a:ext cx="468360" cy="1810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825480" y="981000"/>
            <a:ext cx="79120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905360" y="1630440"/>
            <a:ext cx="37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назначен для обработки управляющей информации, такой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P, SNMP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п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ж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батывает некоторый специфичный трафик, такой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м назначени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83664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841320" y="2000160"/>
            <a:ext cx="33098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е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71456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Line 11"/>
          <p:cNvSpPr/>
          <p:nvPr/>
        </p:nvSpPr>
        <p:spPr>
          <a:xfrm flipV="1">
            <a:off x="22604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358632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4067280" y="3500280"/>
            <a:ext cx="720720" cy="432000"/>
          </a:xfrm>
          <a:custGeom>
            <a:avLst/>
            <a:gdLst>
              <a:gd name="textAreaLeft" fmla="*/ 105480 w 720720"/>
              <a:gd name="textAreaRight" fmla="*/ 615240 w 720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5853240" y="3049560"/>
            <a:ext cx="2087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12794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2851200" y="2854440"/>
            <a:ext cx="11253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5864400" y="4940280"/>
            <a:ext cx="18903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4417920" y="1767960"/>
            <a:ext cx="9720" cy="18766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Line 19"/>
          <p:cNvSpPr/>
          <p:nvPr/>
        </p:nvSpPr>
        <p:spPr>
          <a:xfrm flipH="1">
            <a:off x="4427280" y="1762200"/>
            <a:ext cx="3603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GS-1224T"/>
          <p:cNvPicPr/>
          <p:nvPr/>
        </p:nvPicPr>
        <p:blipFill>
          <a:blip r:embed="rId1"/>
          <a:stretch/>
        </p:blipFill>
        <p:spPr>
          <a:xfrm>
            <a:off x="3025800" y="3378240"/>
            <a:ext cx="2738520" cy="122544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6" name="Picture 4" descr="icon2"/>
          <p:cNvPicPr/>
          <p:nvPr/>
        </p:nvPicPr>
        <p:blipFill>
          <a:blip r:embed="rId2"/>
          <a:stretch/>
        </p:blipFill>
        <p:spPr>
          <a:xfrm rot="300600">
            <a:off x="4215960" y="3614400"/>
            <a:ext cx="468360" cy="18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icon"/>
          <p:cNvPicPr/>
          <p:nvPr/>
        </p:nvPicPr>
        <p:blipFill>
          <a:blip r:embed="rId3"/>
          <a:stretch/>
        </p:blipFill>
        <p:spPr>
          <a:xfrm rot="268200">
            <a:off x="4130640" y="3528720"/>
            <a:ext cx="719280" cy="2840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83808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843120" y="2000160"/>
            <a:ext cx="33987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ё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Line 8"/>
          <p:cNvSpPr/>
          <p:nvPr/>
        </p:nvSpPr>
        <p:spPr>
          <a:xfrm flipH="1">
            <a:off x="471600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Line 9"/>
          <p:cNvSpPr/>
          <p:nvPr/>
        </p:nvSpPr>
        <p:spPr>
          <a:xfrm flipV="1">
            <a:off x="22622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358776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068720" y="3500280"/>
            <a:ext cx="719280" cy="433440"/>
          </a:xfrm>
          <a:custGeom>
            <a:avLst/>
            <a:gdLst>
              <a:gd name="textAreaLeft" fmla="*/ 105120 w 719280"/>
              <a:gd name="textAreaRight" fmla="*/ 614160 w 719280"/>
              <a:gd name="textAreaTop" fmla="*/ 63360 h 433440"/>
              <a:gd name="textAreaBottom" fmla="*/ 370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5854680" y="3176640"/>
            <a:ext cx="21002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12812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2852640" y="2854440"/>
            <a:ext cx="112572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Line 15"/>
          <p:cNvSpPr/>
          <p:nvPr/>
        </p:nvSpPr>
        <p:spPr>
          <a:xfrm flipV="1">
            <a:off x="4581360" y="1796760"/>
            <a:ext cx="9720" cy="18097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Line 16"/>
          <p:cNvSpPr/>
          <p:nvPr/>
        </p:nvSpPr>
        <p:spPr>
          <a:xfrm flipH="1">
            <a:off x="4590720" y="1790640"/>
            <a:ext cx="236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AutoShape 17"/>
          <p:cNvSpPr/>
          <p:nvPr/>
        </p:nvSpPr>
        <p:spPr>
          <a:xfrm rot="13216800">
            <a:off x="4420800" y="4409640"/>
            <a:ext cx="2281320" cy="3700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96" y="0"/>
                </a:lnTo>
                <a:lnTo>
                  <a:pt x="21600" y="10800"/>
                </a:lnTo>
                <a:lnTo>
                  <a:pt x="1429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4859280" y="1698480"/>
            <a:ext cx="4162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Safeguard Engin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идентифицировать и приоритезиров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«интересный» 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с целью отбрасывания ненужных пакетов для сохранения функциональности коммутатор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5865840" y="4940280"/>
            <a:ext cx="20048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4859280" y="2433600"/>
            <a:ext cx="40006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Таким образом с применением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Safeguard Engine,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D-Link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будет обладать отказоустойчивостью, особенно при вирусных атаках или сканирования сет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826920" y="981000"/>
            <a:ext cx="79124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Содержимое 2"/>
          <p:cNvSpPr/>
          <p:nvPr/>
        </p:nvSpPr>
        <p:spPr>
          <a:xfrm>
            <a:off x="468360" y="907920"/>
            <a:ext cx="8227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вы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ога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Ris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ойдёт 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режим высокой загрузк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ниже порог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all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ыйдет и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еханиз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Safeguard Engin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тключи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йствия коммутатора при работ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вается полоса пропускания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все широковещательн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чески ограничивается полоса пропускания для широковещательны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nterval 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ожет избежать постоянного переключения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з надобнос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значение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го времен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320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итуации, когда коммутатор постоянно входит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,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гда это время достигает максимального значения, коммутатор не выйдет за это значен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778200" cy="458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4427640" y="981000"/>
            <a:ext cx="374472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тоянно посылае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-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 со скоростью 1000 пакетов в секунд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изменяется от нормальной до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рекратить генерацию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,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ять станет в пределах норм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коммутатор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332000" y="4075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3708360" y="38512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Line 25"/>
          <p:cNvSpPr/>
          <p:nvPr/>
        </p:nvSpPr>
        <p:spPr>
          <a:xfrm>
            <a:off x="1692360" y="2346480"/>
            <a:ext cx="0" cy="1225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0" y="5589720"/>
            <a:ext cx="91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 загрузку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мощ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guard Eng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971640" y="148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10.31.3.254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108000" y="4292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 10.31.3.2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5" name="Picture 20" descr=""/>
          <p:cNvPicPr/>
          <p:nvPr/>
        </p:nvPicPr>
        <p:blipFill>
          <a:blip r:embed="rId2"/>
          <a:srcRect l="0" t="8458" r="18051" b="12842"/>
          <a:stretch/>
        </p:blipFill>
        <p:spPr>
          <a:xfrm>
            <a:off x="1042920" y="3213000"/>
            <a:ext cx="978120" cy="93672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29"/>
          <p:cNvSpPr/>
          <p:nvPr/>
        </p:nvSpPr>
        <p:spPr>
          <a:xfrm>
            <a:off x="4932360" y="4221000"/>
            <a:ext cx="403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state enabl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utilization rising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falling 5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250920" y="1546200"/>
            <a:ext cx="8640720" cy="39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4#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State          : En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Current Status : Normal mo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=============================================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utilization inform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                               : 5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sing Threshold(20-100) 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lling Threshold(20-100)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p/Log                                   : Dis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900000" y="982800"/>
            <a:ext cx="7272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ы тес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активаци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генера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PC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ольшого количеств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загрузк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ержаться в район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100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включ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PC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олжает генерировать большое количеств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ся до значения нижнего предел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ммутатор будет держать интервал между переключения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значение по умолчанию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онирует следующим образом. При превышении загрузко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ерхнего предела, коммутатор отбрас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 При значении загрузки между двумя пределами, коммутатор обрабатывает тольк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, предназначенные ему. При снижении загрузки ниже нижнего предела коммутатор обрабат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2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2_only rx_mode v2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324000" y="1268280"/>
            <a:ext cx="8496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 как коммутатор переключится 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строенном строгом режиме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 к коммутатору будет недоступен, так как в этом режиме отбрасывают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честве решения можно предложить указа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MAC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 в статической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е управляющей рабочей станции, для того чтобы она могла напрямую обратиться к интерфейсу управления коммутатором без отсылки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запро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ход в режим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будет влиять на коммутацию пакетов на уровне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L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ереходе в строгий режи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только административный доступ будет недоступен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и связь между подсетями может быть нарушена тоже, поскольку будут отбрасывать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 н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 тоже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о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строгог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а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вляется то, что в нём он не просто отбрасы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с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я, а динамически изменяется полоса пропускания для них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даже при серьёзной вирусной эпидемии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оступен по управлению, а 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может обеспечивать взаимодействие между подсетя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озможные побочные эффек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1187280" y="1989000"/>
            <a:ext cx="6769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 Option 8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информация от агента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468360" y="105264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elay Agent (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гентом перенаправления запросов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бавления дополнительной информации в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прос клиент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Эта информация может быть использована для применения политик, направленных на увеличение уровня безопасности и эффективности сети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на описана в стандарт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FC 304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6"/>
          <p:cNvSpPr/>
          <p:nvPr/>
        </p:nvSpPr>
        <p:spPr>
          <a:xfrm flipV="1">
            <a:off x="1258920" y="2401920"/>
            <a:ext cx="334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26" descr="des-3828"/>
          <p:cNvPicPr/>
          <p:nvPr/>
        </p:nvPicPr>
        <p:blipFill>
          <a:blip r:embed="rId1"/>
          <a:stretch/>
        </p:blipFill>
        <p:spPr>
          <a:xfrm>
            <a:off x="468360" y="3552840"/>
            <a:ext cx="1601640" cy="36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971640" y="1897200"/>
            <a:ext cx="581040" cy="792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"/>
          <p:cNvPicPr/>
          <p:nvPr/>
        </p:nvPicPr>
        <p:blipFill>
          <a:blip r:embed="rId3"/>
          <a:srcRect l="0" t="8458" r="18051" b="12842"/>
          <a:stretch/>
        </p:blipFill>
        <p:spPr>
          <a:xfrm>
            <a:off x="684360" y="4633920"/>
            <a:ext cx="893520" cy="85572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2009520" y="342900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Rela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Прямоугольник 7"/>
          <p:cNvSpPr/>
          <p:nvPr/>
        </p:nvSpPr>
        <p:spPr>
          <a:xfrm>
            <a:off x="1060560" y="54259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Прямоугольник 8"/>
          <p:cNvSpPr/>
          <p:nvPr/>
        </p:nvSpPr>
        <p:spPr>
          <a:xfrm>
            <a:off x="614880" y="15573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4" name="Группа 30"/>
          <p:cNvGrpSpPr/>
          <p:nvPr/>
        </p:nvGrpSpPr>
        <p:grpSpPr>
          <a:xfrm>
            <a:off x="1403280" y="4075920"/>
            <a:ext cx="1584360" cy="576720"/>
            <a:chOff x="1403280" y="4075920"/>
            <a:chExt cx="1584360" cy="576720"/>
          </a:xfrm>
        </p:grpSpPr>
        <p:cxnSp>
          <p:nvCxnSpPr>
            <p:cNvPr id="575" name="Прямая со стрелкой 24"/>
            <p:cNvCxnSpPr/>
            <p:nvPr/>
          </p:nvCxnSpPr>
          <p:spPr>
            <a:xfrm flipV="1">
              <a:off x="1403280" y="407592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576" name="Rectangle 11"/>
            <p:cNvSpPr/>
            <p:nvPr/>
          </p:nvSpPr>
          <p:spPr>
            <a:xfrm>
              <a:off x="1475280" y="4148640"/>
              <a:ext cx="151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7" name="Группа 31"/>
          <p:cNvGrpSpPr/>
          <p:nvPr/>
        </p:nvGrpSpPr>
        <p:grpSpPr>
          <a:xfrm>
            <a:off x="3635280" y="1413000"/>
            <a:ext cx="5257800" cy="428760"/>
            <a:chOff x="3635280" y="1413000"/>
            <a:chExt cx="5257800" cy="428760"/>
          </a:xfrm>
        </p:grpSpPr>
        <p:sp>
          <p:nvSpPr>
            <p:cNvPr id="578" name="Rectangle 11"/>
            <p:cNvSpPr/>
            <p:nvPr/>
          </p:nvSpPr>
          <p:spPr>
            <a:xfrm>
              <a:off x="3995280" y="1413000"/>
              <a:ext cx="4897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Овал 45"/>
            <p:cNvSpPr/>
            <p:nvPr/>
          </p:nvSpPr>
          <p:spPr>
            <a:xfrm>
              <a:off x="3635280" y="148464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0" name="Группа 32"/>
          <p:cNvGrpSpPr/>
          <p:nvPr/>
        </p:nvGrpSpPr>
        <p:grpSpPr>
          <a:xfrm>
            <a:off x="1403280" y="2781000"/>
            <a:ext cx="1621080" cy="713520"/>
            <a:chOff x="1403280" y="2781000"/>
            <a:chExt cx="1621080" cy="713520"/>
          </a:xfrm>
        </p:grpSpPr>
        <p:cxnSp>
          <p:nvCxnSpPr>
            <p:cNvPr id="581" name="Прямая со стрелкой 27"/>
            <p:cNvCxnSpPr/>
            <p:nvPr/>
          </p:nvCxnSpPr>
          <p:spPr>
            <a:xfrm flipV="1">
              <a:off x="1403280" y="2781000"/>
              <a:ext cx="2160" cy="61200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582" name="Rectangle 11"/>
            <p:cNvSpPr/>
            <p:nvPr/>
          </p:nvSpPr>
          <p:spPr>
            <a:xfrm>
              <a:off x="1475280" y="2853000"/>
              <a:ext cx="154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DHCP Discover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Unicast +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3" name="Группа 33"/>
          <p:cNvGrpSpPr/>
          <p:nvPr/>
        </p:nvGrpSpPr>
        <p:grpSpPr>
          <a:xfrm>
            <a:off x="3635280" y="1909800"/>
            <a:ext cx="5329440" cy="1600560"/>
            <a:chOff x="3635280" y="1909800"/>
            <a:chExt cx="5329440" cy="1600560"/>
          </a:xfrm>
        </p:grpSpPr>
        <p:sp>
          <p:nvSpPr>
            <p:cNvPr id="584" name="Овал 47"/>
            <p:cNvSpPr/>
            <p:nvPr/>
          </p:nvSpPr>
          <p:spPr>
            <a:xfrm>
              <a:off x="3635280" y="198828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Rectangle 11"/>
            <p:cNvSpPr/>
            <p:nvPr/>
          </p:nvSpPr>
          <p:spPr>
            <a:xfrm>
              <a:off x="3996000" y="1909800"/>
              <a:ext cx="496872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Коммутатор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(DHCP Relay Agent)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хватыва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packet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и добавляет в него информацию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Relay Agent Information Option (</a:t>
              </a:r>
              <a:r>
                <a:rPr b="1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Option 82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).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Эта информация содержи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MAC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–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адрес коммутатор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 Remote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VLAN ID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, в котором находится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-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SNMP ifindex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рта, с которого получен запрос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C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ircuit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оммутатор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направля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 с полями опции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Option 82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н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сервер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6" name="Прямоугольник 18"/>
          <p:cNvSpPr/>
          <p:nvPr/>
        </p:nvSpPr>
        <p:spPr>
          <a:xfrm>
            <a:off x="179280" y="927000"/>
            <a:ext cx="8785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Когда вы включаете опцию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DHCP Relay Agent Option 8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 коммутатор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D-link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происходи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едующе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 работы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 Agent </a:t>
            </a: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и добавление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8" name="Группа 34"/>
          <p:cNvGrpSpPr/>
          <p:nvPr/>
        </p:nvGrpSpPr>
        <p:grpSpPr>
          <a:xfrm>
            <a:off x="108000" y="2781000"/>
            <a:ext cx="1079280" cy="684000"/>
            <a:chOff x="108000" y="2781000"/>
            <a:chExt cx="1079280" cy="684000"/>
          </a:xfrm>
        </p:grpSpPr>
        <p:cxnSp>
          <p:nvCxnSpPr>
            <p:cNvPr id="589" name="Прямая со стрелкой 33"/>
            <p:cNvCxnSpPr/>
            <p:nvPr/>
          </p:nvCxnSpPr>
          <p:spPr>
            <a:xfrm flipH="1">
              <a:off x="11854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590" name="Rectangle 11"/>
            <p:cNvSpPr/>
            <p:nvPr/>
          </p:nvSpPr>
          <p:spPr>
            <a:xfrm>
              <a:off x="108000" y="2823480"/>
              <a:ext cx="1007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c 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1" name="Группа 35"/>
          <p:cNvGrpSpPr/>
          <p:nvPr/>
        </p:nvGrpSpPr>
        <p:grpSpPr>
          <a:xfrm>
            <a:off x="3635280" y="3346560"/>
            <a:ext cx="5113440" cy="1935360"/>
            <a:chOff x="3635280" y="3346560"/>
            <a:chExt cx="5113440" cy="1935360"/>
          </a:xfrm>
        </p:grpSpPr>
        <p:sp>
          <p:nvSpPr>
            <p:cNvPr id="592" name="Овал 49"/>
            <p:cNvSpPr/>
            <p:nvPr/>
          </p:nvSpPr>
          <p:spPr>
            <a:xfrm>
              <a:off x="3635280" y="342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3" name="Rectangle 11"/>
            <p:cNvSpPr/>
            <p:nvPr/>
          </p:nvSpPr>
          <p:spPr>
            <a:xfrm>
              <a:off x="3995280" y="3346560"/>
              <a:ext cx="475344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получает пакет.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поддерживает опцию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Option 82,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он может использовать пол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Remote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/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л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Circuit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для назначени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IP-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адреса и применения политик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,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 таких как ограничения количеств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ов, выдаваемых одному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Remote ID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л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Circuit ID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Зате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копирует поле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т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не поддерживает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,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н игнорирует поля этой опци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 не отсылает их в ответ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чает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Unicast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у перенаправления запросо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 проверяет предназначен ли он его клиенту, путём анализ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а назначения пакет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4" name="Группа 37"/>
          <p:cNvGrpSpPr/>
          <p:nvPr/>
        </p:nvGrpSpPr>
        <p:grpSpPr>
          <a:xfrm>
            <a:off x="3635280" y="5300640"/>
            <a:ext cx="4932360" cy="596160"/>
            <a:chOff x="3635280" y="5300640"/>
            <a:chExt cx="4932360" cy="596160"/>
          </a:xfrm>
        </p:grpSpPr>
        <p:sp>
          <p:nvSpPr>
            <p:cNvPr id="595" name="Прямоугольник 25"/>
            <p:cNvSpPr/>
            <p:nvPr/>
          </p:nvSpPr>
          <p:spPr>
            <a:xfrm>
              <a:off x="3996000" y="5300640"/>
              <a:ext cx="4571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Агент удаляет поля Option 82 и направляет пакет на порт, к которому подключён DHCP - клиент, пославший пакет DHCP </a:t>
              </a:r>
              <a:r>
                <a:rPr b="0" lang="en-US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-</a:t>
              </a: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 запрос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6" name="Овал 51"/>
            <p:cNvSpPr/>
            <p:nvPr/>
          </p:nvSpPr>
          <p:spPr>
            <a:xfrm>
              <a:off x="3635280" y="5373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7" name="Группа 36"/>
          <p:cNvGrpSpPr/>
          <p:nvPr/>
        </p:nvGrpSpPr>
        <p:grpSpPr>
          <a:xfrm>
            <a:off x="179280" y="4005360"/>
            <a:ext cx="1008000" cy="576000"/>
            <a:chOff x="179280" y="4005360"/>
            <a:chExt cx="1008000" cy="576000"/>
          </a:xfrm>
        </p:grpSpPr>
        <p:cxnSp>
          <p:nvCxnSpPr>
            <p:cNvPr id="598" name="Прямая со стрелкой 33"/>
            <p:cNvCxnSpPr/>
            <p:nvPr/>
          </p:nvCxnSpPr>
          <p:spPr>
            <a:xfrm flipH="1">
              <a:off x="1185480" y="4005360"/>
              <a:ext cx="2160" cy="576360"/>
            </a:xfrm>
            <a:prstGeom prst="straightConnector1">
              <a:avLst/>
            </a:prstGeom>
            <a:ln w="12600">
              <a:solidFill>
                <a:srgbClr val="7030a0"/>
              </a:solidFill>
              <a:miter/>
              <a:tailEnd len="med" type="triangle" w="med"/>
            </a:ln>
          </p:spPr>
        </p:cxnSp>
        <p:sp>
          <p:nvSpPr>
            <p:cNvPr id="599" name="Rectangle 11"/>
            <p:cNvSpPr/>
            <p:nvPr/>
          </p:nvSpPr>
          <p:spPr>
            <a:xfrm>
              <a:off x="179280" y="41493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7030a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ы конфигурации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Прямоугольник 2"/>
          <p:cNvSpPr/>
          <p:nvPr/>
        </p:nvSpPr>
        <p:spPr>
          <a:xfrm>
            <a:off x="1332000" y="942840"/>
            <a:ext cx="57610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interfa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ipif System &lt;ipaddr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это всегд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нужно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ть клиентский интерфейс, т.е. тот, который приним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ov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VLA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vlanid &lt;vlan_id_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&lt;ipaddr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ю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, в которых будет работать функц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ipaddr&gt; 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е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а, на который пересылаются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ов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por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ports &lt;port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tate enab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того, чтобы коммутатор не реагировал на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нзитн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1"/>
          <p:cNvGraphicFramePr/>
          <p:nvPr/>
        </p:nvGraphicFramePr>
        <p:xfrm>
          <a:off x="7072200" y="938160"/>
          <a:ext cx="14288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2200" y="93816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08120" y="1751040"/>
          <a:ext cx="5618160" cy="306360"/>
        </p:xfrm>
        <a:graphic>
          <a:graphicData uri="http://schemas.openxmlformats.org/drawingml/2006/table">
            <a:tbl>
              <a:tblPr/>
              <a:tblGrid>
                <a:gridCol w="801720"/>
                <a:gridCol w="803160"/>
                <a:gridCol w="801720"/>
                <a:gridCol w="804960"/>
                <a:gridCol w="801720"/>
                <a:gridCol w="858600"/>
                <a:gridCol w="74628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3"/>
          <p:cNvSpPr/>
          <p:nvPr/>
        </p:nvSpPr>
        <p:spPr>
          <a:xfrm>
            <a:off x="114480" y="922320"/>
            <a:ext cx="6963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Поле опции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DHCP Option 82 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имеет следующий формат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Text Box 34"/>
          <p:cNvSpPr/>
          <p:nvPr/>
        </p:nvSpPr>
        <p:spPr>
          <a:xfrm>
            <a:off x="904680" y="1473120"/>
            <a:ext cx="48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 3.             4.             5.             6.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35"/>
          <p:cNvSpPr/>
          <p:nvPr/>
        </p:nvSpPr>
        <p:spPr>
          <a:xfrm>
            <a:off x="-209520" y="228456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3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Circuit I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5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VLAN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VLAN ID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акете клиен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  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ле 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сегда равно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0;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7.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номер порта, с которого получе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 порта начинается 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Text Box 36"/>
          <p:cNvSpPr/>
          <p:nvPr/>
        </p:nvSpPr>
        <p:spPr>
          <a:xfrm>
            <a:off x="522000" y="2054160"/>
            <a:ext cx="58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2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а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Text Box 37"/>
          <p:cNvSpPr/>
          <p:nvPr/>
        </p:nvSpPr>
        <p:spPr>
          <a:xfrm>
            <a:off x="70920" y="378144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Remote I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09560" y="4343400"/>
          <a:ext cx="5311800" cy="306360"/>
        </p:xfrm>
        <a:graphic>
          <a:graphicData uri="http://schemas.openxmlformats.org/drawingml/2006/table">
            <a:tbl>
              <a:tblPr/>
              <a:tblGrid>
                <a:gridCol w="814320"/>
                <a:gridCol w="762120"/>
                <a:gridCol w="838080"/>
                <a:gridCol w="763560"/>
                <a:gridCol w="213372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60"/>
          <p:cNvSpPr/>
          <p:nvPr/>
        </p:nvSpPr>
        <p:spPr>
          <a:xfrm>
            <a:off x="670680" y="40370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3.              4.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Text Box 61"/>
          <p:cNvSpPr/>
          <p:nvPr/>
        </p:nvSpPr>
        <p:spPr>
          <a:xfrm>
            <a:off x="546840" y="4645080"/>
            <a:ext cx="42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 6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 Box 62"/>
          <p:cNvSpPr/>
          <p:nvPr/>
        </p:nvSpPr>
        <p:spPr>
          <a:xfrm>
            <a:off x="588240" y="4951440"/>
            <a:ext cx="328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Text Box 63"/>
          <p:cNvSpPr/>
          <p:nvPr/>
        </p:nvSpPr>
        <p:spPr>
          <a:xfrm>
            <a:off x="4800600" y="2895480"/>
            <a:ext cx="4038480" cy="733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Локальный идентификатор агент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который получил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кет от клиен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64"/>
          <p:cNvSpPr/>
          <p:nvPr/>
        </p:nvSpPr>
        <p:spPr>
          <a:xfrm>
            <a:off x="4638960" y="4797360"/>
            <a:ext cx="4111200" cy="1159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ля идентификации удалённого узла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 может использовать эт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опцию для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выбора специфических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раметров пользователей, узлов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ле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олжно быть уникально в сет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Line 65"/>
          <p:cNvSpPr/>
          <p:nvPr/>
        </p:nvSpPr>
        <p:spPr>
          <a:xfrm>
            <a:off x="6477120" y="1370160"/>
            <a:ext cx="144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Rectangle 66"/>
          <p:cNvSpPr/>
          <p:nvPr/>
        </p:nvSpPr>
        <p:spPr>
          <a:xfrm>
            <a:off x="152280" y="123192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Rectangle 67"/>
          <p:cNvSpPr/>
          <p:nvPr/>
        </p:nvSpPr>
        <p:spPr>
          <a:xfrm>
            <a:off x="152280" y="380844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Line 68"/>
          <p:cNvSpPr/>
          <p:nvPr/>
        </p:nvSpPr>
        <p:spPr>
          <a:xfrm>
            <a:off x="6477120" y="3960720"/>
            <a:ext cx="144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Line 69"/>
          <p:cNvSpPr/>
          <p:nvPr/>
        </p:nvSpPr>
        <p:spPr>
          <a:xfrm>
            <a:off x="3427560" y="396072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Text Box 70"/>
          <p:cNvSpPr/>
          <p:nvPr/>
        </p:nvSpPr>
        <p:spPr>
          <a:xfrm>
            <a:off x="6382800" y="2300400"/>
            <a:ext cx="24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С какого порта получен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Text Box 71"/>
          <p:cNvSpPr/>
          <p:nvPr/>
        </p:nvSpPr>
        <p:spPr>
          <a:xfrm>
            <a:off x="7444080" y="186696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0909"/>
                </a:solidFill>
                <a:latin typeface="Arial Unicode MS"/>
              </a:rPr>
              <a:t>DHCP - </a:t>
            </a:r>
            <a:r>
              <a:rPr b="1" lang="ru-RU" sz="800" spc="-1" strike="noStrike">
                <a:solidFill>
                  <a:srgbClr val="ff0909"/>
                </a:solidFill>
                <a:latin typeface="Arial Unicode MS"/>
              </a:rPr>
              <a:t>запрос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72"/>
          <p:cNvSpPr/>
          <p:nvPr/>
        </p:nvSpPr>
        <p:spPr>
          <a:xfrm>
            <a:off x="7837200" y="350028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Arial Unicode MS"/>
              </a:rPr>
              <a:t>Relay Agen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Line 73"/>
          <p:cNvSpPr/>
          <p:nvPr/>
        </p:nvSpPr>
        <p:spPr>
          <a:xfrm>
            <a:off x="3427560" y="136836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Text Box 74"/>
          <p:cNvSpPr/>
          <p:nvPr/>
        </p:nvSpPr>
        <p:spPr>
          <a:xfrm>
            <a:off x="-18720" y="1182600"/>
            <a:ext cx="34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Circuit ID: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6" name="Group 75"/>
          <p:cNvGrpSpPr/>
          <p:nvPr/>
        </p:nvGrpSpPr>
        <p:grpSpPr>
          <a:xfrm>
            <a:off x="7072200" y="3724200"/>
            <a:ext cx="1855800" cy="974880"/>
            <a:chOff x="7072200" y="3724200"/>
            <a:chExt cx="1855800" cy="974880"/>
          </a:xfrm>
        </p:grpSpPr>
        <p:pic>
          <p:nvPicPr>
            <p:cNvPr id="627" name="Picture 76" descr=""/>
            <p:cNvPicPr/>
            <p:nvPr/>
          </p:nvPicPr>
          <p:blipFill>
            <a:blip r:embed="rId3"/>
            <a:srcRect l="0" t="8458" r="18051" b="12842"/>
            <a:stretch/>
          </p:blipFill>
          <p:spPr>
            <a:xfrm>
              <a:off x="8358120" y="4152960"/>
              <a:ext cx="5698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79"/>
            <p:cNvSpPr/>
            <p:nvPr/>
          </p:nvSpPr>
          <p:spPr>
            <a:xfrm>
              <a:off x="7072200" y="3724200"/>
              <a:ext cx="1427400" cy="569880"/>
            </a:xfrm>
            <a:prstGeom prst="rect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Line 78"/>
            <p:cNvSpPr/>
            <p:nvPr/>
          </p:nvSpPr>
          <p:spPr>
            <a:xfrm>
              <a:off x="7929720" y="4081320"/>
              <a:ext cx="641160" cy="355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630" name="Picture 80" descr=""/>
          <p:cNvPicPr/>
          <p:nvPr/>
        </p:nvPicPr>
        <p:blipFill>
          <a:blip r:embed="rId4"/>
          <a:srcRect l="0" t="8458" r="18051" b="12842"/>
          <a:stretch/>
        </p:blipFill>
        <p:spPr>
          <a:xfrm>
            <a:off x="8358120" y="1795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631" name="Line 81"/>
          <p:cNvSpPr/>
          <p:nvPr/>
        </p:nvSpPr>
        <p:spPr>
          <a:xfrm>
            <a:off x="7929720" y="1724040"/>
            <a:ext cx="642960" cy="357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Rectangle 82"/>
          <p:cNvSpPr/>
          <p:nvPr/>
        </p:nvSpPr>
        <p:spPr>
          <a:xfrm>
            <a:off x="7858080" y="1652760"/>
            <a:ext cx="81000" cy="71280"/>
          </a:xfrm>
          <a:prstGeom prst="rect">
            <a:avLst/>
          </a:prstGeom>
          <a:noFill/>
          <a:ln w="28440">
            <a:solidFill>
              <a:srgbClr val="ff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е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34" name="Object 4"/>
          <p:cNvGraphicFramePr/>
          <p:nvPr/>
        </p:nvGraphicFramePr>
        <p:xfrm>
          <a:off x="7164360" y="335772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35772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185480" y="1868400"/>
            <a:ext cx="63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4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733840" y="133524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06000400010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209680" y="1563840"/>
            <a:ext cx="38124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57040" y="3754440"/>
            <a:ext cx="8506080" cy="2284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1 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Circuit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0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VLAN: VLAN ID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е клиент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сегда равн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0;  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номер порта, с которого получен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 клиента, номер порта начинается с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1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Line 6"/>
          <p:cNvSpPr/>
          <p:nvPr/>
        </p:nvSpPr>
        <p:spPr>
          <a:xfrm flipV="1">
            <a:off x="5580000" y="1333440"/>
            <a:ext cx="533520" cy="231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936720" y="2523960"/>
          <a:ext cx="7065720" cy="460440"/>
        </p:xfrm>
        <a:graphic>
          <a:graphicData uri="http://schemas.openxmlformats.org/drawingml/2006/table">
            <a:tbl>
              <a:tblPr/>
              <a:tblGrid>
                <a:gridCol w="815760"/>
                <a:gridCol w="762120"/>
                <a:gridCol w="838080"/>
                <a:gridCol w="838440"/>
                <a:gridCol w="1373040"/>
                <a:gridCol w="1384200"/>
                <a:gridCol w="105408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7"/>
          <p:cNvSpPr/>
          <p:nvPr/>
        </p:nvSpPr>
        <p:spPr>
          <a:xfrm>
            <a:off x="798840" y="3357720"/>
            <a:ext cx="70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2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а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38"/>
          <p:cNvSpPr/>
          <p:nvPr/>
        </p:nvSpPr>
        <p:spPr>
          <a:xfrm>
            <a:off x="839520" y="138276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1078920" y="3025800"/>
            <a:ext cx="60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  2.            3.               4.             5.                         6.            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Line 40"/>
          <p:cNvSpPr/>
          <p:nvPr/>
        </p:nvSpPr>
        <p:spPr>
          <a:xfrm>
            <a:off x="137160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Line 41"/>
          <p:cNvSpPr/>
          <p:nvPr/>
        </p:nvSpPr>
        <p:spPr>
          <a:xfrm>
            <a:off x="22096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Line 42"/>
          <p:cNvSpPr/>
          <p:nvPr/>
        </p:nvSpPr>
        <p:spPr>
          <a:xfrm>
            <a:off x="28954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Line 43"/>
          <p:cNvSpPr/>
          <p:nvPr/>
        </p:nvSpPr>
        <p:spPr>
          <a:xfrm>
            <a:off x="3733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Line 44"/>
          <p:cNvSpPr/>
          <p:nvPr/>
        </p:nvSpPr>
        <p:spPr>
          <a:xfrm>
            <a:off x="4876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Line 45"/>
          <p:cNvSpPr/>
          <p:nvPr/>
        </p:nvSpPr>
        <p:spPr>
          <a:xfrm>
            <a:off x="60958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Line 46"/>
          <p:cNvSpPr/>
          <p:nvPr/>
        </p:nvSpPr>
        <p:spPr>
          <a:xfrm>
            <a:off x="73915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Rectangle 47"/>
          <p:cNvSpPr/>
          <p:nvPr/>
        </p:nvSpPr>
        <p:spPr>
          <a:xfrm>
            <a:off x="5256360" y="1330200"/>
            <a:ext cx="360360" cy="468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 Box 48"/>
          <p:cNvSpPr/>
          <p:nvPr/>
        </p:nvSpPr>
        <p:spPr>
          <a:xfrm>
            <a:off x="5511600" y="901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Unicode MS"/>
              </a:rPr>
              <a:t>9 = 1001 - 4 </a:t>
            </a:r>
            <a:r>
              <a:rPr b="1" lang="ru-RU" sz="1800" spc="-1" strike="noStrike">
                <a:solidFill>
                  <a:srgbClr val="0070c0"/>
                </a:solidFill>
                <a:latin typeface="Arial Unicode MS"/>
              </a:rPr>
              <a:t>б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Circuit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087800" y="4975200"/>
            <a:ext cx="50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4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6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2824200" y="907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080006000F3D849FF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132640" y="1365120"/>
            <a:ext cx="51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8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065240" y="3146400"/>
            <a:ext cx="7467480" cy="1310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2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Remote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 коммутатора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 -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80C835260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262240" y="1136520"/>
            <a:ext cx="3808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667800" y="50515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106)000400010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58800" y="55054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208)00060080c835260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587960" y="5280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Unicode MS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867120" y="5353200"/>
            <a:ext cx="539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DHCP – 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сервер назначит определённый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IP-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адрес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исходя из этой информ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3579840" y="5477040"/>
            <a:ext cx="38088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734760" y="95580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979640" y="2052720"/>
          <a:ext cx="5487840" cy="460440"/>
        </p:xfrm>
        <a:graphic>
          <a:graphicData uri="http://schemas.openxmlformats.org/drawingml/2006/table">
            <a:tbl>
              <a:tblPr/>
              <a:tblGrid>
                <a:gridCol w="841320"/>
                <a:gridCol w="787320"/>
                <a:gridCol w="865440"/>
                <a:gridCol w="788760"/>
                <a:gridCol w="220500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35"/>
          <p:cNvSpPr/>
          <p:nvPr/>
        </p:nvSpPr>
        <p:spPr>
          <a:xfrm>
            <a:off x="1874520" y="2814480"/>
            <a:ext cx="46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            6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Line 36"/>
          <p:cNvSpPr/>
          <p:nvPr/>
        </p:nvSpPr>
        <p:spPr>
          <a:xfrm>
            <a:off x="23605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Line 37"/>
          <p:cNvSpPr/>
          <p:nvPr/>
        </p:nvSpPr>
        <p:spPr>
          <a:xfrm>
            <a:off x="31989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Line 38"/>
          <p:cNvSpPr/>
          <p:nvPr/>
        </p:nvSpPr>
        <p:spPr>
          <a:xfrm>
            <a:off x="39607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Line 39"/>
          <p:cNvSpPr/>
          <p:nvPr/>
        </p:nvSpPr>
        <p:spPr>
          <a:xfrm>
            <a:off x="472284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Line 40"/>
          <p:cNvSpPr/>
          <p:nvPr/>
        </p:nvSpPr>
        <p:spPr>
          <a:xfrm>
            <a:off x="61707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2144520" y="25081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2.            3.              4.  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1353240" y="57848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1354320" y="48704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Remote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Object 1"/>
          <p:cNvGraphicFramePr/>
          <p:nvPr/>
        </p:nvGraphicFramePr>
        <p:xfrm>
          <a:off x="1731960" y="1366920"/>
          <a:ext cx="470232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366920"/>
                    <a:ext cx="4702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2"/>
          <p:cNvGraphicFramePr/>
          <p:nvPr/>
        </p:nvGraphicFramePr>
        <p:xfrm>
          <a:off x="1946160" y="1795320"/>
          <a:ext cx="207180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6160" y="1795320"/>
                    <a:ext cx="20718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4"/>
          <p:cNvSpPr/>
          <p:nvPr/>
        </p:nvSpPr>
        <p:spPr>
          <a:xfrm>
            <a:off x="250920" y="3956040"/>
            <a:ext cx="8534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стройства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.   DHCP -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221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2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Маршрутиз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ли коммутато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L3,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ющий в роли шлюза для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-ух подсетей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.100.1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0.100.1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3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оммут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(DES-3200-10)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ет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Relay Agent 192.168.0.170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дсети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MAC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адрес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0-24-01-FC-8F-D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4.   3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ноутбука, выступающих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лиентов, подключённых к коммутатору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рты 1, 2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6732720" y="2367000"/>
            <a:ext cx="1692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HCP - 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сервер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221/</a:t>
            </a: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Шлюз</a:t>
            </a: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: 192.168.0.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IP Pool: 10.100.10.101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02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00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5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Line 6"/>
          <p:cNvSpPr/>
          <p:nvPr/>
        </p:nvSpPr>
        <p:spPr>
          <a:xfrm flipH="1">
            <a:off x="3658680" y="1724040"/>
            <a:ext cx="289080" cy="1071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285720" y="938160"/>
            <a:ext cx="1636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ск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-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4806000" y="938160"/>
            <a:ext cx="18360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правляющ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-12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375240" y="1366920"/>
            <a:ext cx="1828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3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GS-362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874960" y="2938320"/>
            <a:ext cx="428760" cy="714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Line 11"/>
          <p:cNvSpPr/>
          <p:nvPr/>
        </p:nvSpPr>
        <p:spPr>
          <a:xfrm flipH="1">
            <a:off x="2087280" y="3009960"/>
            <a:ext cx="788760" cy="714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450120" y="917640"/>
            <a:ext cx="1523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1925640" y="907920"/>
            <a:ext cx="1604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74760" y="2224080"/>
            <a:ext cx="1815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2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ES 3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200-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7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430080" y="35812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6722640" y="20811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4835520" y="1009800"/>
            <a:ext cx="1440" cy="125064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6089760" y="1724040"/>
            <a:ext cx="357120" cy="8571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6" name="Picture 19" descr=""/>
          <p:cNvPicPr/>
          <p:nvPr/>
        </p:nvPicPr>
        <p:blipFill>
          <a:blip r:embed="rId5"/>
          <a:srcRect l="0" t="8458" r="18051" b="12842"/>
          <a:stretch/>
        </p:blipFill>
        <p:spPr>
          <a:xfrm>
            <a:off x="3017880" y="3367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0" descr=""/>
          <p:cNvPicPr/>
          <p:nvPr/>
        </p:nvPicPr>
        <p:blipFill>
          <a:blip r:embed="rId6"/>
          <a:srcRect l="0" t="8458" r="18051" b="12842"/>
          <a:stretch/>
        </p:blipFill>
        <p:spPr>
          <a:xfrm>
            <a:off x="1589040" y="336708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21"/>
          <p:cNvSpPr/>
          <p:nvPr/>
        </p:nvSpPr>
        <p:spPr>
          <a:xfrm>
            <a:off x="2005920" y="36529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Б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9" name="Picture 22" descr=""/>
          <p:cNvPicPr/>
          <p:nvPr/>
        </p:nvPicPr>
        <p:blipFill>
          <a:blip r:embed="rId7"/>
          <a:srcRect l="17451" t="8632" r="19819" b="810"/>
          <a:stretch/>
        </p:blipFill>
        <p:spPr>
          <a:xfrm>
            <a:off x="5875200" y="2438280"/>
            <a:ext cx="941400" cy="13575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23"/>
          <p:cNvSpPr/>
          <p:nvPr/>
        </p:nvSpPr>
        <p:spPr>
          <a:xfrm>
            <a:off x="4432320" y="3152880"/>
            <a:ext cx="90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1" name="Picture 24" descr=""/>
          <p:cNvPicPr/>
          <p:nvPr/>
        </p:nvPicPr>
        <p:blipFill>
          <a:blip r:embed="rId8"/>
          <a:srcRect l="0" t="8458" r="18051" b="12842"/>
          <a:stretch/>
        </p:blipFill>
        <p:spPr>
          <a:xfrm>
            <a:off x="4017960" y="2938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702" name="Line 25"/>
          <p:cNvSpPr/>
          <p:nvPr/>
        </p:nvSpPr>
        <p:spPr>
          <a:xfrm>
            <a:off x="3017880" y="2938320"/>
            <a:ext cx="1214280" cy="2858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настройки и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714240" y="1285920"/>
            <a:ext cx="7772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использ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динамический пул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200 – 10.100.10.2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для на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 любо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у, запрос от которого будет перенаправлен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Relay Agent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92.168.0.170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Если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 к любому порту коммутатора, кроме портов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и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2,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 он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из пула.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 обычного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а клиен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огда какой-либ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 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 е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1;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г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м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2.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например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, 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ный к порту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оммутатора,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10.100.10.1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ов клиента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с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 с поддержко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179280" y="1052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:5#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cces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067280" y="981000"/>
          <a:ext cx="4897440" cy="2111400"/>
        </p:xfrm>
        <a:graphic>
          <a:graphicData uri="http://schemas.openxmlformats.org/drawingml/2006/table">
            <a:tbl>
              <a:tblPr/>
              <a:tblGrid>
                <a:gridCol w="662040"/>
                <a:gridCol w="933120"/>
                <a:gridCol w="716040"/>
                <a:gridCol w="660600"/>
                <a:gridCol w="988920"/>
                <a:gridCol w="936720"/>
              </a:tblGrid>
              <a:tr h="95220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2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6" name="Рисунок 6" descr="rip_a_2.tif"/>
          <p:cNvPicPr/>
          <p:nvPr/>
        </p:nvPicPr>
        <p:blipFill>
          <a:blip r:embed="rId1"/>
          <a:stretch/>
        </p:blipFill>
        <p:spPr>
          <a:xfrm>
            <a:off x="1042920" y="3213000"/>
            <a:ext cx="7294680" cy="2843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 Authenti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3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642960" y="1000080"/>
            <a:ext cx="7994520" cy="502920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3 (DGS-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3627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влан, в котором буду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клиен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cli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управляющий влан, в котором буде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default delete 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untagged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Сконфигурируйте и создайте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нтерфейсы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LAN client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ipif System ipaddress 10.90.90.9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client_gw 10.100.10.1/24 cli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manag_gw 192.168.0.1/24 managem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2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611280" y="907920"/>
            <a:ext cx="7883280" cy="518508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 (DES-3200-10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клиентский и управляющий вланы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S-3200-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default delete 1-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untagged 1-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managem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управляющий интерфей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ipif System ipaddress 192.168.0.170/24 vlan managemen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Rela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enable dhcp_relay                       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state enable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check disable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policy replace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remote_id default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add ipif System 192.168.0.22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Разрешите клиентам доступ в управляющем влане, только к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ерверу. Остальное запретит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255 profile_id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5 add access_id 1 ip destination_ip 192.168.0.221 port 1-8 permi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0 profile_id 6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6 add access_id 1 ip destination_ip 192.168.0.0 port 1-8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390600" y="907920"/>
            <a:ext cx="8429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Рассмотрим пример настройки сервер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isc-dhcp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Ниже приведено содержимое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основных параметр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ease-file-name "/var/log/dhcpd.leases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-facility local7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uthoritativ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fault-lease-time 8640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dns-update-style non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cal-address 192.168.0.22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ne-lease-per-client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duplicate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логирования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 лог записы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MAC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, влан и порт клиента, запросившег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if exists agent.circuit-id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(info, concat("Lease"," IP ",binary-to-ascii(10, 8,".",leased-address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MAC ",binary-to-ascii(16,8,":",substring(hardware,1, 6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port ",binary-to-ascii(10,16, "",substring(option agent.circuit-id, 4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2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VLAN ",binary-to-ascii(10, 16,"",substring(option agent.circuit-id, 2, 2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))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авни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Circuit ID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с заданными. Согласно дизайну преобразования 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binary-to-ascii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значащие нули слева отбрасываю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1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1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2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2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428760" y="1052640"/>
            <a:ext cx="84294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Продолжение содержимого файл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hared-network test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ключить опцию, позволяющую клиенту корректно продлевать аренду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адреса прямым запросом на сервер ,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 содержащим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мину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Relay Agent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tash-agent-options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претить выдавать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-адреса из подсет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192.168.0.0/24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в этой подсети находятся управляющие интерфейсы коммутаторов и доступ клиентов в эту подсеть должен быть ограничен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92.168.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unknown-client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Описать выдаваемые клиенту п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парамет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0.100.1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broadcast-address 10.100.10.255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domain-name-serv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rout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subnet-mask 255.255.255.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дать адреса, получаемые клиентам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1; allow members of "sw170-1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2; allow members of "sw170-2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ами, находящимися на других портах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200 10.100.10.250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80880" y="1676520"/>
            <a:ext cx="8070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Результаты тест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B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0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"/>
          <p:cNvSpPr/>
          <p:nvPr/>
        </p:nvSpPr>
        <p:spPr>
          <a:xfrm>
            <a:off x="1187280" y="1989000"/>
            <a:ext cx="6769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Функции управления и отслеживание работы сети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Прямоугольник 2"/>
          <p:cNvSpPr/>
          <p:nvPr/>
        </p:nvSpPr>
        <p:spPr>
          <a:xfrm>
            <a:off x="250920" y="892080"/>
            <a:ext cx="849780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 (SNMP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– это протокол 7–ого уровня моде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SI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приложе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 для управления и отслеживания работы устройств сети. SNMP позволяет станциям управления сети прочитать и изменить параметры настройки шлюзов, маршрутизаторов, коммутаторов и других устройств сети. Используйте SNMP, чтобы настраивать устройства для правильного их функционирования, отслеживания работы сети и обнаружения потенциальных проблем на коммутаторе или группе коммутаторов или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недже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– это программное приложение, которое контактирует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ами, опрашивая или изменяя базу данных аген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– это программное обеспечение, которое запущено на  сетевом оборудовании(хост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ршрутизатор, принтер или другое оборудование), и поддерживает информацию о ее конфигурации и текущий статус в базе данных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в базе данных хранится на основе информации об управлении (MIB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к карта с иерархической последовательностью всех управляемых объектов и деталями, описывающих возможности каждого объект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Прямоугольник 1"/>
          <p:cNvSpPr/>
          <p:nvPr/>
        </p:nvSpPr>
        <p:spPr>
          <a:xfrm>
            <a:off x="250920" y="907920"/>
            <a:ext cx="856908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рсии протокол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анный момент всего три версии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RFC 1157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2c (RFC 1901-190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RFC 3411-341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льзовательское установление подлинности осуществляется с помощью  строк сообщест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'community strings'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которые функционируют как паро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алённый пользова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 и коммутатор с поддержкой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лжны использовать одинаковую строку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акеты от любой станции, которые не прошли проверку на подлинность, будут игнорироваться(отброшены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коммутаторе для управления и отслеживания работы сети настроены и используются следующие строки сообществ дл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настройках по умолчанию на коммутатор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/запис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ужно изменить настройки по умолчанию строк сообществ по причинам безопас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ет списки пользователей и паролей, которые хранятся и передаются в хешированном виде, что даёт более высокий уровень безопасности при использовании данного протокола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6"/>
          <p:cNvSpPr/>
          <p:nvPr/>
        </p:nvSpPr>
        <p:spPr>
          <a:xfrm>
            <a:off x="2522520" y="41054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Прямоугольник 2"/>
          <p:cNvSpPr/>
          <p:nvPr/>
        </p:nvSpPr>
        <p:spPr>
          <a:xfrm>
            <a:off x="468360" y="905040"/>
            <a:ext cx="734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ждому объекту, которым управляют, назначают идентификатор объекта (OI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-ы определены в файле MI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 может быть представлен как последовательность целых чисел, отделенн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сятичными запятыми, или текстовой стро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гда SNMP  менеджер  опрашивает объект, он посылает 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аген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4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946160" y="3537000"/>
            <a:ext cx="766800" cy="10443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6" descr="des-3828"/>
          <p:cNvPicPr/>
          <p:nvPr/>
        </p:nvPicPr>
        <p:blipFill>
          <a:blip r:embed="rId2"/>
          <a:stretch/>
        </p:blipFill>
        <p:spPr>
          <a:xfrm>
            <a:off x="5114880" y="3889440"/>
            <a:ext cx="2121120" cy="476280"/>
          </a:xfrm>
          <a:prstGeom prst="rect">
            <a:avLst/>
          </a:prstGeom>
          <a:ln w="0">
            <a:noFill/>
          </a:ln>
        </p:spPr>
      </p:pic>
      <p:sp>
        <p:nvSpPr>
          <p:cNvPr id="726" name="Прямоугольник 6"/>
          <p:cNvSpPr/>
          <p:nvPr/>
        </p:nvSpPr>
        <p:spPr>
          <a:xfrm>
            <a:off x="1518480" y="3213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Прямоугольник 7"/>
          <p:cNvSpPr/>
          <p:nvPr/>
        </p:nvSpPr>
        <p:spPr>
          <a:xfrm>
            <a:off x="5475960" y="358128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Прямоугольник 11"/>
          <p:cNvSpPr/>
          <p:nvPr/>
        </p:nvSpPr>
        <p:spPr>
          <a:xfrm>
            <a:off x="468360" y="5445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отвечае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SNMPv2-MIB::sysDescr.0 = STRING: D-Link DES-3</a:t>
            </a:r>
            <a:r>
              <a:rPr b="0" lang="ru-RU" sz="1400" spc="-1" strike="noStrike">
                <a:solidFill>
                  <a:srgbClr val="92d05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28 Fast Ethernet Switc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Прямоугольник 12"/>
          <p:cNvSpPr/>
          <p:nvPr/>
        </p:nvSpPr>
        <p:spPr>
          <a:xfrm>
            <a:off x="468360" y="4869000"/>
            <a:ext cx="51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посылает запро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nmpget -v2c -c public 192.168.0.128 1.3.6.1.2.1.1.1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.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Группа 16"/>
          <p:cNvGrpSpPr/>
          <p:nvPr/>
        </p:nvGrpSpPr>
        <p:grpSpPr>
          <a:xfrm>
            <a:off x="2955960" y="3573360"/>
            <a:ext cx="1828800" cy="360360"/>
            <a:chOff x="2955960" y="3573360"/>
            <a:chExt cx="1828800" cy="360360"/>
          </a:xfrm>
        </p:grpSpPr>
        <p:sp>
          <p:nvSpPr>
            <p:cNvPr id="731" name="Line 9"/>
            <p:cNvSpPr/>
            <p:nvPr/>
          </p:nvSpPr>
          <p:spPr>
            <a:xfrm>
              <a:off x="2955960" y="3933720"/>
              <a:ext cx="18288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Прямоугольник 13"/>
            <p:cNvSpPr/>
            <p:nvPr/>
          </p:nvSpPr>
          <p:spPr>
            <a:xfrm>
              <a:off x="2990520" y="3573360"/>
              <a:ext cx="169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NMP get-request</a:t>
              </a:r>
              <a:r>
                <a:rPr b="0" lang="ru-RU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3" name="Группа 17"/>
          <p:cNvGrpSpPr/>
          <p:nvPr/>
        </p:nvGrpSpPr>
        <p:grpSpPr>
          <a:xfrm>
            <a:off x="2955600" y="4292640"/>
            <a:ext cx="1840680" cy="431280"/>
            <a:chOff x="2955600" y="4292640"/>
            <a:chExt cx="1840680" cy="431280"/>
          </a:xfrm>
        </p:grpSpPr>
        <p:sp>
          <p:nvSpPr>
            <p:cNvPr id="734" name="Line 12"/>
            <p:cNvSpPr/>
            <p:nvPr/>
          </p:nvSpPr>
          <p:spPr>
            <a:xfrm flipH="1">
              <a:off x="2955600" y="4292640"/>
              <a:ext cx="179964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" name="Прямоугольник 15"/>
            <p:cNvSpPr/>
            <p:nvPr/>
          </p:nvSpPr>
          <p:spPr>
            <a:xfrm>
              <a:off x="2958840" y="441684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SNMP get-response</a:t>
              </a:r>
              <a:r>
                <a:rPr b="0" lang="ru-RU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Прямоугольник 2"/>
          <p:cNvSpPr/>
          <p:nvPr/>
        </p:nvSpPr>
        <p:spPr>
          <a:xfrm>
            <a:off x="250920" y="1557360"/>
            <a:ext cx="4321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конкретногоOID-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wal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дерева OID-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изменения настроек OID-а(ов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Прямоугольник 3"/>
          <p:cNvSpPr/>
          <p:nvPr/>
        </p:nvSpPr>
        <p:spPr>
          <a:xfrm>
            <a:off x="4859280" y="907920"/>
            <a:ext cx="4105440" cy="514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nmpwalk -v2c -c public 192.168.0.128 1.3.6.1.2.1.2.2.1.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8 = Gauge32: 100000000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Прямоугольник 4"/>
          <p:cNvSpPr/>
          <p:nvPr/>
        </p:nvSpPr>
        <p:spPr>
          <a:xfrm>
            <a:off x="179280" y="42926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ы лежат в свободном доступе для коммутаторов или серий коммутаторов на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ftp.dlink.ru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апочк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ftp://ftp.dlink.ru/pub/Switch/DES-3528/SNMP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oute Redistribu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826920" y="1395360"/>
            <a:ext cx="756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всегда есть необходимость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х интерфейсах, особенно, на клиентских. В этом случае нужно либо настраи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Authentication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неавторизованные маршрутизаторы не подключались  к сети, либо не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е(ах). В этом случае для анонсирования локальных подсетей или статических маршрутов нужно использовать механизм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e Redistribute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2556000" y="3213000"/>
            <a:ext cx="489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локальных подсетей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статических маршрут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stat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созданных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how route redistribut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ele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1"/>
          <p:cNvSpPr/>
          <p:nvPr/>
        </p:nvSpPr>
        <p:spPr>
          <a:xfrm>
            <a:off x="250920" y="1079640"/>
            <a:ext cx="86374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247680" y="5149800"/>
            <a:ext cx="5859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игаров Руслан, менеджер по проекта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-mail: rbigarov@dlink.r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6360" y="71280"/>
            <a:ext cx="5859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-Link 20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08000" y="1800360"/>
            <a:ext cx="4751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Спасиб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39640" y="213372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Port Binding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Привязка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рт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2:09Z</dcterms:created>
  <dc:creator>Karl Hsieh</dc:creator>
  <dc:description/>
  <dc:language>en-US</dc:language>
  <cp:lastModifiedBy>Ruslan</cp:lastModifiedBy>
  <dcterms:modified xsi:type="dcterms:W3CDTF">2013-11-18T10:59:56Z</dcterms:modified>
  <cp:revision>851</cp:revision>
  <dc:subject>Training and Certification</dc:subject>
  <dc:title>D-Link Academy Strategy &amp; Roadmap</dc:title>
</cp:coreProperties>
</file>